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6D00-FD3B-458F-AF06-27C28AF1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0800-8E65-4768-BE01-BE69E1F8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CC85-9B96-4D08-93B9-E8E777A51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815B-1F1D-431B-992F-FEA4C069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6756-37C5-4184-A5E2-FB6459121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7A2C-E1AA-4A18-986E-BF34E443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01E8-E9F2-41ED-B84C-9B876003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2048-7366-4AC2-A7CB-57FCA269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6A25-ABBE-467B-9D4E-D78E96D0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A591-4994-49ED-B862-2520CA17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9567-FB32-42C8-AAE9-92BB04FC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2411-11E0-438E-86AB-947FEC4A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729F-FD74-4C22-BF8D-EE856FBD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B35C-7FBC-485D-B920-163101C6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5281-33BC-402D-9406-8E5479AA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671C-7903-4828-9DDE-C89B7D76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A846-57CB-4D8C-82B1-76A3412C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21A9-D67C-4D59-93F2-A6C0953D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BD8C-B6EA-4315-9C76-0E2B046C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2302-1E7E-4F18-8F47-BD0E525E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9E08-60BE-427B-A71E-5808B47C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0EEE-C30D-40FA-80AE-E087C985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7135-79F4-46B5-9231-9CD90164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36EB-D16D-4E93-9E1A-B06A616A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82AA-CF6A-4804-A6FA-CE8B6037FF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86B0-DBFE-4DD6-95A4-9FC30D67A8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1532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Warm - up: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Order the following set from greatest to lea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01,  6.1,  0.61,  0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Order the following set from least to greate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2,  2.9, 3.05, 3.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01920" y="2955960"/>
            <a:ext cx="4349880" cy="2455920"/>
          </a:xfrm>
          <a:custGeom>
            <a:avLst/>
            <a:gdLst/>
            <a:ahLst/>
            <a:rect l="l" t="t" r="r" b="b"/>
            <a:pathLst>
              <a:path w="12081" h="6823">
                <a:moveTo>
                  <a:pt x="6672" y="8235"/>
                </a:moveTo>
                <a:lnTo>
                  <a:pt x="6672" y="8235"/>
                </a:lnTo>
                <a:lnTo>
                  <a:pt x="6672" y="8235"/>
                </a:lnTo>
              </a:path>
              <a:path w="12081" h="6823">
                <a:moveTo>
                  <a:pt x="6672" y="8235"/>
                </a:moveTo>
                <a:lnTo>
                  <a:pt x="6672" y="8235"/>
                </a:lnTo>
              </a:path>
              <a:path w="12081" h="6823">
                <a:moveTo>
                  <a:pt x="7218" y="8210"/>
                </a:moveTo>
                <a:cubicBezTo>
                  <a:pt x="7248" y="8349"/>
                  <a:pt x="7254" y="8412"/>
                  <a:pt x="7169" y="8533"/>
                </a:cubicBezTo>
              </a:path>
              <a:path w="12081" h="6823">
                <a:moveTo>
                  <a:pt x="17512" y="13444"/>
                </a:moveTo>
                <a:cubicBezTo>
                  <a:pt x="17512" y="13452"/>
                  <a:pt x="17512" y="13461"/>
                  <a:pt x="17512" y="13469"/>
                </a:cubicBezTo>
              </a:path>
              <a:path w="12081" h="6823">
                <a:moveTo>
                  <a:pt x="17512" y="13469"/>
                </a:moveTo>
                <a:lnTo>
                  <a:pt x="17512" y="13469"/>
                </a:lnTo>
              </a:path>
              <a:path w="12081" h="6823">
                <a:moveTo>
                  <a:pt x="17661" y="15007"/>
                </a:moveTo>
                <a:cubicBezTo>
                  <a:pt x="17661" y="15015"/>
                  <a:pt x="17661" y="15024"/>
                  <a:pt x="17661" y="15032"/>
                </a:cubicBezTo>
              </a:path>
              <a:path w="12081" h="6823">
                <a:moveTo>
                  <a:pt x="18504" y="14536"/>
                </a:moveTo>
                <a:cubicBezTo>
                  <a:pt x="18588" y="14515"/>
                  <a:pt x="18667" y="14495"/>
                  <a:pt x="18752" y="144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78000" y="2803680"/>
            <a:ext cx="322200" cy="206280"/>
          </a:xfrm>
          <a:custGeom>
            <a:avLst/>
            <a:gdLst/>
            <a:ahLst/>
            <a:rect l="l" t="t" r="r" b="b"/>
            <a:pathLst>
              <a:path w="894" h="571">
                <a:moveTo>
                  <a:pt x="6152" y="7838"/>
                </a:moveTo>
                <a:cubicBezTo>
                  <a:pt x="6216" y="7860"/>
                  <a:pt x="6093" y="8084"/>
                  <a:pt x="6077" y="8136"/>
                </a:cubicBezTo>
                <a:cubicBezTo>
                  <a:pt x="6019" y="8327"/>
                  <a:pt x="6128" y="8357"/>
                  <a:pt x="6300" y="8310"/>
                </a:cubicBezTo>
                <a:cubicBezTo>
                  <a:pt x="6410" y="8266"/>
                  <a:pt x="6443" y="8261"/>
                  <a:pt x="6474" y="8186"/>
                </a:cubicBezTo>
                <a:cubicBezTo>
                  <a:pt x="6459" y="8124"/>
                  <a:pt x="6385" y="8082"/>
                  <a:pt x="6325" y="8136"/>
                </a:cubicBezTo>
                <a:cubicBezTo>
                  <a:pt x="6279" y="8178"/>
                  <a:pt x="6182" y="8367"/>
                  <a:pt x="6300" y="8359"/>
                </a:cubicBezTo>
                <a:cubicBezTo>
                  <a:pt x="6341" y="8351"/>
                  <a:pt x="6383" y="8342"/>
                  <a:pt x="6424" y="8334"/>
                </a:cubicBezTo>
              </a:path>
              <a:path w="894" h="571">
                <a:moveTo>
                  <a:pt x="6921" y="7789"/>
                </a:moveTo>
                <a:cubicBezTo>
                  <a:pt x="6933" y="7923"/>
                  <a:pt x="6945" y="8050"/>
                  <a:pt x="6945" y="8186"/>
                </a:cubicBezTo>
                <a:cubicBezTo>
                  <a:pt x="6945" y="8194"/>
                  <a:pt x="6945" y="8202"/>
                  <a:pt x="6945" y="82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13240" y="4394160"/>
            <a:ext cx="1714680" cy="1330200"/>
          </a:xfrm>
          <a:custGeom>
            <a:avLst/>
            <a:gdLst/>
            <a:ahLst/>
            <a:rect l="l" t="t" r="r" b="b"/>
            <a:pathLst>
              <a:path w="4763" h="3697">
                <a:moveTo>
                  <a:pt x="17388" y="13146"/>
                </a:moveTo>
                <a:cubicBezTo>
                  <a:pt x="17305" y="13066"/>
                  <a:pt x="17264" y="13006"/>
                  <a:pt x="17140" y="13097"/>
                </a:cubicBezTo>
                <a:cubicBezTo>
                  <a:pt x="16946" y="13239"/>
                  <a:pt x="17106" y="13370"/>
                  <a:pt x="17289" y="13246"/>
                </a:cubicBezTo>
                <a:cubicBezTo>
                  <a:pt x="17347" y="13188"/>
                  <a:pt x="17355" y="13179"/>
                  <a:pt x="17388" y="13146"/>
                </a:cubicBezTo>
                <a:cubicBezTo>
                  <a:pt x="17366" y="13258"/>
                  <a:pt x="17352" y="13376"/>
                  <a:pt x="17338" y="13494"/>
                </a:cubicBezTo>
                <a:cubicBezTo>
                  <a:pt x="17330" y="13561"/>
                  <a:pt x="17415" y="13502"/>
                  <a:pt x="17438" y="13494"/>
                </a:cubicBezTo>
              </a:path>
              <a:path w="4763" h="3697">
                <a:moveTo>
                  <a:pt x="17810" y="12998"/>
                </a:moveTo>
                <a:cubicBezTo>
                  <a:pt x="17947" y="12960"/>
                  <a:pt x="18155" y="12978"/>
                  <a:pt x="18132" y="13196"/>
                </a:cubicBezTo>
                <a:cubicBezTo>
                  <a:pt x="18115" y="13356"/>
                  <a:pt x="17969" y="13374"/>
                  <a:pt x="17859" y="13395"/>
                </a:cubicBezTo>
                <a:cubicBezTo>
                  <a:pt x="17958" y="13285"/>
                  <a:pt x="18034" y="13268"/>
                  <a:pt x="18132" y="13419"/>
                </a:cubicBezTo>
                <a:cubicBezTo>
                  <a:pt x="18154" y="13485"/>
                  <a:pt x="18153" y="13510"/>
                  <a:pt x="18207" y="13494"/>
                </a:cubicBezTo>
              </a:path>
              <a:path w="4763" h="3697">
                <a:moveTo>
                  <a:pt x="17165" y="13891"/>
                </a:moveTo>
                <a:cubicBezTo>
                  <a:pt x="17210" y="13846"/>
                  <a:pt x="17262" y="13847"/>
                  <a:pt x="17338" y="13841"/>
                </a:cubicBezTo>
                <a:cubicBezTo>
                  <a:pt x="17322" y="13986"/>
                  <a:pt x="17304" y="14206"/>
                  <a:pt x="17115" y="14238"/>
                </a:cubicBezTo>
                <a:cubicBezTo>
                  <a:pt x="17090" y="14230"/>
                  <a:pt x="17066" y="14221"/>
                  <a:pt x="17041" y="14213"/>
                </a:cubicBezTo>
                <a:cubicBezTo>
                  <a:pt x="17066" y="14086"/>
                  <a:pt x="17161" y="14056"/>
                  <a:pt x="17289" y="14139"/>
                </a:cubicBezTo>
                <a:cubicBezTo>
                  <a:pt x="17347" y="14177"/>
                  <a:pt x="17318" y="14263"/>
                  <a:pt x="17388" y="14263"/>
                </a:cubicBezTo>
              </a:path>
              <a:path w="4763" h="3697">
                <a:moveTo>
                  <a:pt x="17562" y="14114"/>
                </a:moveTo>
                <a:cubicBezTo>
                  <a:pt x="17612" y="14114"/>
                  <a:pt x="17645" y="14114"/>
                  <a:pt x="17686" y="14114"/>
                </a:cubicBezTo>
              </a:path>
              <a:path w="4763" h="3697">
                <a:moveTo>
                  <a:pt x="18207" y="13866"/>
                </a:moveTo>
                <a:cubicBezTo>
                  <a:pt x="18125" y="13784"/>
                  <a:pt x="18069" y="13824"/>
                  <a:pt x="17983" y="13891"/>
                </a:cubicBezTo>
                <a:cubicBezTo>
                  <a:pt x="17983" y="14007"/>
                  <a:pt x="18093" y="13957"/>
                  <a:pt x="18157" y="13915"/>
                </a:cubicBezTo>
                <a:cubicBezTo>
                  <a:pt x="18174" y="13899"/>
                  <a:pt x="18190" y="13882"/>
                  <a:pt x="18207" y="13866"/>
                </a:cubicBezTo>
                <a:cubicBezTo>
                  <a:pt x="18236" y="13970"/>
                  <a:pt x="18198" y="14118"/>
                  <a:pt x="18182" y="14238"/>
                </a:cubicBezTo>
                <a:cubicBezTo>
                  <a:pt x="18175" y="14289"/>
                  <a:pt x="18193" y="14232"/>
                  <a:pt x="18207" y="14213"/>
                </a:cubicBezTo>
              </a:path>
              <a:path w="4763" h="3697">
                <a:moveTo>
                  <a:pt x="17190" y="14635"/>
                </a:moveTo>
                <a:cubicBezTo>
                  <a:pt x="17211" y="14547"/>
                  <a:pt x="17286" y="14549"/>
                  <a:pt x="17363" y="14536"/>
                </a:cubicBezTo>
                <a:cubicBezTo>
                  <a:pt x="17344" y="14665"/>
                  <a:pt x="17288" y="14689"/>
                  <a:pt x="17214" y="14784"/>
                </a:cubicBezTo>
                <a:cubicBezTo>
                  <a:pt x="17300" y="14750"/>
                  <a:pt x="17396" y="14846"/>
                  <a:pt x="17363" y="14957"/>
                </a:cubicBezTo>
                <a:cubicBezTo>
                  <a:pt x="17340" y="15033"/>
                  <a:pt x="17179" y="15224"/>
                  <a:pt x="17090" y="15106"/>
                </a:cubicBezTo>
                <a:cubicBezTo>
                  <a:pt x="17090" y="15078"/>
                  <a:pt x="17092" y="15067"/>
                  <a:pt x="17115" y="15056"/>
                </a:cubicBezTo>
              </a:path>
              <a:path w="4763" h="3697">
                <a:moveTo>
                  <a:pt x="18132" y="14610"/>
                </a:moveTo>
                <a:cubicBezTo>
                  <a:pt x="18012" y="14721"/>
                  <a:pt x="17954" y="14792"/>
                  <a:pt x="17983" y="14957"/>
                </a:cubicBezTo>
                <a:cubicBezTo>
                  <a:pt x="18123" y="14941"/>
                  <a:pt x="18351" y="14904"/>
                  <a:pt x="18207" y="14709"/>
                </a:cubicBezTo>
                <a:cubicBezTo>
                  <a:pt x="18150" y="14672"/>
                  <a:pt x="18125" y="14677"/>
                  <a:pt x="18132" y="14635"/>
                </a:cubicBezTo>
              </a:path>
              <a:path w="4763" h="3697">
                <a:moveTo>
                  <a:pt x="18479" y="14585"/>
                </a:moveTo>
                <a:cubicBezTo>
                  <a:pt x="18471" y="14585"/>
                  <a:pt x="18463" y="14585"/>
                  <a:pt x="18455" y="14585"/>
                </a:cubicBezTo>
                <a:cubicBezTo>
                  <a:pt x="18475" y="14670"/>
                  <a:pt x="18583" y="14717"/>
                  <a:pt x="18628" y="14808"/>
                </a:cubicBezTo>
                <a:cubicBezTo>
                  <a:pt x="18699" y="14950"/>
                  <a:pt x="18578" y="14916"/>
                  <a:pt x="18504" y="14883"/>
                </a:cubicBezTo>
              </a:path>
              <a:path w="4763" h="3697">
                <a:moveTo>
                  <a:pt x="17239" y="15429"/>
                </a:moveTo>
                <a:cubicBezTo>
                  <a:pt x="17290" y="15406"/>
                  <a:pt x="17334" y="15388"/>
                  <a:pt x="17388" y="15379"/>
                </a:cubicBezTo>
                <a:cubicBezTo>
                  <a:pt x="17375" y="15529"/>
                  <a:pt x="17358" y="15518"/>
                  <a:pt x="17239" y="15577"/>
                </a:cubicBezTo>
                <a:cubicBezTo>
                  <a:pt x="17247" y="15577"/>
                  <a:pt x="17256" y="15577"/>
                  <a:pt x="17264" y="15577"/>
                </a:cubicBezTo>
                <a:cubicBezTo>
                  <a:pt x="17374" y="15596"/>
                  <a:pt x="17426" y="15643"/>
                  <a:pt x="17388" y="15776"/>
                </a:cubicBezTo>
                <a:cubicBezTo>
                  <a:pt x="17359" y="15878"/>
                  <a:pt x="17254" y="15900"/>
                  <a:pt x="17165" y="15900"/>
                </a:cubicBezTo>
              </a:path>
              <a:path w="4763" h="3697">
                <a:moveTo>
                  <a:pt x="18653" y="15354"/>
                </a:moveTo>
                <a:cubicBezTo>
                  <a:pt x="18549" y="15459"/>
                  <a:pt x="18513" y="15494"/>
                  <a:pt x="18479" y="15627"/>
                </a:cubicBezTo>
                <a:cubicBezTo>
                  <a:pt x="18569" y="15652"/>
                  <a:pt x="18914" y="15706"/>
                  <a:pt x="18852" y="15478"/>
                </a:cubicBezTo>
                <a:cubicBezTo>
                  <a:pt x="18827" y="15387"/>
                  <a:pt x="18709" y="15399"/>
                  <a:pt x="18827" y="15379"/>
                </a:cubicBezTo>
              </a:path>
              <a:path w="4763" h="3697">
                <a:moveTo>
                  <a:pt x="19124" y="15304"/>
                </a:moveTo>
                <a:cubicBezTo>
                  <a:pt x="19116" y="15304"/>
                  <a:pt x="19108" y="15304"/>
                  <a:pt x="19100" y="15304"/>
                </a:cubicBezTo>
                <a:cubicBezTo>
                  <a:pt x="19130" y="15410"/>
                  <a:pt x="19239" y="15387"/>
                  <a:pt x="19323" y="15478"/>
                </a:cubicBezTo>
                <a:cubicBezTo>
                  <a:pt x="19366" y="15543"/>
                  <a:pt x="19387" y="15558"/>
                  <a:pt x="19348" y="15602"/>
                </a:cubicBezTo>
                <a:cubicBezTo>
                  <a:pt x="19209" y="15630"/>
                  <a:pt x="19233" y="15612"/>
                  <a:pt x="19149" y="15503"/>
                </a:cubicBezTo>
              </a:path>
              <a:path w="4763" h="3697">
                <a:moveTo>
                  <a:pt x="19273" y="15255"/>
                </a:moveTo>
                <a:cubicBezTo>
                  <a:pt x="19341" y="15233"/>
                  <a:pt x="19480" y="15196"/>
                  <a:pt x="19521" y="15156"/>
                </a:cubicBezTo>
              </a:path>
              <a:path w="4763" h="3697">
                <a:moveTo>
                  <a:pt x="19100" y="14436"/>
                </a:moveTo>
                <a:cubicBezTo>
                  <a:pt x="18998" y="14504"/>
                  <a:pt x="18897" y="14642"/>
                  <a:pt x="18926" y="14784"/>
                </a:cubicBezTo>
                <a:cubicBezTo>
                  <a:pt x="18943" y="14809"/>
                  <a:pt x="18959" y="14833"/>
                  <a:pt x="18976" y="14858"/>
                </a:cubicBezTo>
                <a:cubicBezTo>
                  <a:pt x="19162" y="14823"/>
                  <a:pt x="19307" y="14702"/>
                  <a:pt x="19174" y="14486"/>
                </a:cubicBezTo>
                <a:cubicBezTo>
                  <a:pt x="19141" y="14461"/>
                  <a:pt x="19108" y="14437"/>
                  <a:pt x="19075" y="14412"/>
                </a:cubicBezTo>
              </a:path>
              <a:path w="4763" h="3697">
                <a:moveTo>
                  <a:pt x="18678" y="13866"/>
                </a:moveTo>
                <a:cubicBezTo>
                  <a:pt x="18573" y="13929"/>
                  <a:pt x="18554" y="14027"/>
                  <a:pt x="18554" y="14139"/>
                </a:cubicBezTo>
                <a:cubicBezTo>
                  <a:pt x="18653" y="14130"/>
                  <a:pt x="18866" y="14104"/>
                  <a:pt x="18802" y="13940"/>
                </a:cubicBezTo>
                <a:cubicBezTo>
                  <a:pt x="18754" y="13916"/>
                  <a:pt x="18740" y="13908"/>
                  <a:pt x="18703" y="13915"/>
                </a:cubicBezTo>
              </a:path>
              <a:path w="4763" h="3697">
                <a:moveTo>
                  <a:pt x="19100" y="13891"/>
                </a:moveTo>
                <a:cubicBezTo>
                  <a:pt x="18999" y="13941"/>
                  <a:pt x="19016" y="13964"/>
                  <a:pt x="18976" y="14064"/>
                </a:cubicBezTo>
                <a:cubicBezTo>
                  <a:pt x="19065" y="14098"/>
                  <a:pt x="19247" y="14108"/>
                  <a:pt x="19224" y="13940"/>
                </a:cubicBezTo>
                <a:cubicBezTo>
                  <a:pt x="19176" y="13869"/>
                  <a:pt x="19163" y="13846"/>
                  <a:pt x="19100" y="13841"/>
                </a:cubicBezTo>
              </a:path>
              <a:path w="4763" h="3697">
                <a:moveTo>
                  <a:pt x="18628" y="13097"/>
                </a:moveTo>
                <a:cubicBezTo>
                  <a:pt x="18588" y="13035"/>
                  <a:pt x="18508" y="12974"/>
                  <a:pt x="18430" y="13072"/>
                </a:cubicBezTo>
                <a:cubicBezTo>
                  <a:pt x="18340" y="13184"/>
                  <a:pt x="18377" y="13274"/>
                  <a:pt x="18430" y="13370"/>
                </a:cubicBezTo>
                <a:cubicBezTo>
                  <a:pt x="18520" y="13328"/>
                  <a:pt x="18716" y="13234"/>
                  <a:pt x="18579" y="13097"/>
                </a:cubicBezTo>
                <a:cubicBezTo>
                  <a:pt x="18538" y="13077"/>
                  <a:pt x="18511" y="13068"/>
                  <a:pt x="18554" y="13072"/>
                </a:cubicBezTo>
              </a:path>
              <a:path w="4763" h="3697">
                <a:moveTo>
                  <a:pt x="19000" y="13022"/>
                </a:moveTo>
                <a:cubicBezTo>
                  <a:pt x="18876" y="13137"/>
                  <a:pt x="18881" y="13141"/>
                  <a:pt x="18901" y="13320"/>
                </a:cubicBezTo>
                <a:cubicBezTo>
                  <a:pt x="19038" y="13320"/>
                  <a:pt x="19252" y="13218"/>
                  <a:pt x="19124" y="13022"/>
                </a:cubicBezTo>
                <a:cubicBezTo>
                  <a:pt x="19083" y="12989"/>
                  <a:pt x="19041" y="12956"/>
                  <a:pt x="19000" y="12923"/>
                </a:cubicBezTo>
              </a:path>
              <a:path w="4763" h="3697">
                <a:moveTo>
                  <a:pt x="14759" y="12278"/>
                </a:moveTo>
                <a:cubicBezTo>
                  <a:pt x="14923" y="12246"/>
                  <a:pt x="15058" y="12231"/>
                  <a:pt x="15230" y="12229"/>
                </a:cubicBezTo>
                <a:cubicBezTo>
                  <a:pt x="15718" y="12224"/>
                  <a:pt x="16207" y="12272"/>
                  <a:pt x="16694" y="12254"/>
                </a:cubicBezTo>
                <a:cubicBezTo>
                  <a:pt x="16820" y="12249"/>
                  <a:pt x="16978" y="12115"/>
                  <a:pt x="17066" y="12204"/>
                </a:cubicBezTo>
                <a:cubicBezTo>
                  <a:pt x="17058" y="12212"/>
                  <a:pt x="17049" y="12221"/>
                  <a:pt x="17041" y="12229"/>
                </a:cubicBezTo>
              </a:path>
              <a:path w="4763" h="3697">
                <a:moveTo>
                  <a:pt x="16396" y="13866"/>
                </a:moveTo>
                <a:cubicBezTo>
                  <a:pt x="16382" y="13948"/>
                  <a:pt x="16382" y="13957"/>
                  <a:pt x="16396" y="14039"/>
                </a:cubicBezTo>
              </a:path>
              <a:path w="4763" h="3697">
                <a:moveTo>
                  <a:pt x="16272" y="14163"/>
                </a:moveTo>
                <a:cubicBezTo>
                  <a:pt x="16388" y="14172"/>
                  <a:pt x="16579" y="14147"/>
                  <a:pt x="16669" y="14039"/>
                </a:cubicBezTo>
                <a:cubicBezTo>
                  <a:pt x="16781" y="13905"/>
                  <a:pt x="16706" y="13745"/>
                  <a:pt x="16545" y="13717"/>
                </a:cubicBezTo>
                <a:cubicBezTo>
                  <a:pt x="16374" y="13687"/>
                  <a:pt x="16073" y="13797"/>
                  <a:pt x="16073" y="14015"/>
                </a:cubicBezTo>
                <a:cubicBezTo>
                  <a:pt x="16121" y="14158"/>
                  <a:pt x="16134" y="14204"/>
                  <a:pt x="16222" y="14263"/>
                </a:cubicBezTo>
              </a:path>
              <a:path w="4763" h="3697">
                <a:moveTo>
                  <a:pt x="16421" y="14908"/>
                </a:moveTo>
                <a:cubicBezTo>
                  <a:pt x="16557" y="14817"/>
                  <a:pt x="16530" y="14897"/>
                  <a:pt x="16446" y="14982"/>
                </a:cubicBezTo>
                <a:cubicBezTo>
                  <a:pt x="16502" y="14982"/>
                  <a:pt x="16587" y="14994"/>
                  <a:pt x="16570" y="15081"/>
                </a:cubicBezTo>
                <a:cubicBezTo>
                  <a:pt x="16551" y="15177"/>
                  <a:pt x="16470" y="15170"/>
                  <a:pt x="16396" y="15180"/>
                </a:cubicBezTo>
              </a:path>
              <a:path w="4763" h="3697">
                <a:moveTo>
                  <a:pt x="16297" y="15255"/>
                </a:moveTo>
                <a:cubicBezTo>
                  <a:pt x="16427" y="15268"/>
                  <a:pt x="16613" y="15302"/>
                  <a:pt x="16694" y="15180"/>
                </a:cubicBezTo>
                <a:cubicBezTo>
                  <a:pt x="16825" y="14982"/>
                  <a:pt x="16719" y="14831"/>
                  <a:pt x="16545" y="14734"/>
                </a:cubicBezTo>
                <a:cubicBezTo>
                  <a:pt x="16330" y="14614"/>
                  <a:pt x="16106" y="14856"/>
                  <a:pt x="16123" y="15081"/>
                </a:cubicBezTo>
                <a:cubicBezTo>
                  <a:pt x="16147" y="15391"/>
                  <a:pt x="16370" y="15271"/>
                  <a:pt x="16545" y="15230"/>
                </a:cubicBezTo>
              </a:path>
              <a:path w="4763" h="3697">
                <a:moveTo>
                  <a:pt x="16321" y="13047"/>
                </a:moveTo>
                <a:cubicBezTo>
                  <a:pt x="16321" y="13097"/>
                  <a:pt x="16321" y="13146"/>
                  <a:pt x="16321" y="13196"/>
                </a:cubicBezTo>
                <a:cubicBezTo>
                  <a:pt x="16371" y="13188"/>
                  <a:pt x="16419" y="13177"/>
                  <a:pt x="16470" y="13171"/>
                </a:cubicBezTo>
              </a:path>
              <a:path w="4763" h="3697">
                <a:moveTo>
                  <a:pt x="16421" y="13022"/>
                </a:moveTo>
                <a:cubicBezTo>
                  <a:pt x="16429" y="13148"/>
                  <a:pt x="16446" y="13268"/>
                  <a:pt x="16446" y="13395"/>
                </a:cubicBezTo>
              </a:path>
              <a:path w="4763" h="3697">
                <a:moveTo>
                  <a:pt x="16148" y="13419"/>
                </a:moveTo>
                <a:cubicBezTo>
                  <a:pt x="16305" y="13550"/>
                  <a:pt x="16509" y="13479"/>
                  <a:pt x="16619" y="13271"/>
                </a:cubicBezTo>
                <a:cubicBezTo>
                  <a:pt x="16743" y="13035"/>
                  <a:pt x="16613" y="12949"/>
                  <a:pt x="16470" y="12799"/>
                </a:cubicBezTo>
                <a:cubicBezTo>
                  <a:pt x="16148" y="12919"/>
                  <a:pt x="16077" y="13031"/>
                  <a:pt x="16173" y="133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23000" y="5249880"/>
            <a:ext cx="687240" cy="528480"/>
          </a:xfrm>
          <a:custGeom>
            <a:avLst/>
            <a:gdLst/>
            <a:ahLst/>
            <a:rect l="l" t="t" r="r" b="b"/>
            <a:pathLst>
              <a:path w="1911" h="1465">
                <a:moveTo>
                  <a:pt x="17066" y="14808"/>
                </a:moveTo>
                <a:cubicBezTo>
                  <a:pt x="16995" y="14791"/>
                  <a:pt x="16955" y="14784"/>
                  <a:pt x="16867" y="14784"/>
                </a:cubicBezTo>
                <a:cubicBezTo>
                  <a:pt x="16859" y="14784"/>
                  <a:pt x="16850" y="14784"/>
                  <a:pt x="16842" y="14784"/>
                </a:cubicBezTo>
                <a:cubicBezTo>
                  <a:pt x="16842" y="14881"/>
                  <a:pt x="16838" y="14957"/>
                  <a:pt x="16842" y="15056"/>
                </a:cubicBezTo>
                <a:cubicBezTo>
                  <a:pt x="16844" y="15100"/>
                  <a:pt x="16801" y="15414"/>
                  <a:pt x="16867" y="15429"/>
                </a:cubicBezTo>
                <a:cubicBezTo>
                  <a:pt x="16948" y="15447"/>
                  <a:pt x="17057" y="15429"/>
                  <a:pt x="17140" y="15429"/>
                </a:cubicBezTo>
              </a:path>
              <a:path w="1911" h="1465">
                <a:moveTo>
                  <a:pt x="17264" y="14684"/>
                </a:moveTo>
                <a:cubicBezTo>
                  <a:pt x="17310" y="14596"/>
                  <a:pt x="17289" y="15047"/>
                  <a:pt x="17289" y="15056"/>
                </a:cubicBezTo>
                <a:cubicBezTo>
                  <a:pt x="17289" y="15251"/>
                  <a:pt x="17288" y="15435"/>
                  <a:pt x="17264" y="15627"/>
                </a:cubicBezTo>
              </a:path>
              <a:path w="1911" h="1465">
                <a:moveTo>
                  <a:pt x="18008" y="14585"/>
                </a:moveTo>
                <a:cubicBezTo>
                  <a:pt x="18068" y="14625"/>
                  <a:pt x="18033" y="14905"/>
                  <a:pt x="18033" y="14982"/>
                </a:cubicBezTo>
                <a:cubicBezTo>
                  <a:pt x="18033" y="15196"/>
                  <a:pt x="18039" y="15372"/>
                  <a:pt x="18083" y="15577"/>
                </a:cubicBezTo>
                <a:cubicBezTo>
                  <a:pt x="18083" y="15585"/>
                  <a:pt x="18083" y="15594"/>
                  <a:pt x="18083" y="15602"/>
                </a:cubicBezTo>
              </a:path>
              <a:path w="1911" h="1465">
                <a:moveTo>
                  <a:pt x="16421" y="15677"/>
                </a:moveTo>
                <a:cubicBezTo>
                  <a:pt x="16421" y="15642"/>
                  <a:pt x="16430" y="15629"/>
                  <a:pt x="16470" y="15627"/>
                </a:cubicBezTo>
                <a:cubicBezTo>
                  <a:pt x="16555" y="15712"/>
                  <a:pt x="16586" y="15830"/>
                  <a:pt x="16446" y="15900"/>
                </a:cubicBezTo>
                <a:cubicBezTo>
                  <a:pt x="16429" y="15900"/>
                  <a:pt x="16413" y="15900"/>
                  <a:pt x="16396" y="15900"/>
                </a:cubicBezTo>
                <a:cubicBezTo>
                  <a:pt x="16416" y="15839"/>
                  <a:pt x="16489" y="15867"/>
                  <a:pt x="16545" y="15875"/>
                </a:cubicBezTo>
                <a:cubicBezTo>
                  <a:pt x="16553" y="15875"/>
                  <a:pt x="16562" y="15875"/>
                  <a:pt x="16570" y="15875"/>
                </a:cubicBezTo>
              </a:path>
              <a:path w="1911" h="1465">
                <a:moveTo>
                  <a:pt x="16247" y="15999"/>
                </a:moveTo>
                <a:cubicBezTo>
                  <a:pt x="16377" y="16060"/>
                  <a:pt x="16501" y="16062"/>
                  <a:pt x="16644" y="15999"/>
                </a:cubicBezTo>
                <a:cubicBezTo>
                  <a:pt x="16777" y="15940"/>
                  <a:pt x="16866" y="15763"/>
                  <a:pt x="16793" y="15627"/>
                </a:cubicBezTo>
                <a:cubicBezTo>
                  <a:pt x="16686" y="15427"/>
                  <a:pt x="16452" y="15497"/>
                  <a:pt x="16321" y="15602"/>
                </a:cubicBezTo>
                <a:cubicBezTo>
                  <a:pt x="16082" y="15794"/>
                  <a:pt x="16155" y="15928"/>
                  <a:pt x="16396" y="159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46080" y="2652840"/>
            <a:ext cx="5653080" cy="3027240"/>
          </a:xfrm>
          <a:custGeom>
            <a:avLst/>
            <a:gdLst/>
            <a:ahLst/>
            <a:rect l="l" t="t" r="r" b="b"/>
            <a:pathLst>
              <a:path w="15703" h="8410">
                <a:moveTo>
                  <a:pt x="2629" y="7367"/>
                </a:moveTo>
                <a:lnTo>
                  <a:pt x="2629" y="7367"/>
                </a:lnTo>
                <a:lnTo>
                  <a:pt x="2629" y="7367"/>
                </a:lnTo>
              </a:path>
              <a:path w="15703" h="8410">
                <a:moveTo>
                  <a:pt x="2679" y="8855"/>
                </a:moveTo>
                <a:cubicBezTo>
                  <a:pt x="2679" y="8883"/>
                  <a:pt x="2681" y="8894"/>
                  <a:pt x="2704" y="8905"/>
                </a:cubicBezTo>
              </a:path>
              <a:path w="15703" h="8410">
                <a:moveTo>
                  <a:pt x="2803" y="9575"/>
                </a:moveTo>
                <a:cubicBezTo>
                  <a:pt x="2803" y="9626"/>
                  <a:pt x="2804" y="9641"/>
                  <a:pt x="2828" y="9575"/>
                </a:cubicBezTo>
              </a:path>
              <a:path w="15703" h="8410">
                <a:moveTo>
                  <a:pt x="4093" y="8359"/>
                </a:moveTo>
                <a:cubicBezTo>
                  <a:pt x="4106" y="8449"/>
                  <a:pt x="4143" y="8523"/>
                  <a:pt x="4167" y="8607"/>
                </a:cubicBezTo>
              </a:path>
              <a:path w="15703" h="8410">
                <a:moveTo>
                  <a:pt x="17636" y="15776"/>
                </a:moveTo>
                <a:cubicBezTo>
                  <a:pt x="17653" y="15776"/>
                  <a:pt x="17669" y="15776"/>
                  <a:pt x="17686" y="15776"/>
                </a:cubicBezTo>
              </a:path>
              <a:path w="15703" h="8410">
                <a:moveTo>
                  <a:pt x="18157" y="15453"/>
                </a:moveTo>
                <a:cubicBezTo>
                  <a:pt x="18043" y="15543"/>
                  <a:pt x="18030" y="15551"/>
                  <a:pt x="18008" y="15701"/>
                </a:cubicBezTo>
                <a:cubicBezTo>
                  <a:pt x="18148" y="15721"/>
                  <a:pt x="18318" y="15719"/>
                  <a:pt x="18331" y="15528"/>
                </a:cubicBezTo>
                <a:cubicBezTo>
                  <a:pt x="18337" y="15434"/>
                  <a:pt x="18271" y="15440"/>
                  <a:pt x="18207" y="154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67240" y="1347840"/>
            <a:ext cx="1125720" cy="27000"/>
          </a:xfrm>
          <a:custGeom>
            <a:avLst/>
            <a:gdLst/>
            <a:ahLst/>
            <a:rect l="l" t="t" r="r" b="b"/>
            <a:pathLst>
              <a:path w="3126" h="75">
                <a:moveTo>
                  <a:pt x="14908" y="3770"/>
                </a:moveTo>
                <a:cubicBezTo>
                  <a:pt x="15051" y="3770"/>
                  <a:pt x="15185" y="3737"/>
                  <a:pt x="15329" y="3746"/>
                </a:cubicBezTo>
                <a:cubicBezTo>
                  <a:pt x="15592" y="3763"/>
                  <a:pt x="15858" y="3787"/>
                  <a:pt x="16123" y="3770"/>
                </a:cubicBezTo>
                <a:cubicBezTo>
                  <a:pt x="16360" y="3755"/>
                  <a:pt x="16582" y="3746"/>
                  <a:pt x="16818" y="3770"/>
                </a:cubicBezTo>
                <a:cubicBezTo>
                  <a:pt x="17077" y="3796"/>
                  <a:pt x="17350" y="3836"/>
                  <a:pt x="17611" y="3820"/>
                </a:cubicBezTo>
                <a:cubicBezTo>
                  <a:pt x="17753" y="3811"/>
                  <a:pt x="17894" y="3785"/>
                  <a:pt x="18033" y="37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00240" y="2867040"/>
            <a:ext cx="1357560" cy="61920"/>
          </a:xfrm>
          <a:custGeom>
            <a:avLst/>
            <a:gdLst/>
            <a:ahLst/>
            <a:rect l="l" t="t" r="r" b="b"/>
            <a:pathLst>
              <a:path w="3772" h="175">
                <a:moveTo>
                  <a:pt x="8334" y="8136"/>
                </a:moveTo>
                <a:lnTo>
                  <a:pt x="8334" y="8136"/>
                </a:lnTo>
                <a:lnTo>
                  <a:pt x="8334" y="8136"/>
                </a:lnTo>
              </a:path>
              <a:path w="3772" h="175">
                <a:moveTo>
                  <a:pt x="10269" y="8037"/>
                </a:moveTo>
                <a:cubicBezTo>
                  <a:pt x="10269" y="8081"/>
                  <a:pt x="10266" y="8095"/>
                  <a:pt x="10294" y="8111"/>
                </a:cubicBezTo>
              </a:path>
              <a:path w="3772" h="175">
                <a:moveTo>
                  <a:pt x="12105" y="7962"/>
                </a:moveTo>
                <a:cubicBezTo>
                  <a:pt x="12105" y="7979"/>
                  <a:pt x="12105" y="7995"/>
                  <a:pt x="12105" y="80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95760" y="2813040"/>
            <a:ext cx="133200" cy="152280"/>
          </a:xfrm>
          <a:custGeom>
            <a:avLst/>
            <a:gdLst/>
            <a:ahLst/>
            <a:rect l="l" t="t" r="r" b="b"/>
            <a:pathLst>
              <a:path w="373" h="423">
                <a:moveTo>
                  <a:pt x="7888" y="7813"/>
                </a:moveTo>
                <a:cubicBezTo>
                  <a:pt x="7826" y="7912"/>
                  <a:pt x="7749" y="8038"/>
                  <a:pt x="7764" y="8161"/>
                </a:cubicBezTo>
                <a:cubicBezTo>
                  <a:pt x="7784" y="8327"/>
                  <a:pt x="8003" y="8196"/>
                  <a:pt x="8062" y="8161"/>
                </a:cubicBezTo>
                <a:cubicBezTo>
                  <a:pt x="8149" y="8109"/>
                  <a:pt x="8136" y="8118"/>
                  <a:pt x="8136" y="8037"/>
                </a:cubicBezTo>
                <a:cubicBezTo>
                  <a:pt x="8015" y="8037"/>
                  <a:pt x="7946" y="8022"/>
                  <a:pt x="7913" y="8161"/>
                </a:cubicBezTo>
                <a:cubicBezTo>
                  <a:pt x="7890" y="8257"/>
                  <a:pt x="7929" y="8228"/>
                  <a:pt x="8012" y="82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81240" y="2813040"/>
            <a:ext cx="177840" cy="125280"/>
          </a:xfrm>
          <a:custGeom>
            <a:avLst/>
            <a:gdLst/>
            <a:ahLst/>
            <a:rect l="l" t="t" r="r" b="b"/>
            <a:pathLst>
              <a:path w="497" h="349">
                <a:moveTo>
                  <a:pt x="8756" y="7813"/>
                </a:moveTo>
                <a:cubicBezTo>
                  <a:pt x="8594" y="7867"/>
                  <a:pt x="8578" y="7964"/>
                  <a:pt x="8558" y="8136"/>
                </a:cubicBezTo>
                <a:cubicBezTo>
                  <a:pt x="8675" y="8172"/>
                  <a:pt x="8827" y="8176"/>
                  <a:pt x="8855" y="8012"/>
                </a:cubicBezTo>
                <a:cubicBezTo>
                  <a:pt x="8864" y="7962"/>
                  <a:pt x="8756" y="7836"/>
                  <a:pt x="8756" y="7888"/>
                </a:cubicBezTo>
              </a:path>
              <a:path w="497" h="349">
                <a:moveTo>
                  <a:pt x="9029" y="7838"/>
                </a:moveTo>
                <a:cubicBezTo>
                  <a:pt x="9029" y="7763"/>
                  <a:pt x="9048" y="7937"/>
                  <a:pt x="9054" y="8012"/>
                </a:cubicBezTo>
                <a:cubicBezTo>
                  <a:pt x="9058" y="8059"/>
                  <a:pt x="9054" y="8112"/>
                  <a:pt x="9054" y="81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75000" y="2928960"/>
            <a:ext cx="9720" cy="71280"/>
          </a:xfrm>
          <a:custGeom>
            <a:avLst/>
            <a:gdLst/>
            <a:ahLst/>
            <a:rect l="l" t="t" r="r" b="b"/>
            <a:pathLst>
              <a:path w="26" h="199">
                <a:moveTo>
                  <a:pt x="9376" y="8136"/>
                </a:moveTo>
                <a:cubicBezTo>
                  <a:pt x="9400" y="8207"/>
                  <a:pt x="9401" y="8256"/>
                  <a:pt x="9401" y="8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10000" y="2776680"/>
            <a:ext cx="133200" cy="171360"/>
          </a:xfrm>
          <a:custGeom>
            <a:avLst/>
            <a:gdLst/>
            <a:ahLst/>
            <a:rect l="l" t="t" r="r" b="b"/>
            <a:pathLst>
              <a:path w="373" h="473">
                <a:moveTo>
                  <a:pt x="9847" y="7714"/>
                </a:moveTo>
                <a:cubicBezTo>
                  <a:pt x="9798" y="7829"/>
                  <a:pt x="9688" y="7990"/>
                  <a:pt x="9748" y="8136"/>
                </a:cubicBezTo>
                <a:cubicBezTo>
                  <a:pt x="9833" y="8341"/>
                  <a:pt x="10102" y="8079"/>
                  <a:pt x="10120" y="7962"/>
                </a:cubicBezTo>
                <a:cubicBezTo>
                  <a:pt x="10142" y="7823"/>
                  <a:pt x="9988" y="7803"/>
                  <a:pt x="9897" y="7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3760" y="2759040"/>
            <a:ext cx="117360" cy="214200"/>
          </a:xfrm>
          <a:custGeom>
            <a:avLst/>
            <a:gdLst/>
            <a:ahLst/>
            <a:rect l="l" t="t" r="r" b="b"/>
            <a:pathLst>
              <a:path w="323" h="596">
                <a:moveTo>
                  <a:pt x="10864" y="7714"/>
                </a:moveTo>
                <a:cubicBezTo>
                  <a:pt x="10802" y="7621"/>
                  <a:pt x="10688" y="7681"/>
                  <a:pt x="10616" y="7764"/>
                </a:cubicBezTo>
                <a:cubicBezTo>
                  <a:pt x="10575" y="7847"/>
                  <a:pt x="10551" y="7863"/>
                  <a:pt x="10592" y="7913"/>
                </a:cubicBezTo>
                <a:cubicBezTo>
                  <a:pt x="10737" y="7923"/>
                  <a:pt x="10781" y="7895"/>
                  <a:pt x="10889" y="7789"/>
                </a:cubicBezTo>
                <a:cubicBezTo>
                  <a:pt x="10889" y="7946"/>
                  <a:pt x="10889" y="8103"/>
                  <a:pt x="10889" y="82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7040" y="2955960"/>
            <a:ext cx="1440" cy="36360"/>
          </a:xfrm>
          <a:custGeom>
            <a:avLst/>
            <a:gdLst/>
            <a:ahLst/>
            <a:rect l="l" t="t" r="r" b="b"/>
            <a:pathLst>
              <a:path w="1" h="101">
                <a:moveTo>
                  <a:pt x="11212" y="8210"/>
                </a:moveTo>
                <a:cubicBezTo>
                  <a:pt x="11212" y="8268"/>
                  <a:pt x="11212" y="8277"/>
                  <a:pt x="11212" y="83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60880" y="2795760"/>
            <a:ext cx="144360" cy="133200"/>
          </a:xfrm>
          <a:custGeom>
            <a:avLst/>
            <a:gdLst/>
            <a:ahLst/>
            <a:rect l="l" t="t" r="r" b="b"/>
            <a:pathLst>
              <a:path w="398" h="373">
                <a:moveTo>
                  <a:pt x="11857" y="7764"/>
                </a:moveTo>
                <a:cubicBezTo>
                  <a:pt x="11736" y="7797"/>
                  <a:pt x="11553" y="7898"/>
                  <a:pt x="11559" y="8062"/>
                </a:cubicBezTo>
                <a:cubicBezTo>
                  <a:pt x="11576" y="8078"/>
                  <a:pt x="11592" y="8095"/>
                  <a:pt x="11609" y="8111"/>
                </a:cubicBezTo>
                <a:cubicBezTo>
                  <a:pt x="11735" y="8126"/>
                  <a:pt x="12012" y="8111"/>
                  <a:pt x="11956" y="7888"/>
                </a:cubicBezTo>
                <a:cubicBezTo>
                  <a:pt x="11929" y="7780"/>
                  <a:pt x="11822" y="7799"/>
                  <a:pt x="11757" y="78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46720" y="2741760"/>
            <a:ext cx="134640" cy="160200"/>
          </a:xfrm>
          <a:custGeom>
            <a:avLst/>
            <a:gdLst/>
            <a:ahLst/>
            <a:rect l="l" t="t" r="r" b="b"/>
            <a:pathLst>
              <a:path w="373" h="448">
                <a:moveTo>
                  <a:pt x="12427" y="7615"/>
                </a:moveTo>
                <a:cubicBezTo>
                  <a:pt x="12404" y="7731"/>
                  <a:pt x="12342" y="7808"/>
                  <a:pt x="12353" y="7938"/>
                </a:cubicBezTo>
                <a:cubicBezTo>
                  <a:pt x="12370" y="8129"/>
                  <a:pt x="12623" y="8008"/>
                  <a:pt x="12700" y="7938"/>
                </a:cubicBezTo>
                <a:cubicBezTo>
                  <a:pt x="12722" y="7894"/>
                  <a:pt x="12735" y="7882"/>
                  <a:pt x="12700" y="7863"/>
                </a:cubicBezTo>
                <a:cubicBezTo>
                  <a:pt x="12680" y="7873"/>
                  <a:pt x="12424" y="8034"/>
                  <a:pt x="12551" y="8062"/>
                </a:cubicBezTo>
                <a:cubicBezTo>
                  <a:pt x="12592" y="8062"/>
                  <a:pt x="12634" y="8062"/>
                  <a:pt x="12675" y="80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97280" y="2724120"/>
            <a:ext cx="9720" cy="160200"/>
          </a:xfrm>
          <a:custGeom>
            <a:avLst/>
            <a:gdLst/>
            <a:ahLst/>
            <a:rect l="l" t="t" r="r" b="b"/>
            <a:pathLst>
              <a:path w="26" h="448">
                <a:moveTo>
                  <a:pt x="13047" y="7565"/>
                </a:moveTo>
                <a:cubicBezTo>
                  <a:pt x="13047" y="7710"/>
                  <a:pt x="13051" y="7846"/>
                  <a:pt x="13072" y="7987"/>
                </a:cubicBezTo>
                <a:cubicBezTo>
                  <a:pt x="13072" y="7995"/>
                  <a:pt x="13072" y="8004"/>
                  <a:pt x="13072" y="80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63880" y="6027840"/>
            <a:ext cx="1305000" cy="250560"/>
          </a:xfrm>
          <a:custGeom>
            <a:avLst/>
            <a:gdLst/>
            <a:ahLst/>
            <a:rect l="l" t="t" r="r" b="b"/>
            <a:pathLst>
              <a:path w="3623" h="696">
                <a:moveTo>
                  <a:pt x="8235" y="17016"/>
                </a:moveTo>
                <a:lnTo>
                  <a:pt x="8235" y="17016"/>
                </a:lnTo>
              </a:path>
              <a:path w="3623" h="696">
                <a:moveTo>
                  <a:pt x="8855" y="17239"/>
                </a:moveTo>
                <a:cubicBezTo>
                  <a:pt x="8849" y="17339"/>
                  <a:pt x="8876" y="17413"/>
                  <a:pt x="8806" y="17413"/>
                </a:cubicBezTo>
              </a:path>
              <a:path w="3623" h="696">
                <a:moveTo>
                  <a:pt x="9699" y="16966"/>
                </a:moveTo>
                <a:lnTo>
                  <a:pt x="9699" y="16966"/>
                </a:lnTo>
                <a:lnTo>
                  <a:pt x="9699" y="16966"/>
                </a:lnTo>
              </a:path>
              <a:path w="3623" h="696">
                <a:moveTo>
                  <a:pt x="10988" y="16892"/>
                </a:moveTo>
                <a:cubicBezTo>
                  <a:pt x="11010" y="16957"/>
                  <a:pt x="11018" y="16972"/>
                  <a:pt x="11013" y="17016"/>
                </a:cubicBezTo>
              </a:path>
              <a:path w="3623" h="696">
                <a:moveTo>
                  <a:pt x="11857" y="16743"/>
                </a:moveTo>
                <a:lnTo>
                  <a:pt x="11857" y="1674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68760" y="5983200"/>
            <a:ext cx="330120" cy="196920"/>
          </a:xfrm>
          <a:custGeom>
            <a:avLst/>
            <a:gdLst/>
            <a:ahLst/>
            <a:rect l="l" t="t" r="r" b="b"/>
            <a:pathLst>
              <a:path w="919" h="547">
                <a:moveTo>
                  <a:pt x="7863" y="16694"/>
                </a:moveTo>
                <a:cubicBezTo>
                  <a:pt x="7781" y="16667"/>
                  <a:pt x="7928" y="16587"/>
                  <a:pt x="7987" y="16619"/>
                </a:cubicBezTo>
                <a:cubicBezTo>
                  <a:pt x="8210" y="16741"/>
                  <a:pt x="7877" y="17080"/>
                  <a:pt x="7789" y="17140"/>
                </a:cubicBezTo>
                <a:cubicBezTo>
                  <a:pt x="7714" y="17159"/>
                  <a:pt x="7681" y="17193"/>
                  <a:pt x="7689" y="17140"/>
                </a:cubicBezTo>
                <a:cubicBezTo>
                  <a:pt x="7726" y="17007"/>
                  <a:pt x="7816" y="16974"/>
                  <a:pt x="7938" y="17090"/>
                </a:cubicBezTo>
                <a:cubicBezTo>
                  <a:pt x="7958" y="17131"/>
                  <a:pt x="7966" y="17137"/>
                  <a:pt x="7962" y="17165"/>
                </a:cubicBezTo>
              </a:path>
              <a:path w="919" h="547">
                <a:moveTo>
                  <a:pt x="8186" y="17016"/>
                </a:moveTo>
                <a:cubicBezTo>
                  <a:pt x="8210" y="17016"/>
                  <a:pt x="8219" y="17016"/>
                  <a:pt x="8235" y="17016"/>
                </a:cubicBezTo>
              </a:path>
              <a:path w="919" h="547">
                <a:moveTo>
                  <a:pt x="8607" y="16669"/>
                </a:moveTo>
                <a:cubicBezTo>
                  <a:pt x="8503" y="16599"/>
                  <a:pt x="8388" y="16616"/>
                  <a:pt x="8334" y="16768"/>
                </a:cubicBezTo>
                <a:cubicBezTo>
                  <a:pt x="8334" y="16801"/>
                  <a:pt x="8334" y="16834"/>
                  <a:pt x="8334" y="16867"/>
                </a:cubicBezTo>
                <a:cubicBezTo>
                  <a:pt x="8450" y="16867"/>
                  <a:pt x="8539" y="16847"/>
                  <a:pt x="8582" y="16718"/>
                </a:cubicBezTo>
                <a:cubicBezTo>
                  <a:pt x="8582" y="16652"/>
                  <a:pt x="8582" y="16619"/>
                  <a:pt x="8582" y="16694"/>
                </a:cubicBezTo>
                <a:cubicBezTo>
                  <a:pt x="8570" y="16844"/>
                  <a:pt x="8558" y="16988"/>
                  <a:pt x="8558" y="171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95800" y="5946840"/>
            <a:ext cx="588960" cy="214200"/>
          </a:xfrm>
          <a:custGeom>
            <a:avLst/>
            <a:gdLst/>
            <a:ahLst/>
            <a:rect l="l" t="t" r="r" b="b"/>
            <a:pathLst>
              <a:path w="1638" h="596">
                <a:moveTo>
                  <a:pt x="9153" y="16669"/>
                </a:moveTo>
                <a:cubicBezTo>
                  <a:pt x="9251" y="16636"/>
                  <a:pt x="9313" y="16542"/>
                  <a:pt x="9426" y="16594"/>
                </a:cubicBezTo>
                <a:cubicBezTo>
                  <a:pt x="9503" y="16629"/>
                  <a:pt x="9378" y="16766"/>
                  <a:pt x="9351" y="16793"/>
                </a:cubicBezTo>
                <a:cubicBezTo>
                  <a:pt x="9460" y="16811"/>
                  <a:pt x="9529" y="16864"/>
                  <a:pt x="9500" y="16991"/>
                </a:cubicBezTo>
                <a:cubicBezTo>
                  <a:pt x="9470" y="17122"/>
                  <a:pt x="9406" y="17106"/>
                  <a:pt x="9302" y="17115"/>
                </a:cubicBezTo>
              </a:path>
              <a:path w="1638" h="596">
                <a:moveTo>
                  <a:pt x="9823" y="16669"/>
                </a:moveTo>
                <a:cubicBezTo>
                  <a:pt x="9767" y="16745"/>
                  <a:pt x="9628" y="16952"/>
                  <a:pt x="9823" y="16966"/>
                </a:cubicBezTo>
                <a:cubicBezTo>
                  <a:pt x="9976" y="16977"/>
                  <a:pt x="10069" y="16768"/>
                  <a:pt x="9947" y="16669"/>
                </a:cubicBezTo>
                <a:cubicBezTo>
                  <a:pt x="9943" y="16666"/>
                  <a:pt x="9745" y="16669"/>
                  <a:pt x="9947" y="16669"/>
                </a:cubicBezTo>
              </a:path>
              <a:path w="1638" h="596">
                <a:moveTo>
                  <a:pt x="10244" y="16594"/>
                </a:moveTo>
                <a:cubicBezTo>
                  <a:pt x="10186" y="16677"/>
                  <a:pt x="10098" y="16835"/>
                  <a:pt x="10220" y="16917"/>
                </a:cubicBezTo>
                <a:cubicBezTo>
                  <a:pt x="10352" y="17006"/>
                  <a:pt x="10474" y="16775"/>
                  <a:pt x="10418" y="16669"/>
                </a:cubicBezTo>
                <a:cubicBezTo>
                  <a:pt x="10363" y="16641"/>
                  <a:pt x="10340" y="16633"/>
                  <a:pt x="10294" y="16644"/>
                </a:cubicBezTo>
              </a:path>
              <a:path w="1638" h="596">
                <a:moveTo>
                  <a:pt x="10691" y="16520"/>
                </a:moveTo>
                <a:cubicBezTo>
                  <a:pt x="10627" y="16528"/>
                  <a:pt x="10594" y="16534"/>
                  <a:pt x="10567" y="16570"/>
                </a:cubicBezTo>
                <a:cubicBezTo>
                  <a:pt x="10537" y="16609"/>
                  <a:pt x="10485" y="16650"/>
                  <a:pt x="10542" y="16669"/>
                </a:cubicBezTo>
                <a:cubicBezTo>
                  <a:pt x="10597" y="16687"/>
                  <a:pt x="10720" y="16627"/>
                  <a:pt x="10765" y="16694"/>
                </a:cubicBezTo>
                <a:cubicBezTo>
                  <a:pt x="10828" y="16787"/>
                  <a:pt x="10800" y="16961"/>
                  <a:pt x="10666" y="16966"/>
                </a:cubicBezTo>
                <a:cubicBezTo>
                  <a:pt x="10582" y="16946"/>
                  <a:pt x="10563" y="16944"/>
                  <a:pt x="10517" y="169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89240" y="5848200"/>
            <a:ext cx="581040" cy="260640"/>
          </a:xfrm>
          <a:custGeom>
            <a:avLst/>
            <a:gdLst/>
            <a:ahLst/>
            <a:rect l="l" t="t" r="r" b="b"/>
            <a:pathLst>
              <a:path w="1613" h="720">
                <a:moveTo>
                  <a:pt x="11385" y="16470"/>
                </a:moveTo>
                <a:cubicBezTo>
                  <a:pt x="11327" y="16470"/>
                  <a:pt x="11457" y="16439"/>
                  <a:pt x="11485" y="16446"/>
                </a:cubicBezTo>
                <a:cubicBezTo>
                  <a:pt x="11587" y="16471"/>
                  <a:pt x="11494" y="16530"/>
                  <a:pt x="11460" y="16570"/>
                </a:cubicBezTo>
                <a:cubicBezTo>
                  <a:pt x="11452" y="16578"/>
                  <a:pt x="11443" y="16586"/>
                  <a:pt x="11435" y="16594"/>
                </a:cubicBezTo>
                <a:cubicBezTo>
                  <a:pt x="11493" y="16594"/>
                  <a:pt x="11673" y="16603"/>
                  <a:pt x="11633" y="16718"/>
                </a:cubicBezTo>
                <a:cubicBezTo>
                  <a:pt x="11586" y="16856"/>
                  <a:pt x="11357" y="16821"/>
                  <a:pt x="11410" y="16768"/>
                </a:cubicBezTo>
                <a:cubicBezTo>
                  <a:pt x="11435" y="16760"/>
                  <a:pt x="11460" y="16751"/>
                  <a:pt x="11485" y="16743"/>
                </a:cubicBezTo>
              </a:path>
              <a:path w="1613" h="720">
                <a:moveTo>
                  <a:pt x="11782" y="16718"/>
                </a:moveTo>
                <a:cubicBezTo>
                  <a:pt x="11782" y="16761"/>
                  <a:pt x="11818" y="16743"/>
                  <a:pt x="11857" y="16743"/>
                </a:cubicBezTo>
              </a:path>
              <a:path w="1613" h="720">
                <a:moveTo>
                  <a:pt x="12105" y="16396"/>
                </a:moveTo>
                <a:cubicBezTo>
                  <a:pt x="12046" y="16512"/>
                  <a:pt x="12021" y="16549"/>
                  <a:pt x="12030" y="16669"/>
                </a:cubicBezTo>
                <a:cubicBezTo>
                  <a:pt x="12140" y="16689"/>
                  <a:pt x="12326" y="16671"/>
                  <a:pt x="12303" y="16495"/>
                </a:cubicBezTo>
                <a:cubicBezTo>
                  <a:pt x="12256" y="16424"/>
                  <a:pt x="12243" y="16400"/>
                  <a:pt x="12179" y="16396"/>
                </a:cubicBezTo>
              </a:path>
              <a:path w="1613" h="720">
                <a:moveTo>
                  <a:pt x="12551" y="16247"/>
                </a:moveTo>
                <a:cubicBezTo>
                  <a:pt x="12488" y="16272"/>
                  <a:pt x="12419" y="16307"/>
                  <a:pt x="12378" y="16321"/>
                </a:cubicBezTo>
                <a:cubicBezTo>
                  <a:pt x="12389" y="16391"/>
                  <a:pt x="12387" y="16366"/>
                  <a:pt x="12427" y="16396"/>
                </a:cubicBezTo>
                <a:cubicBezTo>
                  <a:pt x="12514" y="16461"/>
                  <a:pt x="12582" y="16399"/>
                  <a:pt x="12650" y="16520"/>
                </a:cubicBezTo>
                <a:cubicBezTo>
                  <a:pt x="12720" y="16644"/>
                  <a:pt x="12615" y="16680"/>
                  <a:pt x="12502" y="16669"/>
                </a:cubicBezTo>
                <a:cubicBezTo>
                  <a:pt x="12477" y="16661"/>
                  <a:pt x="12452" y="16652"/>
                  <a:pt x="12427" y="16644"/>
                </a:cubicBezTo>
              </a:path>
              <a:path w="1613" h="720">
                <a:moveTo>
                  <a:pt x="12973" y="16694"/>
                </a:moveTo>
                <a:cubicBezTo>
                  <a:pt x="12973" y="16787"/>
                  <a:pt x="12955" y="16874"/>
                  <a:pt x="12948" y="169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86200" y="5875200"/>
            <a:ext cx="98640" cy="169920"/>
          </a:xfrm>
          <a:custGeom>
            <a:avLst/>
            <a:gdLst/>
            <a:ahLst/>
            <a:rect l="l" t="t" r="r" b="b"/>
            <a:pathLst>
              <a:path w="274" h="473">
                <a:moveTo>
                  <a:pt x="13543" y="16470"/>
                </a:moveTo>
                <a:cubicBezTo>
                  <a:pt x="13571" y="16415"/>
                  <a:pt x="13571" y="16401"/>
                  <a:pt x="13543" y="16346"/>
                </a:cubicBezTo>
                <a:cubicBezTo>
                  <a:pt x="13473" y="16346"/>
                  <a:pt x="13192" y="16430"/>
                  <a:pt x="13320" y="16570"/>
                </a:cubicBezTo>
                <a:cubicBezTo>
                  <a:pt x="13390" y="16647"/>
                  <a:pt x="13518" y="16397"/>
                  <a:pt x="13519" y="16396"/>
                </a:cubicBezTo>
                <a:cubicBezTo>
                  <a:pt x="13527" y="16388"/>
                  <a:pt x="13535" y="16379"/>
                  <a:pt x="13543" y="16371"/>
                </a:cubicBezTo>
                <a:cubicBezTo>
                  <a:pt x="13554" y="16499"/>
                  <a:pt x="13512" y="16676"/>
                  <a:pt x="13543" y="16793"/>
                </a:cubicBezTo>
                <a:cubicBezTo>
                  <a:pt x="13551" y="16793"/>
                  <a:pt x="13560" y="16793"/>
                  <a:pt x="13568" y="167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83120" y="5840280"/>
            <a:ext cx="196920" cy="177840"/>
          </a:xfrm>
          <a:custGeom>
            <a:avLst/>
            <a:gdLst/>
            <a:ahLst/>
            <a:rect l="l" t="t" r="r" b="b"/>
            <a:pathLst>
              <a:path w="547" h="497">
                <a:moveTo>
                  <a:pt x="13841" y="16644"/>
                </a:moveTo>
                <a:cubicBezTo>
                  <a:pt x="13860" y="16670"/>
                  <a:pt x="13866" y="16713"/>
                  <a:pt x="13866" y="16669"/>
                </a:cubicBezTo>
              </a:path>
              <a:path w="547" h="497">
                <a:moveTo>
                  <a:pt x="14064" y="16272"/>
                </a:moveTo>
                <a:cubicBezTo>
                  <a:pt x="14151" y="16184"/>
                  <a:pt x="14311" y="16245"/>
                  <a:pt x="14337" y="16396"/>
                </a:cubicBezTo>
                <a:cubicBezTo>
                  <a:pt x="14367" y="16574"/>
                  <a:pt x="14237" y="16708"/>
                  <a:pt x="14089" y="16694"/>
                </a:cubicBezTo>
                <a:cubicBezTo>
                  <a:pt x="14137" y="16621"/>
                  <a:pt x="14208" y="16505"/>
                  <a:pt x="14312" y="16594"/>
                </a:cubicBezTo>
                <a:cubicBezTo>
                  <a:pt x="14342" y="16619"/>
                  <a:pt x="14377" y="16681"/>
                  <a:pt x="14387" y="167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4240" y="2544840"/>
            <a:ext cx="152640" cy="196920"/>
          </a:xfrm>
          <a:custGeom>
            <a:avLst/>
            <a:gdLst/>
            <a:ahLst/>
            <a:rect l="l" t="t" r="r" b="b"/>
            <a:pathLst>
              <a:path w="423" h="547">
                <a:moveTo>
                  <a:pt x="2133" y="7094"/>
                </a:moveTo>
                <a:cubicBezTo>
                  <a:pt x="2133" y="6988"/>
                  <a:pt x="2072" y="7243"/>
                  <a:pt x="2034" y="7342"/>
                </a:cubicBezTo>
                <a:cubicBezTo>
                  <a:pt x="1991" y="7448"/>
                  <a:pt x="1975" y="7470"/>
                  <a:pt x="1984" y="7541"/>
                </a:cubicBezTo>
                <a:cubicBezTo>
                  <a:pt x="2159" y="7615"/>
                  <a:pt x="2234" y="7590"/>
                  <a:pt x="2381" y="7466"/>
                </a:cubicBezTo>
                <a:cubicBezTo>
                  <a:pt x="2433" y="7422"/>
                  <a:pt x="2403" y="7386"/>
                  <a:pt x="2381" y="7342"/>
                </a:cubicBezTo>
                <a:cubicBezTo>
                  <a:pt x="2297" y="7359"/>
                  <a:pt x="2208" y="7424"/>
                  <a:pt x="2208" y="7541"/>
                </a:cubicBezTo>
                <a:cubicBezTo>
                  <a:pt x="2216" y="7566"/>
                  <a:pt x="2224" y="7590"/>
                  <a:pt x="2232" y="76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00080" y="2544840"/>
            <a:ext cx="125280" cy="135000"/>
          </a:xfrm>
          <a:custGeom>
            <a:avLst/>
            <a:gdLst/>
            <a:ahLst/>
            <a:rect l="l" t="t" r="r" b="b"/>
            <a:pathLst>
              <a:path w="348" h="373">
                <a:moveTo>
                  <a:pt x="2977" y="7069"/>
                </a:moveTo>
                <a:cubicBezTo>
                  <a:pt x="2864" y="7145"/>
                  <a:pt x="2827" y="7216"/>
                  <a:pt x="2778" y="7342"/>
                </a:cubicBezTo>
                <a:cubicBezTo>
                  <a:pt x="2891" y="7455"/>
                  <a:pt x="3025" y="7475"/>
                  <a:pt x="3125" y="7293"/>
                </a:cubicBezTo>
                <a:cubicBezTo>
                  <a:pt x="3183" y="7188"/>
                  <a:pt x="3008" y="7136"/>
                  <a:pt x="2977" y="70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14280" y="2536920"/>
            <a:ext cx="9720" cy="133200"/>
          </a:xfrm>
          <a:custGeom>
            <a:avLst/>
            <a:gdLst/>
            <a:ahLst/>
            <a:rect l="l" t="t" r="r" b="b"/>
            <a:pathLst>
              <a:path w="26" h="373">
                <a:moveTo>
                  <a:pt x="3373" y="7045"/>
                </a:moveTo>
                <a:cubicBezTo>
                  <a:pt x="3382" y="7162"/>
                  <a:pt x="3398" y="7272"/>
                  <a:pt x="3398" y="7392"/>
                </a:cubicBezTo>
                <a:cubicBezTo>
                  <a:pt x="3398" y="7400"/>
                  <a:pt x="3398" y="7409"/>
                  <a:pt x="3398" y="74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8880" y="2820960"/>
            <a:ext cx="142920" cy="196920"/>
          </a:xfrm>
          <a:custGeom>
            <a:avLst/>
            <a:gdLst/>
            <a:ahLst/>
            <a:rect l="l" t="t" r="r" b="b"/>
            <a:pathLst>
              <a:path w="398" h="547">
                <a:moveTo>
                  <a:pt x="2133" y="7838"/>
                </a:moveTo>
                <a:cubicBezTo>
                  <a:pt x="2133" y="7956"/>
                  <a:pt x="2110" y="8067"/>
                  <a:pt x="2108" y="8186"/>
                </a:cubicBezTo>
                <a:cubicBezTo>
                  <a:pt x="2108" y="8295"/>
                  <a:pt x="2103" y="8322"/>
                  <a:pt x="2133" y="8384"/>
                </a:cubicBezTo>
                <a:cubicBezTo>
                  <a:pt x="2306" y="8374"/>
                  <a:pt x="2433" y="8368"/>
                  <a:pt x="2505" y="8186"/>
                </a:cubicBezTo>
                <a:cubicBezTo>
                  <a:pt x="2505" y="8141"/>
                  <a:pt x="2508" y="8128"/>
                  <a:pt x="2480" y="8111"/>
                </a:cubicBezTo>
                <a:cubicBezTo>
                  <a:pt x="2385" y="8100"/>
                  <a:pt x="2239" y="8196"/>
                  <a:pt x="2307" y="8334"/>
                </a:cubicBezTo>
                <a:cubicBezTo>
                  <a:pt x="2323" y="8334"/>
                  <a:pt x="2340" y="8334"/>
                  <a:pt x="2356" y="8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3080" y="2938320"/>
            <a:ext cx="1800" cy="27000"/>
          </a:xfrm>
          <a:custGeom>
            <a:avLst/>
            <a:gdLst/>
            <a:ahLst/>
            <a:rect l="l" t="t" r="r" b="b"/>
            <a:pathLst>
              <a:path w="1" h="75">
                <a:moveTo>
                  <a:pt x="2704" y="8161"/>
                </a:moveTo>
                <a:cubicBezTo>
                  <a:pt x="2704" y="8194"/>
                  <a:pt x="2704" y="8243"/>
                  <a:pt x="2704" y="82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2803680"/>
            <a:ext cx="9360" cy="152280"/>
          </a:xfrm>
          <a:custGeom>
            <a:avLst/>
            <a:gdLst/>
            <a:ahLst/>
            <a:rect l="l" t="t" r="r" b="b"/>
            <a:pathLst>
              <a:path w="25" h="422">
                <a:moveTo>
                  <a:pt x="2977" y="7789"/>
                </a:moveTo>
                <a:cubicBezTo>
                  <a:pt x="2994" y="7912"/>
                  <a:pt x="2981" y="8011"/>
                  <a:pt x="2977" y="8136"/>
                </a:cubicBezTo>
                <a:cubicBezTo>
                  <a:pt x="2977" y="8177"/>
                  <a:pt x="2977" y="8185"/>
                  <a:pt x="2977" y="82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8880" y="3133800"/>
            <a:ext cx="135000" cy="144360"/>
          </a:xfrm>
          <a:custGeom>
            <a:avLst/>
            <a:gdLst/>
            <a:ahLst/>
            <a:rect l="l" t="t" r="r" b="b"/>
            <a:pathLst>
              <a:path w="373" h="398">
                <a:moveTo>
                  <a:pt x="2381" y="8731"/>
                </a:moveTo>
                <a:cubicBezTo>
                  <a:pt x="2362" y="8673"/>
                  <a:pt x="2247" y="8714"/>
                  <a:pt x="2208" y="8756"/>
                </a:cubicBezTo>
                <a:cubicBezTo>
                  <a:pt x="2107" y="8864"/>
                  <a:pt x="2115" y="8953"/>
                  <a:pt x="2133" y="9079"/>
                </a:cubicBezTo>
                <a:cubicBezTo>
                  <a:pt x="2285" y="9100"/>
                  <a:pt x="2429" y="9085"/>
                  <a:pt x="2480" y="8905"/>
                </a:cubicBezTo>
                <a:cubicBezTo>
                  <a:pt x="2510" y="8799"/>
                  <a:pt x="2458" y="8750"/>
                  <a:pt x="2381" y="87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62000" y="3062160"/>
            <a:ext cx="162000" cy="135000"/>
          </a:xfrm>
          <a:custGeom>
            <a:avLst/>
            <a:gdLst/>
            <a:ahLst/>
            <a:rect l="l" t="t" r="r" b="b"/>
            <a:pathLst>
              <a:path w="447" h="373">
                <a:moveTo>
                  <a:pt x="2977" y="8508"/>
                </a:moveTo>
                <a:cubicBezTo>
                  <a:pt x="3001" y="8584"/>
                  <a:pt x="2955" y="8686"/>
                  <a:pt x="2952" y="8781"/>
                </a:cubicBezTo>
                <a:cubicBezTo>
                  <a:pt x="2948" y="8891"/>
                  <a:pt x="3042" y="8891"/>
                  <a:pt x="3150" y="8880"/>
                </a:cubicBezTo>
                <a:cubicBezTo>
                  <a:pt x="3294" y="8865"/>
                  <a:pt x="3405" y="8795"/>
                  <a:pt x="3349" y="8682"/>
                </a:cubicBezTo>
                <a:cubicBezTo>
                  <a:pt x="3325" y="8687"/>
                  <a:pt x="3080" y="8803"/>
                  <a:pt x="3175" y="8855"/>
                </a:cubicBezTo>
                <a:cubicBezTo>
                  <a:pt x="3200" y="8855"/>
                  <a:pt x="3224" y="8855"/>
                  <a:pt x="3249" y="88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3017880"/>
            <a:ext cx="7920" cy="144360"/>
          </a:xfrm>
          <a:custGeom>
            <a:avLst/>
            <a:gdLst/>
            <a:ahLst/>
            <a:rect l="l" t="t" r="r" b="b"/>
            <a:pathLst>
              <a:path w="25" h="398">
                <a:moveTo>
                  <a:pt x="3597" y="8384"/>
                </a:moveTo>
                <a:cubicBezTo>
                  <a:pt x="3611" y="8511"/>
                  <a:pt x="3621" y="8628"/>
                  <a:pt x="3621" y="8756"/>
                </a:cubicBezTo>
                <a:cubicBezTo>
                  <a:pt x="3621" y="8764"/>
                  <a:pt x="3621" y="8773"/>
                  <a:pt x="3621" y="87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76160" y="3357720"/>
            <a:ext cx="135000" cy="169560"/>
          </a:xfrm>
          <a:custGeom>
            <a:avLst/>
            <a:gdLst/>
            <a:ahLst/>
            <a:rect l="l" t="t" r="r" b="b"/>
            <a:pathLst>
              <a:path w="373" h="472">
                <a:moveTo>
                  <a:pt x="2431" y="9327"/>
                </a:moveTo>
                <a:cubicBezTo>
                  <a:pt x="2289" y="9369"/>
                  <a:pt x="2153" y="9530"/>
                  <a:pt x="2158" y="9699"/>
                </a:cubicBezTo>
                <a:cubicBezTo>
                  <a:pt x="2175" y="9724"/>
                  <a:pt x="2191" y="9748"/>
                  <a:pt x="2208" y="9773"/>
                </a:cubicBezTo>
                <a:cubicBezTo>
                  <a:pt x="2409" y="9773"/>
                  <a:pt x="2525" y="9686"/>
                  <a:pt x="2530" y="9451"/>
                </a:cubicBezTo>
                <a:cubicBezTo>
                  <a:pt x="2532" y="9341"/>
                  <a:pt x="2505" y="9337"/>
                  <a:pt x="2431" y="93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25360" y="3295800"/>
            <a:ext cx="98640" cy="177480"/>
          </a:xfrm>
          <a:custGeom>
            <a:avLst/>
            <a:gdLst/>
            <a:ahLst/>
            <a:rect l="l" t="t" r="r" b="b"/>
            <a:pathLst>
              <a:path w="274" h="497">
                <a:moveTo>
                  <a:pt x="3373" y="9327"/>
                </a:moveTo>
                <a:cubicBezTo>
                  <a:pt x="3425" y="9240"/>
                  <a:pt x="3407" y="9222"/>
                  <a:pt x="3324" y="9178"/>
                </a:cubicBezTo>
                <a:cubicBezTo>
                  <a:pt x="3209" y="9117"/>
                  <a:pt x="3125" y="9237"/>
                  <a:pt x="3125" y="9351"/>
                </a:cubicBezTo>
                <a:cubicBezTo>
                  <a:pt x="3125" y="9482"/>
                  <a:pt x="3307" y="9311"/>
                  <a:pt x="3324" y="9302"/>
                </a:cubicBezTo>
                <a:cubicBezTo>
                  <a:pt x="3332" y="9302"/>
                  <a:pt x="3341" y="9302"/>
                  <a:pt x="3349" y="9302"/>
                </a:cubicBezTo>
                <a:cubicBezTo>
                  <a:pt x="3331" y="9410"/>
                  <a:pt x="3324" y="9512"/>
                  <a:pt x="3324" y="9624"/>
                </a:cubicBezTo>
                <a:cubicBezTo>
                  <a:pt x="3324" y="9693"/>
                  <a:pt x="3344" y="9563"/>
                  <a:pt x="3349" y="95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76200" y="3313080"/>
            <a:ext cx="98640" cy="108000"/>
          </a:xfrm>
          <a:custGeom>
            <a:avLst/>
            <a:gdLst/>
            <a:ahLst/>
            <a:rect l="l" t="t" r="r" b="b"/>
            <a:pathLst>
              <a:path w="274" h="298">
                <a:moveTo>
                  <a:pt x="3721" y="9252"/>
                </a:moveTo>
                <a:cubicBezTo>
                  <a:pt x="3611" y="9289"/>
                  <a:pt x="3571" y="9335"/>
                  <a:pt x="3547" y="9451"/>
                </a:cubicBezTo>
                <a:cubicBezTo>
                  <a:pt x="3547" y="9467"/>
                  <a:pt x="3547" y="9484"/>
                  <a:pt x="3547" y="9500"/>
                </a:cubicBezTo>
                <a:cubicBezTo>
                  <a:pt x="3653" y="9500"/>
                  <a:pt x="3834" y="9499"/>
                  <a:pt x="3820" y="9327"/>
                </a:cubicBezTo>
                <a:cubicBezTo>
                  <a:pt x="3816" y="9283"/>
                  <a:pt x="3704" y="9223"/>
                  <a:pt x="3671" y="92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70000" y="2813040"/>
            <a:ext cx="98280" cy="108000"/>
          </a:xfrm>
          <a:custGeom>
            <a:avLst/>
            <a:gdLst/>
            <a:ahLst/>
            <a:rect l="l" t="t" r="r" b="b"/>
            <a:pathLst>
              <a:path w="274" h="299">
                <a:moveTo>
                  <a:pt x="3497" y="7888"/>
                </a:moveTo>
                <a:cubicBezTo>
                  <a:pt x="3479" y="7833"/>
                  <a:pt x="3475" y="7866"/>
                  <a:pt x="3423" y="7838"/>
                </a:cubicBezTo>
                <a:cubicBezTo>
                  <a:pt x="3332" y="7788"/>
                  <a:pt x="3249" y="7885"/>
                  <a:pt x="3249" y="7987"/>
                </a:cubicBezTo>
                <a:cubicBezTo>
                  <a:pt x="3249" y="8135"/>
                  <a:pt x="3428" y="8140"/>
                  <a:pt x="3497" y="8037"/>
                </a:cubicBezTo>
                <a:cubicBezTo>
                  <a:pt x="3539" y="7974"/>
                  <a:pt x="3547" y="7863"/>
                  <a:pt x="3473" y="7838"/>
                </a:cubicBezTo>
                <a:cubicBezTo>
                  <a:pt x="3465" y="7838"/>
                  <a:pt x="3456" y="7838"/>
                  <a:pt x="3448" y="78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9960" y="2633760"/>
            <a:ext cx="108000" cy="366480"/>
          </a:xfrm>
          <a:custGeom>
            <a:avLst/>
            <a:gdLst/>
            <a:ahLst/>
            <a:rect l="l" t="t" r="r" b="b"/>
            <a:pathLst>
              <a:path w="299" h="1018">
                <a:moveTo>
                  <a:pt x="1860" y="7342"/>
                </a:moveTo>
                <a:cubicBezTo>
                  <a:pt x="1868" y="7334"/>
                  <a:pt x="1877" y="7325"/>
                  <a:pt x="1885" y="7317"/>
                </a:cubicBezTo>
                <a:cubicBezTo>
                  <a:pt x="1885" y="7461"/>
                  <a:pt x="1901" y="7597"/>
                  <a:pt x="1910" y="7739"/>
                </a:cubicBezTo>
                <a:cubicBezTo>
                  <a:pt x="1920" y="7895"/>
                  <a:pt x="1888" y="8071"/>
                  <a:pt x="1935" y="8210"/>
                </a:cubicBezTo>
                <a:cubicBezTo>
                  <a:pt x="1946" y="8243"/>
                  <a:pt x="1935" y="8299"/>
                  <a:pt x="1935" y="8334"/>
                </a:cubicBezTo>
                <a:cubicBezTo>
                  <a:pt x="2009" y="8301"/>
                  <a:pt x="2079" y="8281"/>
                  <a:pt x="2158" y="82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9960" y="2625840"/>
            <a:ext cx="36360" cy="54000"/>
          </a:xfrm>
          <a:custGeom>
            <a:avLst/>
            <a:gdLst/>
            <a:ahLst/>
            <a:rect l="l" t="t" r="r" b="b"/>
            <a:pathLst>
              <a:path w="101" h="149">
                <a:moveTo>
                  <a:pt x="1860" y="7441"/>
                </a:moveTo>
                <a:cubicBezTo>
                  <a:pt x="1860" y="7371"/>
                  <a:pt x="1844" y="7353"/>
                  <a:pt x="1910" y="7317"/>
                </a:cubicBezTo>
                <a:cubicBezTo>
                  <a:pt x="1927" y="7309"/>
                  <a:pt x="1943" y="7301"/>
                  <a:pt x="1960" y="72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38200" y="2803680"/>
            <a:ext cx="1800" cy="18720"/>
          </a:xfrm>
          <a:custGeom>
            <a:avLst/>
            <a:gdLst/>
            <a:ahLst/>
            <a:rect l="l" t="t" r="r" b="b"/>
            <a:pathLst>
              <a:path w="1" h="50">
                <a:moveTo>
                  <a:pt x="3994" y="7789"/>
                </a:moveTo>
                <a:cubicBezTo>
                  <a:pt x="3994" y="7813"/>
                  <a:pt x="3994" y="7822"/>
                  <a:pt x="3994" y="78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57200" y="2724120"/>
            <a:ext cx="169920" cy="133560"/>
          </a:xfrm>
          <a:custGeom>
            <a:avLst/>
            <a:gdLst/>
            <a:ahLst/>
            <a:rect l="l" t="t" r="r" b="b"/>
            <a:pathLst>
              <a:path w="473" h="374">
                <a:moveTo>
                  <a:pt x="3870" y="7913"/>
                </a:moveTo>
                <a:cubicBezTo>
                  <a:pt x="3996" y="7937"/>
                  <a:pt x="4130" y="7970"/>
                  <a:pt x="4217" y="7838"/>
                </a:cubicBezTo>
                <a:cubicBezTo>
                  <a:pt x="4290" y="7726"/>
                  <a:pt x="4175" y="7593"/>
                  <a:pt x="4068" y="7565"/>
                </a:cubicBezTo>
                <a:cubicBezTo>
                  <a:pt x="3941" y="7531"/>
                  <a:pt x="3792" y="7671"/>
                  <a:pt x="3770" y="7789"/>
                </a:cubicBezTo>
                <a:cubicBezTo>
                  <a:pt x="3734" y="7977"/>
                  <a:pt x="3847" y="7927"/>
                  <a:pt x="3969" y="78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47840" y="2527200"/>
            <a:ext cx="54000" cy="54000"/>
          </a:xfrm>
          <a:custGeom>
            <a:avLst/>
            <a:gdLst/>
            <a:ahLst/>
            <a:rect l="l" t="t" r="r" b="b"/>
            <a:pathLst>
              <a:path w="149" h="150">
                <a:moveTo>
                  <a:pt x="3746" y="7119"/>
                </a:moveTo>
                <a:cubicBezTo>
                  <a:pt x="3746" y="7066"/>
                  <a:pt x="3757" y="7058"/>
                  <a:pt x="3795" y="7020"/>
                </a:cubicBezTo>
                <a:cubicBezTo>
                  <a:pt x="3787" y="7076"/>
                  <a:pt x="3739" y="7167"/>
                  <a:pt x="3770" y="7169"/>
                </a:cubicBezTo>
                <a:cubicBezTo>
                  <a:pt x="3838" y="7169"/>
                  <a:pt x="3857" y="7172"/>
                  <a:pt x="3894" y="71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76200" y="2446200"/>
            <a:ext cx="223920" cy="179640"/>
          </a:xfrm>
          <a:custGeom>
            <a:avLst/>
            <a:gdLst/>
            <a:ahLst/>
            <a:rect l="l" t="t" r="r" b="b"/>
            <a:pathLst>
              <a:path w="621" h="498">
                <a:moveTo>
                  <a:pt x="3621" y="7243"/>
                </a:moveTo>
                <a:cubicBezTo>
                  <a:pt x="3768" y="7302"/>
                  <a:pt x="3845" y="7305"/>
                  <a:pt x="3994" y="7243"/>
                </a:cubicBezTo>
                <a:cubicBezTo>
                  <a:pt x="4131" y="7186"/>
                  <a:pt x="4243" y="7055"/>
                  <a:pt x="4118" y="6921"/>
                </a:cubicBezTo>
                <a:cubicBezTo>
                  <a:pt x="3984" y="6778"/>
                  <a:pt x="3770" y="6747"/>
                  <a:pt x="3621" y="6896"/>
                </a:cubicBezTo>
                <a:cubicBezTo>
                  <a:pt x="3423" y="7094"/>
                  <a:pt x="3609" y="7236"/>
                  <a:pt x="3770" y="72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0800" y="3152880"/>
            <a:ext cx="63360" cy="347400"/>
          </a:xfrm>
          <a:custGeom>
            <a:avLst/>
            <a:gdLst/>
            <a:ahLst/>
            <a:rect l="l" t="t" r="r" b="b"/>
            <a:pathLst>
              <a:path w="175" h="968">
                <a:moveTo>
                  <a:pt x="2282" y="8756"/>
                </a:moveTo>
                <a:cubicBezTo>
                  <a:pt x="2305" y="8869"/>
                  <a:pt x="2338" y="8985"/>
                  <a:pt x="2356" y="9103"/>
                </a:cubicBezTo>
                <a:cubicBezTo>
                  <a:pt x="2386" y="9295"/>
                  <a:pt x="2421" y="9484"/>
                  <a:pt x="2456" y="9674"/>
                </a:cubicBezTo>
                <a:cubicBezTo>
                  <a:pt x="2456" y="9699"/>
                  <a:pt x="2456" y="9707"/>
                  <a:pt x="2456" y="97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82840" y="3268800"/>
            <a:ext cx="61920" cy="98280"/>
          </a:xfrm>
          <a:custGeom>
            <a:avLst/>
            <a:gdLst/>
            <a:ahLst/>
            <a:rect l="l" t="t" r="r" b="b"/>
            <a:pathLst>
              <a:path w="174" h="273">
                <a:moveTo>
                  <a:pt x="4142" y="9128"/>
                </a:moveTo>
                <a:cubicBezTo>
                  <a:pt x="4102" y="9128"/>
                  <a:pt x="4159" y="9086"/>
                  <a:pt x="4192" y="9079"/>
                </a:cubicBezTo>
                <a:cubicBezTo>
                  <a:pt x="4284" y="9059"/>
                  <a:pt x="4219" y="9137"/>
                  <a:pt x="4192" y="9178"/>
                </a:cubicBezTo>
                <a:cubicBezTo>
                  <a:pt x="4248" y="9178"/>
                  <a:pt x="4310" y="9170"/>
                  <a:pt x="4291" y="9252"/>
                </a:cubicBezTo>
                <a:cubicBezTo>
                  <a:pt x="4276" y="9316"/>
                  <a:pt x="4219" y="9326"/>
                  <a:pt x="4167" y="9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11200" y="3214800"/>
            <a:ext cx="214560" cy="196560"/>
          </a:xfrm>
          <a:custGeom>
            <a:avLst/>
            <a:gdLst/>
            <a:ahLst/>
            <a:rect l="l" t="t" r="r" b="b"/>
            <a:pathLst>
              <a:path w="596" h="546">
                <a:moveTo>
                  <a:pt x="4068" y="9426"/>
                </a:moveTo>
                <a:cubicBezTo>
                  <a:pt x="4135" y="9516"/>
                  <a:pt x="4278" y="9439"/>
                  <a:pt x="4366" y="9376"/>
                </a:cubicBezTo>
                <a:cubicBezTo>
                  <a:pt x="4451" y="9315"/>
                  <a:pt x="4555" y="9168"/>
                  <a:pt x="4514" y="9054"/>
                </a:cubicBezTo>
                <a:cubicBezTo>
                  <a:pt x="4475" y="8944"/>
                  <a:pt x="4285" y="8920"/>
                  <a:pt x="4192" y="8930"/>
                </a:cubicBezTo>
                <a:cubicBezTo>
                  <a:pt x="4059" y="8944"/>
                  <a:pt x="3949" y="9045"/>
                  <a:pt x="3919" y="9178"/>
                </a:cubicBezTo>
                <a:cubicBezTo>
                  <a:pt x="3871" y="9385"/>
                  <a:pt x="4022" y="9394"/>
                  <a:pt x="4167" y="93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38200" y="3027240"/>
            <a:ext cx="54000" cy="44640"/>
          </a:xfrm>
          <a:custGeom>
            <a:avLst/>
            <a:gdLst/>
            <a:ahLst/>
            <a:rect l="l" t="t" r="r" b="b"/>
            <a:pathLst>
              <a:path w="149" h="125">
                <a:moveTo>
                  <a:pt x="4018" y="8434"/>
                </a:moveTo>
                <a:cubicBezTo>
                  <a:pt x="4018" y="8370"/>
                  <a:pt x="3996" y="8513"/>
                  <a:pt x="3994" y="8533"/>
                </a:cubicBezTo>
                <a:cubicBezTo>
                  <a:pt x="4034" y="8533"/>
                  <a:pt x="4119" y="8531"/>
                  <a:pt x="4142" y="8508"/>
                </a:cubicBezTo>
                <a:cubicBezTo>
                  <a:pt x="4142" y="8500"/>
                  <a:pt x="4142" y="8491"/>
                  <a:pt x="4142" y="84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74840" y="2946240"/>
            <a:ext cx="206280" cy="216000"/>
          </a:xfrm>
          <a:custGeom>
            <a:avLst/>
            <a:gdLst/>
            <a:ahLst/>
            <a:rect l="l" t="t" r="r" b="b"/>
            <a:pathLst>
              <a:path w="571" h="596">
                <a:moveTo>
                  <a:pt x="3969" y="8731"/>
                </a:moveTo>
                <a:cubicBezTo>
                  <a:pt x="4070" y="8799"/>
                  <a:pt x="4176" y="8809"/>
                  <a:pt x="4291" y="8731"/>
                </a:cubicBezTo>
                <a:cubicBezTo>
                  <a:pt x="4425" y="8640"/>
                  <a:pt x="4413" y="8458"/>
                  <a:pt x="4341" y="8334"/>
                </a:cubicBezTo>
                <a:cubicBezTo>
                  <a:pt x="4262" y="8198"/>
                  <a:pt x="4027" y="8107"/>
                  <a:pt x="3894" y="8235"/>
                </a:cubicBezTo>
                <a:cubicBezTo>
                  <a:pt x="3759" y="8366"/>
                  <a:pt x="3828" y="8673"/>
                  <a:pt x="3994" y="8756"/>
                </a:cubicBezTo>
                <a:cubicBezTo>
                  <a:pt x="4027" y="8756"/>
                  <a:pt x="4060" y="8756"/>
                  <a:pt x="4093" y="87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tober 12, 20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80880" y="3560760"/>
            <a:ext cx="806616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Objective:  Students will order fractions and decimal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Objective:  Students will order fractions and dec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comparing with fractions, we’ll 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follow the same step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but we must 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rewrite the fractions as decimal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We can only compare like form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cc66"/>
                </a:solidFill>
                <a:uFillTx/>
                <a:latin typeface="Arial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Order the following numbers from least to greatest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0.426,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0.43,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n-US" sz="2600" spc="-1" strike="noStrike" u="sng">
                <a:solidFill>
                  <a:srgbClr val="00cc66"/>
                </a:solidFill>
                <a:uFillTx/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581280" y="4038480"/>
                <a:ext cx="6289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334120" y="4038480"/>
                <a:ext cx="457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1108080" y="3884760"/>
            <a:ext cx="4384800" cy="1965240"/>
          </a:xfrm>
          <a:custGeom>
            <a:avLst/>
            <a:gdLst/>
            <a:ahLst/>
            <a:rect l="l" t="t" r="r" b="b"/>
            <a:pathLst>
              <a:path w="12180" h="5458">
                <a:moveTo>
                  <a:pt x="3076" y="11286"/>
                </a:moveTo>
                <a:cubicBezTo>
                  <a:pt x="3195" y="11102"/>
                  <a:pt x="3340" y="11042"/>
                  <a:pt x="3547" y="10964"/>
                </a:cubicBezTo>
                <a:cubicBezTo>
                  <a:pt x="3604" y="10945"/>
                  <a:pt x="3611" y="10936"/>
                  <a:pt x="3646" y="10939"/>
                </a:cubicBezTo>
              </a:path>
              <a:path w="12180" h="5458">
                <a:moveTo>
                  <a:pt x="15230" y="10790"/>
                </a:moveTo>
                <a:cubicBezTo>
                  <a:pt x="15238" y="10798"/>
                  <a:pt x="15247" y="10807"/>
                  <a:pt x="15255" y="10815"/>
                </a:cubicBezTo>
              </a:path>
              <a:path w="12180" h="5458">
                <a:moveTo>
                  <a:pt x="15255" y="10815"/>
                </a:moveTo>
                <a:lnTo>
                  <a:pt x="15255" y="10815"/>
                </a:lnTo>
              </a:path>
              <a:path w="12180" h="5458">
                <a:moveTo>
                  <a:pt x="4266" y="13940"/>
                </a:moveTo>
                <a:lnTo>
                  <a:pt x="4266" y="13940"/>
                </a:lnTo>
              </a:path>
              <a:path w="12180" h="5458">
                <a:moveTo>
                  <a:pt x="4266" y="14709"/>
                </a:moveTo>
                <a:cubicBezTo>
                  <a:pt x="4266" y="14726"/>
                  <a:pt x="4266" y="14742"/>
                  <a:pt x="4266" y="14759"/>
                </a:cubicBezTo>
              </a:path>
              <a:path w="12180" h="5458">
                <a:moveTo>
                  <a:pt x="4415" y="15553"/>
                </a:moveTo>
                <a:lnTo>
                  <a:pt x="4415" y="15553"/>
                </a:lnTo>
                <a:lnTo>
                  <a:pt x="4415" y="15553"/>
                </a:lnTo>
              </a:path>
              <a:path w="12180" h="5458">
                <a:moveTo>
                  <a:pt x="4415" y="15553"/>
                </a:moveTo>
                <a:lnTo>
                  <a:pt x="4415" y="15553"/>
                </a:lnTo>
              </a:path>
              <a:path w="12180" h="5458">
                <a:moveTo>
                  <a:pt x="4539" y="16197"/>
                </a:moveTo>
                <a:cubicBezTo>
                  <a:pt x="4549" y="16238"/>
                  <a:pt x="4548" y="16237"/>
                  <a:pt x="4589" y="162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9000" y="3705120"/>
            <a:ext cx="312840" cy="563760"/>
          </a:xfrm>
          <a:custGeom>
            <a:avLst/>
            <a:gdLst/>
            <a:ahLst/>
            <a:rect l="l" t="t" r="r" b="b"/>
            <a:pathLst>
              <a:path w="869" h="1564">
                <a:moveTo>
                  <a:pt x="3051" y="10542"/>
                </a:moveTo>
                <a:cubicBezTo>
                  <a:pt x="3040" y="10668"/>
                  <a:pt x="3026" y="10787"/>
                  <a:pt x="3026" y="10914"/>
                </a:cubicBezTo>
                <a:cubicBezTo>
                  <a:pt x="3141" y="10897"/>
                  <a:pt x="3202" y="10873"/>
                  <a:pt x="3274" y="10790"/>
                </a:cubicBezTo>
                <a:cubicBezTo>
                  <a:pt x="3189" y="10738"/>
                  <a:pt x="3108" y="10810"/>
                  <a:pt x="3101" y="10914"/>
                </a:cubicBezTo>
                <a:cubicBezTo>
                  <a:pt x="3135" y="10950"/>
                  <a:pt x="3157" y="10953"/>
                  <a:pt x="3200" y="10914"/>
                </a:cubicBezTo>
              </a:path>
              <a:path w="869" h="1564">
                <a:moveTo>
                  <a:pt x="3398" y="10492"/>
                </a:moveTo>
                <a:cubicBezTo>
                  <a:pt x="3370" y="10520"/>
                  <a:pt x="3361" y="10534"/>
                  <a:pt x="3373" y="10567"/>
                </a:cubicBezTo>
                <a:cubicBezTo>
                  <a:pt x="3451" y="10567"/>
                  <a:pt x="3570" y="10542"/>
                  <a:pt x="3597" y="10641"/>
                </a:cubicBezTo>
                <a:cubicBezTo>
                  <a:pt x="3642" y="10805"/>
                  <a:pt x="3468" y="10739"/>
                  <a:pt x="3398" y="10716"/>
                </a:cubicBezTo>
              </a:path>
              <a:path w="869" h="1564">
                <a:moveTo>
                  <a:pt x="3398" y="10468"/>
                </a:moveTo>
                <a:cubicBezTo>
                  <a:pt x="3490" y="10390"/>
                  <a:pt x="3568" y="10306"/>
                  <a:pt x="3671" y="10319"/>
                </a:cubicBezTo>
              </a:path>
              <a:path w="869" h="1564">
                <a:moveTo>
                  <a:pt x="3225" y="11509"/>
                </a:moveTo>
                <a:cubicBezTo>
                  <a:pt x="3215" y="11626"/>
                  <a:pt x="3060" y="11883"/>
                  <a:pt x="3175" y="11857"/>
                </a:cubicBezTo>
                <a:cubicBezTo>
                  <a:pt x="3192" y="11840"/>
                  <a:pt x="3208" y="11824"/>
                  <a:pt x="3225" y="11807"/>
                </a:cubicBezTo>
              </a:path>
              <a:path w="869" h="1564">
                <a:moveTo>
                  <a:pt x="3448" y="11336"/>
                </a:moveTo>
                <a:cubicBezTo>
                  <a:pt x="3406" y="11456"/>
                  <a:pt x="3376" y="11514"/>
                  <a:pt x="3398" y="11633"/>
                </a:cubicBezTo>
                <a:cubicBezTo>
                  <a:pt x="3511" y="11577"/>
                  <a:pt x="3698" y="11484"/>
                  <a:pt x="3547" y="11361"/>
                </a:cubicBezTo>
                <a:cubicBezTo>
                  <a:pt x="3522" y="11344"/>
                  <a:pt x="3498" y="11328"/>
                  <a:pt x="3473" y="11311"/>
                </a:cubicBezTo>
              </a:path>
              <a:path w="869" h="1564">
                <a:moveTo>
                  <a:pt x="3696" y="11187"/>
                </a:moveTo>
                <a:cubicBezTo>
                  <a:pt x="3674" y="11316"/>
                  <a:pt x="3655" y="11348"/>
                  <a:pt x="3721" y="11410"/>
                </a:cubicBezTo>
                <a:cubicBezTo>
                  <a:pt x="3839" y="11380"/>
                  <a:pt x="4009" y="11235"/>
                  <a:pt x="3820" y="11137"/>
                </a:cubicBezTo>
                <a:cubicBezTo>
                  <a:pt x="3779" y="11129"/>
                  <a:pt x="3737" y="11120"/>
                  <a:pt x="3696" y="11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1000" y="4741920"/>
            <a:ext cx="990720" cy="1295280"/>
          </a:xfrm>
          <a:custGeom>
            <a:avLst/>
            <a:gdLst/>
            <a:ahLst/>
            <a:rect l="l" t="t" r="r" b="b"/>
            <a:pathLst>
              <a:path w="2754" h="3598">
                <a:moveTo>
                  <a:pt x="3795" y="13395"/>
                </a:moveTo>
                <a:cubicBezTo>
                  <a:pt x="3663" y="13427"/>
                  <a:pt x="3587" y="13667"/>
                  <a:pt x="3547" y="13767"/>
                </a:cubicBezTo>
                <a:cubicBezTo>
                  <a:pt x="3484" y="13958"/>
                  <a:pt x="3447" y="14001"/>
                  <a:pt x="3522" y="14114"/>
                </a:cubicBezTo>
                <a:cubicBezTo>
                  <a:pt x="3823" y="14102"/>
                  <a:pt x="4010" y="13974"/>
                  <a:pt x="3919" y="13618"/>
                </a:cubicBezTo>
                <a:cubicBezTo>
                  <a:pt x="3860" y="13539"/>
                  <a:pt x="3860" y="13506"/>
                  <a:pt x="3795" y="13519"/>
                </a:cubicBezTo>
              </a:path>
              <a:path w="2754" h="3598">
                <a:moveTo>
                  <a:pt x="4465" y="13419"/>
                </a:moveTo>
                <a:cubicBezTo>
                  <a:pt x="4465" y="13527"/>
                  <a:pt x="4465" y="13552"/>
                  <a:pt x="4465" y="13618"/>
                </a:cubicBezTo>
                <a:cubicBezTo>
                  <a:pt x="4632" y="13652"/>
                  <a:pt x="4692" y="13574"/>
                  <a:pt x="4787" y="13444"/>
                </a:cubicBezTo>
              </a:path>
              <a:path w="2754" h="3598">
                <a:moveTo>
                  <a:pt x="4688" y="13320"/>
                </a:moveTo>
                <a:cubicBezTo>
                  <a:pt x="4693" y="13470"/>
                  <a:pt x="4650" y="13779"/>
                  <a:pt x="4762" y="13742"/>
                </a:cubicBezTo>
              </a:path>
              <a:path w="2754" h="3598">
                <a:moveTo>
                  <a:pt x="4961" y="13246"/>
                </a:moveTo>
                <a:cubicBezTo>
                  <a:pt x="5120" y="13373"/>
                  <a:pt x="5365" y="13578"/>
                  <a:pt x="5135" y="13791"/>
                </a:cubicBezTo>
                <a:cubicBezTo>
                  <a:pt x="5030" y="13888"/>
                  <a:pt x="5001" y="13778"/>
                  <a:pt x="4986" y="13717"/>
                </a:cubicBezTo>
                <a:cubicBezTo>
                  <a:pt x="5087" y="13698"/>
                  <a:pt x="5160" y="13732"/>
                  <a:pt x="5259" y="13742"/>
                </a:cubicBezTo>
              </a:path>
              <a:path w="2754" h="3598">
                <a:moveTo>
                  <a:pt x="5407" y="13171"/>
                </a:moveTo>
                <a:cubicBezTo>
                  <a:pt x="5362" y="13344"/>
                  <a:pt x="5296" y="13541"/>
                  <a:pt x="5432" y="13692"/>
                </a:cubicBezTo>
                <a:cubicBezTo>
                  <a:pt x="5577" y="13853"/>
                  <a:pt x="5720" y="13653"/>
                  <a:pt x="5779" y="13543"/>
                </a:cubicBezTo>
                <a:cubicBezTo>
                  <a:pt x="5671" y="13592"/>
                  <a:pt x="5631" y="13668"/>
                  <a:pt x="5606" y="13791"/>
                </a:cubicBezTo>
              </a:path>
              <a:path w="2754" h="3598">
                <a:moveTo>
                  <a:pt x="3795" y="14461"/>
                </a:moveTo>
                <a:cubicBezTo>
                  <a:pt x="3682" y="14562"/>
                  <a:pt x="3523" y="14738"/>
                  <a:pt x="3597" y="14908"/>
                </a:cubicBezTo>
                <a:cubicBezTo>
                  <a:pt x="3622" y="14924"/>
                  <a:pt x="3646" y="14941"/>
                  <a:pt x="3671" y="14957"/>
                </a:cubicBezTo>
                <a:cubicBezTo>
                  <a:pt x="3849" y="14869"/>
                  <a:pt x="4066" y="14757"/>
                  <a:pt x="3870" y="14536"/>
                </a:cubicBezTo>
                <a:cubicBezTo>
                  <a:pt x="3768" y="14421"/>
                  <a:pt x="3788" y="14560"/>
                  <a:pt x="3795" y="14585"/>
                </a:cubicBezTo>
              </a:path>
              <a:path w="2754" h="3598">
                <a:moveTo>
                  <a:pt x="4812" y="14163"/>
                </a:moveTo>
                <a:cubicBezTo>
                  <a:pt x="4785" y="14297"/>
                  <a:pt x="4713" y="14414"/>
                  <a:pt x="4713" y="14560"/>
                </a:cubicBezTo>
                <a:cubicBezTo>
                  <a:pt x="4721" y="14593"/>
                  <a:pt x="4730" y="14627"/>
                  <a:pt x="4738" y="14660"/>
                </a:cubicBezTo>
                <a:cubicBezTo>
                  <a:pt x="4911" y="14691"/>
                  <a:pt x="4940" y="14638"/>
                  <a:pt x="5011" y="14486"/>
                </a:cubicBezTo>
                <a:cubicBezTo>
                  <a:pt x="4979" y="14506"/>
                  <a:pt x="4796" y="14750"/>
                  <a:pt x="4911" y="14709"/>
                </a:cubicBezTo>
                <a:cubicBezTo>
                  <a:pt x="4944" y="14684"/>
                  <a:pt x="4978" y="14660"/>
                  <a:pt x="5011" y="14635"/>
                </a:cubicBezTo>
              </a:path>
              <a:path w="2754" h="3598">
                <a:moveTo>
                  <a:pt x="5308" y="14114"/>
                </a:moveTo>
                <a:cubicBezTo>
                  <a:pt x="5248" y="14119"/>
                  <a:pt x="5121" y="14112"/>
                  <a:pt x="5110" y="14188"/>
                </a:cubicBezTo>
                <a:cubicBezTo>
                  <a:pt x="5100" y="14261"/>
                  <a:pt x="5111" y="14285"/>
                  <a:pt x="5184" y="14288"/>
                </a:cubicBezTo>
                <a:cubicBezTo>
                  <a:pt x="5318" y="14293"/>
                  <a:pt x="5470" y="14368"/>
                  <a:pt x="5383" y="14536"/>
                </a:cubicBezTo>
                <a:cubicBezTo>
                  <a:pt x="5314" y="14669"/>
                  <a:pt x="5230" y="14598"/>
                  <a:pt x="5135" y="14560"/>
                </a:cubicBezTo>
              </a:path>
              <a:path w="2754" h="3598">
                <a:moveTo>
                  <a:pt x="3870" y="15205"/>
                </a:moveTo>
                <a:cubicBezTo>
                  <a:pt x="3802" y="15171"/>
                  <a:pt x="3681" y="15479"/>
                  <a:pt x="3671" y="15577"/>
                </a:cubicBezTo>
                <a:cubicBezTo>
                  <a:pt x="3679" y="15610"/>
                  <a:pt x="3688" y="15644"/>
                  <a:pt x="3696" y="15677"/>
                </a:cubicBezTo>
                <a:cubicBezTo>
                  <a:pt x="3882" y="15657"/>
                  <a:pt x="4141" y="15640"/>
                  <a:pt x="4043" y="15379"/>
                </a:cubicBezTo>
                <a:cubicBezTo>
                  <a:pt x="3994" y="15248"/>
                  <a:pt x="3919" y="15304"/>
                  <a:pt x="3870" y="15354"/>
                </a:cubicBezTo>
              </a:path>
              <a:path w="2754" h="3598">
                <a:moveTo>
                  <a:pt x="4762" y="15131"/>
                </a:moveTo>
                <a:cubicBezTo>
                  <a:pt x="4762" y="15181"/>
                  <a:pt x="4762" y="15230"/>
                  <a:pt x="4762" y="15280"/>
                </a:cubicBezTo>
                <a:cubicBezTo>
                  <a:pt x="4901" y="15280"/>
                  <a:pt x="4951" y="15258"/>
                  <a:pt x="5060" y="15180"/>
                </a:cubicBezTo>
              </a:path>
              <a:path w="2754" h="3598">
                <a:moveTo>
                  <a:pt x="4961" y="15007"/>
                </a:moveTo>
                <a:cubicBezTo>
                  <a:pt x="4971" y="15173"/>
                  <a:pt x="4986" y="15336"/>
                  <a:pt x="4986" y="15503"/>
                </a:cubicBezTo>
              </a:path>
              <a:path w="2754" h="3598">
                <a:moveTo>
                  <a:pt x="5209" y="14957"/>
                </a:moveTo>
                <a:cubicBezTo>
                  <a:pt x="5261" y="14941"/>
                  <a:pt x="5496" y="14911"/>
                  <a:pt x="5407" y="15056"/>
                </a:cubicBezTo>
                <a:cubicBezTo>
                  <a:pt x="5342" y="15100"/>
                  <a:pt x="5328" y="15111"/>
                  <a:pt x="5283" y="15131"/>
                </a:cubicBezTo>
                <a:cubicBezTo>
                  <a:pt x="5380" y="15131"/>
                  <a:pt x="5501" y="15142"/>
                  <a:pt x="5457" y="15280"/>
                </a:cubicBezTo>
                <a:cubicBezTo>
                  <a:pt x="5399" y="15461"/>
                  <a:pt x="5281" y="15405"/>
                  <a:pt x="5159" y="15379"/>
                </a:cubicBezTo>
              </a:path>
              <a:path w="2754" h="3598">
                <a:moveTo>
                  <a:pt x="4068" y="15925"/>
                </a:moveTo>
                <a:cubicBezTo>
                  <a:pt x="4021" y="16065"/>
                  <a:pt x="3905" y="16166"/>
                  <a:pt x="3870" y="16321"/>
                </a:cubicBezTo>
                <a:cubicBezTo>
                  <a:pt x="3870" y="16354"/>
                  <a:pt x="3870" y="16388"/>
                  <a:pt x="3870" y="16421"/>
                </a:cubicBezTo>
                <a:cubicBezTo>
                  <a:pt x="4067" y="16457"/>
                  <a:pt x="4200" y="16344"/>
                  <a:pt x="4192" y="16123"/>
                </a:cubicBezTo>
                <a:cubicBezTo>
                  <a:pt x="4189" y="16035"/>
                  <a:pt x="4085" y="15874"/>
                  <a:pt x="4018" y="15974"/>
                </a:cubicBezTo>
              </a:path>
              <a:path w="2754" h="3598">
                <a:moveTo>
                  <a:pt x="4936" y="15850"/>
                </a:moveTo>
                <a:cubicBezTo>
                  <a:pt x="4936" y="15900"/>
                  <a:pt x="4936" y="15949"/>
                  <a:pt x="4936" y="15999"/>
                </a:cubicBezTo>
                <a:cubicBezTo>
                  <a:pt x="5010" y="15999"/>
                  <a:pt x="5191" y="16037"/>
                  <a:pt x="5184" y="15925"/>
                </a:cubicBezTo>
                <a:cubicBezTo>
                  <a:pt x="5176" y="15908"/>
                  <a:pt x="5167" y="15892"/>
                  <a:pt x="5159" y="15875"/>
                </a:cubicBezTo>
              </a:path>
              <a:path w="2754" h="3598">
                <a:moveTo>
                  <a:pt x="5060" y="15726"/>
                </a:moveTo>
                <a:cubicBezTo>
                  <a:pt x="5073" y="15909"/>
                  <a:pt x="5090" y="16091"/>
                  <a:pt x="5110" y="16272"/>
                </a:cubicBezTo>
                <a:cubicBezTo>
                  <a:pt x="5110" y="16297"/>
                  <a:pt x="5110" y="16305"/>
                  <a:pt x="5110" y="16272"/>
                </a:cubicBezTo>
              </a:path>
              <a:path w="2754" h="3598">
                <a:moveTo>
                  <a:pt x="5631" y="14114"/>
                </a:moveTo>
                <a:cubicBezTo>
                  <a:pt x="5592" y="14127"/>
                  <a:pt x="5564" y="14154"/>
                  <a:pt x="5531" y="14213"/>
                </a:cubicBezTo>
                <a:cubicBezTo>
                  <a:pt x="5431" y="14391"/>
                  <a:pt x="5424" y="14431"/>
                  <a:pt x="5507" y="14585"/>
                </a:cubicBezTo>
                <a:cubicBezTo>
                  <a:pt x="5613" y="14521"/>
                  <a:pt x="5860" y="14335"/>
                  <a:pt x="5655" y="14188"/>
                </a:cubicBezTo>
                <a:cubicBezTo>
                  <a:pt x="5587" y="14188"/>
                  <a:pt x="5568" y="14185"/>
                  <a:pt x="5531" y="14213"/>
                </a:cubicBezTo>
              </a:path>
              <a:path w="2754" h="3598">
                <a:moveTo>
                  <a:pt x="5779" y="14883"/>
                </a:moveTo>
                <a:cubicBezTo>
                  <a:pt x="5707" y="14908"/>
                  <a:pt x="5667" y="15047"/>
                  <a:pt x="5655" y="15131"/>
                </a:cubicBezTo>
                <a:cubicBezTo>
                  <a:pt x="5655" y="15244"/>
                  <a:pt x="5645" y="15279"/>
                  <a:pt x="5730" y="15304"/>
                </a:cubicBezTo>
                <a:cubicBezTo>
                  <a:pt x="5888" y="15262"/>
                  <a:pt x="5999" y="15095"/>
                  <a:pt x="5829" y="14932"/>
                </a:cubicBezTo>
                <a:cubicBezTo>
                  <a:pt x="5761" y="14932"/>
                  <a:pt x="5742" y="14929"/>
                  <a:pt x="5705" y="14957"/>
                </a:cubicBezTo>
              </a:path>
              <a:path w="2754" h="3598">
                <a:moveTo>
                  <a:pt x="5507" y="15776"/>
                </a:moveTo>
                <a:cubicBezTo>
                  <a:pt x="5459" y="15752"/>
                  <a:pt x="5444" y="15744"/>
                  <a:pt x="5407" y="15751"/>
                </a:cubicBezTo>
                <a:cubicBezTo>
                  <a:pt x="5363" y="15898"/>
                  <a:pt x="5338" y="15921"/>
                  <a:pt x="5407" y="16049"/>
                </a:cubicBezTo>
                <a:cubicBezTo>
                  <a:pt x="5506" y="16034"/>
                  <a:pt x="5732" y="15998"/>
                  <a:pt x="5655" y="15850"/>
                </a:cubicBezTo>
                <a:cubicBezTo>
                  <a:pt x="5631" y="15803"/>
                  <a:pt x="5457" y="15776"/>
                  <a:pt x="5507" y="15776"/>
                </a:cubicBezTo>
              </a:path>
              <a:path w="2754" h="3598">
                <a:moveTo>
                  <a:pt x="5953" y="15677"/>
                </a:moveTo>
                <a:cubicBezTo>
                  <a:pt x="5880" y="15770"/>
                  <a:pt x="5885" y="15844"/>
                  <a:pt x="5879" y="15974"/>
                </a:cubicBezTo>
                <a:cubicBezTo>
                  <a:pt x="6071" y="16002"/>
                  <a:pt x="6138" y="15965"/>
                  <a:pt x="6226" y="15801"/>
                </a:cubicBezTo>
                <a:cubicBezTo>
                  <a:pt x="6127" y="15666"/>
                  <a:pt x="6060" y="15573"/>
                  <a:pt x="5904" y="15652"/>
                </a:cubicBezTo>
              </a:path>
              <a:path w="2754" h="3598">
                <a:moveTo>
                  <a:pt x="3721" y="13271"/>
                </a:moveTo>
                <a:cubicBezTo>
                  <a:pt x="3711" y="13359"/>
                  <a:pt x="3696" y="13488"/>
                  <a:pt x="3696" y="13593"/>
                </a:cubicBezTo>
                <a:cubicBezTo>
                  <a:pt x="3696" y="13764"/>
                  <a:pt x="3734" y="13946"/>
                  <a:pt x="3770" y="14114"/>
                </a:cubicBezTo>
                <a:cubicBezTo>
                  <a:pt x="3797" y="14241"/>
                  <a:pt x="3807" y="14360"/>
                  <a:pt x="3845" y="14486"/>
                </a:cubicBezTo>
                <a:cubicBezTo>
                  <a:pt x="3877" y="14591"/>
                  <a:pt x="3909" y="14709"/>
                  <a:pt x="3944" y="14808"/>
                </a:cubicBezTo>
                <a:cubicBezTo>
                  <a:pt x="3989" y="14937"/>
                  <a:pt x="4017" y="15079"/>
                  <a:pt x="4068" y="15205"/>
                </a:cubicBezTo>
                <a:cubicBezTo>
                  <a:pt x="4135" y="15371"/>
                  <a:pt x="4196" y="15550"/>
                  <a:pt x="4242" y="15726"/>
                </a:cubicBezTo>
                <a:cubicBezTo>
                  <a:pt x="4288" y="15900"/>
                  <a:pt x="4347" y="16073"/>
                  <a:pt x="4390" y="16247"/>
                </a:cubicBezTo>
                <a:cubicBezTo>
                  <a:pt x="4430" y="16412"/>
                  <a:pt x="4457" y="16562"/>
                  <a:pt x="4514" y="16718"/>
                </a:cubicBezTo>
                <a:cubicBezTo>
                  <a:pt x="4523" y="16741"/>
                  <a:pt x="4506" y="16719"/>
                  <a:pt x="4514" y="167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62080" y="4606920"/>
            <a:ext cx="384120" cy="1108080"/>
          </a:xfrm>
          <a:custGeom>
            <a:avLst/>
            <a:gdLst/>
            <a:ahLst/>
            <a:rect l="l" t="t" r="r" b="b"/>
            <a:pathLst>
              <a:path w="1067" h="3077">
                <a:moveTo>
                  <a:pt x="6424" y="15602"/>
                </a:moveTo>
                <a:cubicBezTo>
                  <a:pt x="6424" y="15594"/>
                  <a:pt x="6424" y="15585"/>
                  <a:pt x="6424" y="15577"/>
                </a:cubicBezTo>
                <a:cubicBezTo>
                  <a:pt x="6473" y="15565"/>
                  <a:pt x="6502" y="15522"/>
                  <a:pt x="6548" y="15503"/>
                </a:cubicBezTo>
              </a:path>
              <a:path w="1067" h="3077">
                <a:moveTo>
                  <a:pt x="6499" y="15478"/>
                </a:moveTo>
                <a:cubicBezTo>
                  <a:pt x="6471" y="15549"/>
                  <a:pt x="6509" y="15660"/>
                  <a:pt x="6524" y="15751"/>
                </a:cubicBezTo>
                <a:cubicBezTo>
                  <a:pt x="6524" y="15776"/>
                  <a:pt x="6524" y="15784"/>
                  <a:pt x="6524" y="15751"/>
                </a:cubicBezTo>
              </a:path>
              <a:path w="1067" h="3077">
                <a:moveTo>
                  <a:pt x="6598" y="15354"/>
                </a:moveTo>
                <a:cubicBezTo>
                  <a:pt x="6555" y="15267"/>
                  <a:pt x="6492" y="15299"/>
                  <a:pt x="6449" y="15404"/>
                </a:cubicBezTo>
                <a:cubicBezTo>
                  <a:pt x="6374" y="15589"/>
                  <a:pt x="6393" y="15728"/>
                  <a:pt x="6499" y="15875"/>
                </a:cubicBezTo>
                <a:cubicBezTo>
                  <a:pt x="6659" y="15825"/>
                  <a:pt x="6765" y="15787"/>
                  <a:pt x="6796" y="15602"/>
                </a:cubicBezTo>
                <a:cubicBezTo>
                  <a:pt x="6821" y="15449"/>
                  <a:pt x="6676" y="15384"/>
                  <a:pt x="6548" y="15354"/>
                </a:cubicBezTo>
                <a:cubicBezTo>
                  <a:pt x="6532" y="15354"/>
                  <a:pt x="6515" y="15354"/>
                  <a:pt x="6499" y="15354"/>
                </a:cubicBezTo>
              </a:path>
              <a:path w="1067" h="3077">
                <a:moveTo>
                  <a:pt x="5829" y="13122"/>
                </a:moveTo>
                <a:cubicBezTo>
                  <a:pt x="5836" y="13100"/>
                  <a:pt x="5887" y="13060"/>
                  <a:pt x="5904" y="13047"/>
                </a:cubicBezTo>
                <a:cubicBezTo>
                  <a:pt x="5920" y="13039"/>
                  <a:pt x="5937" y="13030"/>
                  <a:pt x="5953" y="13022"/>
                </a:cubicBezTo>
                <a:cubicBezTo>
                  <a:pt x="5972" y="13177"/>
                  <a:pt x="5945" y="13268"/>
                  <a:pt x="5904" y="13419"/>
                </a:cubicBezTo>
                <a:cubicBezTo>
                  <a:pt x="5970" y="13403"/>
                  <a:pt x="6068" y="13333"/>
                  <a:pt x="6127" y="13295"/>
                </a:cubicBezTo>
                <a:cubicBezTo>
                  <a:pt x="6135" y="13287"/>
                  <a:pt x="6144" y="13279"/>
                  <a:pt x="6152" y="13271"/>
                </a:cubicBezTo>
              </a:path>
              <a:path w="1067" h="3077">
                <a:moveTo>
                  <a:pt x="5829" y="13543"/>
                </a:moveTo>
                <a:cubicBezTo>
                  <a:pt x="5932" y="13626"/>
                  <a:pt x="6133" y="13590"/>
                  <a:pt x="6251" y="13494"/>
                </a:cubicBezTo>
                <a:cubicBezTo>
                  <a:pt x="6452" y="13330"/>
                  <a:pt x="6494" y="13024"/>
                  <a:pt x="6251" y="12874"/>
                </a:cubicBezTo>
                <a:cubicBezTo>
                  <a:pt x="6077" y="12767"/>
                  <a:pt x="5774" y="12746"/>
                  <a:pt x="5730" y="12998"/>
                </a:cubicBezTo>
                <a:cubicBezTo>
                  <a:pt x="5662" y="13386"/>
                  <a:pt x="5796" y="13541"/>
                  <a:pt x="6127" y="13519"/>
                </a:cubicBezTo>
              </a:path>
              <a:path w="1067" h="3077">
                <a:moveTo>
                  <a:pt x="6276" y="14784"/>
                </a:moveTo>
                <a:cubicBezTo>
                  <a:pt x="6306" y="14724"/>
                  <a:pt x="6343" y="14697"/>
                  <a:pt x="6400" y="14660"/>
                </a:cubicBezTo>
                <a:cubicBezTo>
                  <a:pt x="6400" y="14753"/>
                  <a:pt x="6393" y="14749"/>
                  <a:pt x="6350" y="14833"/>
                </a:cubicBezTo>
                <a:cubicBezTo>
                  <a:pt x="6423" y="14833"/>
                  <a:pt x="6577" y="14874"/>
                  <a:pt x="6474" y="14982"/>
                </a:cubicBezTo>
                <a:cubicBezTo>
                  <a:pt x="6456" y="15001"/>
                  <a:pt x="6362" y="15047"/>
                  <a:pt x="6325" y="15056"/>
                </a:cubicBezTo>
              </a:path>
              <a:path w="1067" h="3077">
                <a:moveTo>
                  <a:pt x="6201" y="15280"/>
                </a:moveTo>
                <a:cubicBezTo>
                  <a:pt x="6446" y="15241"/>
                  <a:pt x="6613" y="15163"/>
                  <a:pt x="6697" y="14908"/>
                </a:cubicBezTo>
                <a:cubicBezTo>
                  <a:pt x="6773" y="14677"/>
                  <a:pt x="6677" y="14436"/>
                  <a:pt x="6400" y="14436"/>
                </a:cubicBezTo>
                <a:cubicBezTo>
                  <a:pt x="6090" y="14436"/>
                  <a:pt x="6038" y="14859"/>
                  <a:pt x="6201" y="15056"/>
                </a:cubicBezTo>
                <a:cubicBezTo>
                  <a:pt x="6234" y="15064"/>
                  <a:pt x="6267" y="15073"/>
                  <a:pt x="6300" y="15081"/>
                </a:cubicBezTo>
              </a:path>
              <a:path w="1067" h="3077">
                <a:moveTo>
                  <a:pt x="5904" y="14015"/>
                </a:moveTo>
                <a:cubicBezTo>
                  <a:pt x="5904" y="14107"/>
                  <a:pt x="5930" y="14089"/>
                  <a:pt x="6028" y="14064"/>
                </a:cubicBezTo>
                <a:cubicBezTo>
                  <a:pt x="6085" y="14045"/>
                  <a:pt x="6110" y="14054"/>
                  <a:pt x="6102" y="14015"/>
                </a:cubicBezTo>
              </a:path>
              <a:path w="1067" h="3077">
                <a:moveTo>
                  <a:pt x="5953" y="14436"/>
                </a:moveTo>
                <a:cubicBezTo>
                  <a:pt x="6161" y="14464"/>
                  <a:pt x="6343" y="14377"/>
                  <a:pt x="6400" y="14139"/>
                </a:cubicBezTo>
                <a:cubicBezTo>
                  <a:pt x="6464" y="13871"/>
                  <a:pt x="6293" y="13575"/>
                  <a:pt x="5978" y="13692"/>
                </a:cubicBezTo>
                <a:cubicBezTo>
                  <a:pt x="5506" y="13866"/>
                  <a:pt x="5901" y="14328"/>
                  <a:pt x="6077" y="145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7240" y="4054320"/>
            <a:ext cx="1849680" cy="1071720"/>
          </a:xfrm>
          <a:custGeom>
            <a:avLst/>
            <a:gdLst/>
            <a:ahLst/>
            <a:rect l="l" t="t" r="r" b="b"/>
            <a:pathLst>
              <a:path w="5136" h="2978">
                <a:moveTo>
                  <a:pt x="1935" y="11584"/>
                </a:moveTo>
                <a:cubicBezTo>
                  <a:pt x="1929" y="11684"/>
                  <a:pt x="1917" y="11781"/>
                  <a:pt x="1910" y="11881"/>
                </a:cubicBezTo>
              </a:path>
              <a:path w="5136" h="2978">
                <a:moveTo>
                  <a:pt x="2108" y="11435"/>
                </a:moveTo>
                <a:cubicBezTo>
                  <a:pt x="2180" y="11371"/>
                  <a:pt x="2259" y="11320"/>
                  <a:pt x="2332" y="11261"/>
                </a:cubicBezTo>
              </a:path>
              <a:path w="5136" h="2978">
                <a:moveTo>
                  <a:pt x="2208" y="11609"/>
                </a:moveTo>
                <a:cubicBezTo>
                  <a:pt x="2271" y="11588"/>
                  <a:pt x="2344" y="11542"/>
                  <a:pt x="2406" y="11509"/>
                </a:cubicBezTo>
              </a:path>
              <a:path w="5136" h="2978">
                <a:moveTo>
                  <a:pt x="2629" y="11336"/>
                </a:moveTo>
                <a:cubicBezTo>
                  <a:pt x="2696" y="11297"/>
                  <a:pt x="2727" y="11274"/>
                  <a:pt x="2803" y="11261"/>
                </a:cubicBezTo>
              </a:path>
              <a:path w="5136" h="2978">
                <a:moveTo>
                  <a:pt x="2654" y="11509"/>
                </a:moveTo>
                <a:cubicBezTo>
                  <a:pt x="2772" y="11428"/>
                  <a:pt x="2818" y="11378"/>
                  <a:pt x="2902" y="11261"/>
                </a:cubicBezTo>
              </a:path>
              <a:path w="5136" h="2978">
                <a:moveTo>
                  <a:pt x="2902" y="11261"/>
                </a:moveTo>
                <a:lnTo>
                  <a:pt x="2902" y="11261"/>
                </a:lnTo>
              </a:path>
              <a:path w="5136" h="2978">
                <a:moveTo>
                  <a:pt x="6052" y="13940"/>
                </a:moveTo>
                <a:cubicBezTo>
                  <a:pt x="6085" y="14048"/>
                  <a:pt x="6113" y="14127"/>
                  <a:pt x="6127" y="14238"/>
                </a:cubicBezTo>
              </a:path>
              <a:path w="5136" h="2978">
                <a:moveTo>
                  <a:pt x="7045" y="12774"/>
                </a:moveTo>
                <a:cubicBezTo>
                  <a:pt x="7020" y="12774"/>
                  <a:pt x="7012" y="12774"/>
                  <a:pt x="7020" y="12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44920" y="3697200"/>
            <a:ext cx="519120" cy="223920"/>
          </a:xfrm>
          <a:custGeom>
            <a:avLst/>
            <a:gdLst/>
            <a:ahLst/>
            <a:rect l="l" t="t" r="r" b="b"/>
            <a:pathLst>
              <a:path w="1440" h="621">
                <a:moveTo>
                  <a:pt x="10071" y="10492"/>
                </a:moveTo>
                <a:cubicBezTo>
                  <a:pt x="9961" y="10614"/>
                  <a:pt x="9881" y="10708"/>
                  <a:pt x="9847" y="10864"/>
                </a:cubicBezTo>
                <a:cubicBezTo>
                  <a:pt x="10010" y="10878"/>
                  <a:pt x="10162" y="10809"/>
                  <a:pt x="10195" y="10616"/>
                </a:cubicBezTo>
                <a:cubicBezTo>
                  <a:pt x="10210" y="10531"/>
                  <a:pt x="10064" y="10522"/>
                  <a:pt x="10021" y="10517"/>
                </a:cubicBezTo>
                <a:cubicBezTo>
                  <a:pt x="10021" y="10564"/>
                  <a:pt x="10039" y="10584"/>
                  <a:pt x="10096" y="10592"/>
                </a:cubicBezTo>
              </a:path>
              <a:path w="1440" h="621">
                <a:moveTo>
                  <a:pt x="10368" y="10691"/>
                </a:moveTo>
                <a:cubicBezTo>
                  <a:pt x="10344" y="10724"/>
                  <a:pt x="10324" y="10833"/>
                  <a:pt x="10393" y="10716"/>
                </a:cubicBezTo>
                <a:cubicBezTo>
                  <a:pt x="10393" y="10708"/>
                  <a:pt x="10393" y="10699"/>
                  <a:pt x="10393" y="10691"/>
                </a:cubicBezTo>
              </a:path>
              <a:path w="1440" h="621">
                <a:moveTo>
                  <a:pt x="10567" y="10319"/>
                </a:moveTo>
                <a:cubicBezTo>
                  <a:pt x="10567" y="10459"/>
                  <a:pt x="10567" y="10600"/>
                  <a:pt x="10567" y="10740"/>
                </a:cubicBezTo>
                <a:cubicBezTo>
                  <a:pt x="10650" y="10763"/>
                  <a:pt x="10853" y="10799"/>
                  <a:pt x="10889" y="10666"/>
                </a:cubicBezTo>
                <a:cubicBezTo>
                  <a:pt x="10881" y="10649"/>
                  <a:pt x="10872" y="10633"/>
                  <a:pt x="10864" y="10616"/>
                </a:cubicBezTo>
                <a:cubicBezTo>
                  <a:pt x="10802" y="10624"/>
                  <a:pt x="10644" y="10699"/>
                  <a:pt x="10716" y="10790"/>
                </a:cubicBezTo>
                <a:cubicBezTo>
                  <a:pt x="10732" y="10790"/>
                  <a:pt x="10749" y="10790"/>
                  <a:pt x="10765" y="10790"/>
                </a:cubicBezTo>
              </a:path>
              <a:path w="1440" h="621">
                <a:moveTo>
                  <a:pt x="11162" y="10269"/>
                </a:moveTo>
                <a:cubicBezTo>
                  <a:pt x="11090" y="10288"/>
                  <a:pt x="10997" y="10300"/>
                  <a:pt x="10964" y="10344"/>
                </a:cubicBezTo>
                <a:cubicBezTo>
                  <a:pt x="10922" y="10398"/>
                  <a:pt x="10921" y="10451"/>
                  <a:pt x="10914" y="10517"/>
                </a:cubicBezTo>
                <a:cubicBezTo>
                  <a:pt x="11003" y="10517"/>
                  <a:pt x="11075" y="10443"/>
                  <a:pt x="11162" y="10468"/>
                </a:cubicBezTo>
                <a:cubicBezTo>
                  <a:pt x="11276" y="10500"/>
                  <a:pt x="11363" y="10725"/>
                  <a:pt x="11212" y="10765"/>
                </a:cubicBezTo>
                <a:cubicBezTo>
                  <a:pt x="11081" y="10765"/>
                  <a:pt x="11034" y="10762"/>
                  <a:pt x="10964" y="106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03880" y="3670200"/>
            <a:ext cx="1474920" cy="277920"/>
          </a:xfrm>
          <a:custGeom>
            <a:avLst/>
            <a:gdLst/>
            <a:ahLst/>
            <a:rect l="l" t="t" r="r" b="b"/>
            <a:pathLst>
              <a:path w="4094" h="770">
                <a:moveTo>
                  <a:pt x="15081" y="10517"/>
                </a:moveTo>
                <a:cubicBezTo>
                  <a:pt x="14930" y="10542"/>
                  <a:pt x="14853" y="10660"/>
                  <a:pt x="14784" y="10790"/>
                </a:cubicBezTo>
                <a:cubicBezTo>
                  <a:pt x="14767" y="10831"/>
                  <a:pt x="14751" y="10873"/>
                  <a:pt x="14734" y="10914"/>
                </a:cubicBezTo>
                <a:cubicBezTo>
                  <a:pt x="14901" y="10986"/>
                  <a:pt x="15089" y="10971"/>
                  <a:pt x="15131" y="10740"/>
                </a:cubicBezTo>
                <a:cubicBezTo>
                  <a:pt x="15150" y="10633"/>
                  <a:pt x="15015" y="10584"/>
                  <a:pt x="14982" y="10616"/>
                </a:cubicBezTo>
              </a:path>
              <a:path w="4094" h="770">
                <a:moveTo>
                  <a:pt x="15503" y="10443"/>
                </a:moveTo>
                <a:cubicBezTo>
                  <a:pt x="15489" y="10511"/>
                  <a:pt x="15478" y="10565"/>
                  <a:pt x="15478" y="10641"/>
                </a:cubicBezTo>
                <a:cubicBezTo>
                  <a:pt x="15560" y="10641"/>
                  <a:pt x="15622" y="10634"/>
                  <a:pt x="15701" y="10616"/>
                </a:cubicBezTo>
              </a:path>
              <a:path w="4094" h="770">
                <a:moveTo>
                  <a:pt x="15577" y="10344"/>
                </a:moveTo>
                <a:cubicBezTo>
                  <a:pt x="15570" y="10528"/>
                  <a:pt x="15540" y="10706"/>
                  <a:pt x="15528" y="10889"/>
                </a:cubicBezTo>
              </a:path>
              <a:path w="4094" h="770">
                <a:moveTo>
                  <a:pt x="16570" y="10368"/>
                </a:moveTo>
                <a:cubicBezTo>
                  <a:pt x="16675" y="10387"/>
                  <a:pt x="16748" y="10347"/>
                  <a:pt x="16867" y="10319"/>
                </a:cubicBezTo>
                <a:cubicBezTo>
                  <a:pt x="17054" y="10274"/>
                  <a:pt x="17247" y="10248"/>
                  <a:pt x="17438" y="10244"/>
                </a:cubicBezTo>
                <a:cubicBezTo>
                  <a:pt x="17803" y="10237"/>
                  <a:pt x="18167" y="10241"/>
                  <a:pt x="18529" y="10220"/>
                </a:cubicBezTo>
                <a:cubicBezTo>
                  <a:pt x="18632" y="10214"/>
                  <a:pt x="19015" y="10280"/>
                  <a:pt x="18678" y="101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32080" y="5500800"/>
            <a:ext cx="1393920" cy="250560"/>
          </a:xfrm>
          <a:custGeom>
            <a:avLst/>
            <a:gdLst/>
            <a:ahLst/>
            <a:rect l="l" t="t" r="r" b="b"/>
            <a:pathLst>
              <a:path w="3871" h="695">
                <a:moveTo>
                  <a:pt x="8979" y="15677"/>
                </a:moveTo>
                <a:lnTo>
                  <a:pt x="8979" y="15677"/>
                </a:lnTo>
                <a:lnTo>
                  <a:pt x="8979" y="15677"/>
                </a:lnTo>
              </a:path>
              <a:path w="3871" h="695">
                <a:moveTo>
                  <a:pt x="8979" y="15677"/>
                </a:moveTo>
                <a:lnTo>
                  <a:pt x="8979" y="15677"/>
                </a:lnTo>
              </a:path>
              <a:path w="3871" h="695">
                <a:moveTo>
                  <a:pt x="10418" y="15652"/>
                </a:moveTo>
                <a:cubicBezTo>
                  <a:pt x="10418" y="15660"/>
                  <a:pt x="10418" y="15669"/>
                  <a:pt x="10418" y="15677"/>
                </a:cubicBezTo>
              </a:path>
              <a:path w="3871" h="695">
                <a:moveTo>
                  <a:pt x="10740" y="15280"/>
                </a:moveTo>
                <a:cubicBezTo>
                  <a:pt x="10707" y="15370"/>
                  <a:pt x="10679" y="15435"/>
                  <a:pt x="10666" y="15528"/>
                </a:cubicBezTo>
                <a:cubicBezTo>
                  <a:pt x="10809" y="15520"/>
                  <a:pt x="10833" y="15529"/>
                  <a:pt x="10914" y="15429"/>
                </a:cubicBezTo>
              </a:path>
              <a:path w="3871" h="695">
                <a:moveTo>
                  <a:pt x="12030" y="15850"/>
                </a:moveTo>
                <a:cubicBezTo>
                  <a:pt x="11989" y="15933"/>
                  <a:pt x="11989" y="15958"/>
                  <a:pt x="11931" y="15974"/>
                </a:cubicBezTo>
              </a:path>
              <a:path w="3871" h="695">
                <a:moveTo>
                  <a:pt x="12849" y="15577"/>
                </a:moveTo>
                <a:cubicBezTo>
                  <a:pt x="12841" y="15602"/>
                  <a:pt x="12832" y="15627"/>
                  <a:pt x="12824" y="1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81240" y="5510160"/>
            <a:ext cx="88920" cy="187200"/>
          </a:xfrm>
          <a:custGeom>
            <a:avLst/>
            <a:gdLst/>
            <a:ahLst/>
            <a:rect l="l" t="t" r="r" b="b"/>
            <a:pathLst>
              <a:path w="249" h="522">
                <a:moveTo>
                  <a:pt x="8731" y="15329"/>
                </a:moveTo>
                <a:cubicBezTo>
                  <a:pt x="8611" y="15419"/>
                  <a:pt x="8583" y="15625"/>
                  <a:pt x="8582" y="15825"/>
                </a:cubicBezTo>
                <a:cubicBezTo>
                  <a:pt x="8818" y="15753"/>
                  <a:pt x="8781" y="15643"/>
                  <a:pt x="8756" y="15429"/>
                </a:cubicBezTo>
                <a:cubicBezTo>
                  <a:pt x="8756" y="15412"/>
                  <a:pt x="8756" y="15396"/>
                  <a:pt x="8756" y="153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95800" y="5446800"/>
            <a:ext cx="374400" cy="322200"/>
          </a:xfrm>
          <a:custGeom>
            <a:avLst/>
            <a:gdLst/>
            <a:ahLst/>
            <a:rect l="l" t="t" r="r" b="b"/>
            <a:pathLst>
              <a:path w="1043" h="894">
                <a:moveTo>
                  <a:pt x="9153" y="15329"/>
                </a:moveTo>
                <a:cubicBezTo>
                  <a:pt x="9153" y="15388"/>
                  <a:pt x="9115" y="15523"/>
                  <a:pt x="9227" y="15503"/>
                </a:cubicBezTo>
                <a:cubicBezTo>
                  <a:pt x="9331" y="15461"/>
                  <a:pt x="9357" y="15459"/>
                  <a:pt x="9401" y="15404"/>
                </a:cubicBezTo>
              </a:path>
              <a:path w="1043" h="894">
                <a:moveTo>
                  <a:pt x="9351" y="15131"/>
                </a:moveTo>
                <a:cubicBezTo>
                  <a:pt x="9351" y="15307"/>
                  <a:pt x="9297" y="15538"/>
                  <a:pt x="9351" y="15701"/>
                </a:cubicBezTo>
                <a:cubicBezTo>
                  <a:pt x="9359" y="15709"/>
                  <a:pt x="9368" y="15718"/>
                  <a:pt x="9376" y="15726"/>
                </a:cubicBezTo>
              </a:path>
              <a:path w="1043" h="894">
                <a:moveTo>
                  <a:pt x="9624" y="15701"/>
                </a:moveTo>
                <a:cubicBezTo>
                  <a:pt x="9628" y="15742"/>
                  <a:pt x="9685" y="16039"/>
                  <a:pt x="9575" y="16024"/>
                </a:cubicBezTo>
                <a:cubicBezTo>
                  <a:pt x="9558" y="16007"/>
                  <a:pt x="9542" y="15991"/>
                  <a:pt x="9525" y="15974"/>
                </a:cubicBezTo>
              </a:path>
              <a:path w="1043" h="894">
                <a:moveTo>
                  <a:pt x="10021" y="15255"/>
                </a:moveTo>
                <a:cubicBezTo>
                  <a:pt x="10147" y="15171"/>
                  <a:pt x="9876" y="15436"/>
                  <a:pt x="9823" y="15577"/>
                </a:cubicBezTo>
                <a:cubicBezTo>
                  <a:pt x="9801" y="15728"/>
                  <a:pt x="9776" y="15769"/>
                  <a:pt x="9872" y="15825"/>
                </a:cubicBezTo>
                <a:cubicBezTo>
                  <a:pt x="10030" y="15753"/>
                  <a:pt x="10377" y="15586"/>
                  <a:pt x="10145" y="15354"/>
                </a:cubicBezTo>
                <a:cubicBezTo>
                  <a:pt x="10124" y="15333"/>
                  <a:pt x="9980" y="15321"/>
                  <a:pt x="10046" y="153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57760" y="5438880"/>
            <a:ext cx="374400" cy="231840"/>
          </a:xfrm>
          <a:custGeom>
            <a:avLst/>
            <a:gdLst/>
            <a:ahLst/>
            <a:rect l="l" t="t" r="r" b="b"/>
            <a:pathLst>
              <a:path w="1042" h="646">
                <a:moveTo>
                  <a:pt x="10840" y="15205"/>
                </a:moveTo>
                <a:cubicBezTo>
                  <a:pt x="10814" y="15341"/>
                  <a:pt x="10696" y="15597"/>
                  <a:pt x="10716" y="15726"/>
                </a:cubicBezTo>
                <a:cubicBezTo>
                  <a:pt x="10724" y="15718"/>
                  <a:pt x="10732" y="15709"/>
                  <a:pt x="10740" y="15701"/>
                </a:cubicBezTo>
              </a:path>
              <a:path w="1042" h="646">
                <a:moveTo>
                  <a:pt x="11013" y="15255"/>
                </a:moveTo>
                <a:cubicBezTo>
                  <a:pt x="11196" y="15311"/>
                  <a:pt x="11454" y="15430"/>
                  <a:pt x="11261" y="15677"/>
                </a:cubicBezTo>
                <a:cubicBezTo>
                  <a:pt x="11202" y="15753"/>
                  <a:pt x="10989" y="15716"/>
                  <a:pt x="11088" y="15652"/>
                </a:cubicBezTo>
                <a:cubicBezTo>
                  <a:pt x="11204" y="15660"/>
                  <a:pt x="11270" y="15681"/>
                  <a:pt x="11385" y="15652"/>
                </a:cubicBezTo>
              </a:path>
              <a:path w="1042" h="646">
                <a:moveTo>
                  <a:pt x="11509" y="15106"/>
                </a:moveTo>
                <a:cubicBezTo>
                  <a:pt x="11472" y="15209"/>
                  <a:pt x="11419" y="15460"/>
                  <a:pt x="11435" y="15577"/>
                </a:cubicBezTo>
                <a:cubicBezTo>
                  <a:pt x="11461" y="15770"/>
                  <a:pt x="11698" y="15716"/>
                  <a:pt x="11757" y="15577"/>
                </a:cubicBezTo>
                <a:cubicBezTo>
                  <a:pt x="11757" y="15544"/>
                  <a:pt x="11757" y="15511"/>
                  <a:pt x="11757" y="15478"/>
                </a:cubicBezTo>
                <a:cubicBezTo>
                  <a:pt x="11631" y="15506"/>
                  <a:pt x="11563" y="15582"/>
                  <a:pt x="11584" y="15726"/>
                </a:cubicBezTo>
                <a:cubicBezTo>
                  <a:pt x="11625" y="15767"/>
                  <a:pt x="11655" y="15770"/>
                  <a:pt x="11708" y="157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46720" y="5456160"/>
            <a:ext cx="107640" cy="196920"/>
          </a:xfrm>
          <a:custGeom>
            <a:avLst/>
            <a:gdLst/>
            <a:ahLst/>
            <a:rect l="l" t="t" r="r" b="b"/>
            <a:pathLst>
              <a:path w="298" h="546">
                <a:moveTo>
                  <a:pt x="12551" y="15180"/>
                </a:moveTo>
                <a:cubicBezTo>
                  <a:pt x="12518" y="15084"/>
                  <a:pt x="12357" y="15486"/>
                  <a:pt x="12353" y="15503"/>
                </a:cubicBezTo>
                <a:cubicBezTo>
                  <a:pt x="12353" y="15632"/>
                  <a:pt x="12336" y="15670"/>
                  <a:pt x="12427" y="15701"/>
                </a:cubicBezTo>
                <a:cubicBezTo>
                  <a:pt x="12626" y="15608"/>
                  <a:pt x="12750" y="15475"/>
                  <a:pt x="12576" y="15255"/>
                </a:cubicBezTo>
                <a:cubicBezTo>
                  <a:pt x="12536" y="15235"/>
                  <a:pt x="12529" y="15226"/>
                  <a:pt x="12502" y="152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97280" y="5464080"/>
            <a:ext cx="687600" cy="287280"/>
          </a:xfrm>
          <a:custGeom>
            <a:avLst/>
            <a:gdLst/>
            <a:ahLst/>
            <a:rect l="l" t="t" r="r" b="b"/>
            <a:pathLst>
              <a:path w="1911" h="795">
                <a:moveTo>
                  <a:pt x="13047" y="15280"/>
                </a:moveTo>
                <a:cubicBezTo>
                  <a:pt x="13047" y="15379"/>
                  <a:pt x="13047" y="15412"/>
                  <a:pt x="13047" y="15478"/>
                </a:cubicBezTo>
                <a:cubicBezTo>
                  <a:pt x="13190" y="15492"/>
                  <a:pt x="13162" y="15495"/>
                  <a:pt x="13295" y="15429"/>
                </a:cubicBezTo>
              </a:path>
              <a:path w="1911" h="795">
                <a:moveTo>
                  <a:pt x="13295" y="15205"/>
                </a:moveTo>
                <a:cubicBezTo>
                  <a:pt x="13286" y="15373"/>
                  <a:pt x="13059" y="15746"/>
                  <a:pt x="13221" y="15701"/>
                </a:cubicBezTo>
                <a:cubicBezTo>
                  <a:pt x="13246" y="15676"/>
                  <a:pt x="13270" y="15652"/>
                  <a:pt x="13295" y="15627"/>
                </a:cubicBezTo>
              </a:path>
              <a:path w="1911" h="795">
                <a:moveTo>
                  <a:pt x="13519" y="15230"/>
                </a:moveTo>
                <a:cubicBezTo>
                  <a:pt x="13554" y="15215"/>
                  <a:pt x="13798" y="15169"/>
                  <a:pt x="13717" y="15304"/>
                </a:cubicBezTo>
                <a:cubicBezTo>
                  <a:pt x="13699" y="15333"/>
                  <a:pt x="13598" y="15392"/>
                  <a:pt x="13568" y="15404"/>
                </a:cubicBezTo>
                <a:cubicBezTo>
                  <a:pt x="13678" y="15420"/>
                  <a:pt x="13807" y="15510"/>
                  <a:pt x="13667" y="15627"/>
                </a:cubicBezTo>
                <a:cubicBezTo>
                  <a:pt x="13553" y="15723"/>
                  <a:pt x="13496" y="15620"/>
                  <a:pt x="13469" y="15553"/>
                </a:cubicBezTo>
              </a:path>
              <a:path w="1911" h="795">
                <a:moveTo>
                  <a:pt x="14039" y="15180"/>
                </a:moveTo>
                <a:cubicBezTo>
                  <a:pt x="13911" y="15353"/>
                  <a:pt x="13867" y="15465"/>
                  <a:pt x="13891" y="15677"/>
                </a:cubicBezTo>
                <a:cubicBezTo>
                  <a:pt x="14081" y="15640"/>
                  <a:pt x="14307" y="15537"/>
                  <a:pt x="14163" y="15280"/>
                </a:cubicBezTo>
                <a:cubicBezTo>
                  <a:pt x="14076" y="15214"/>
                  <a:pt x="14058" y="15194"/>
                  <a:pt x="13990" y="15180"/>
                </a:cubicBezTo>
              </a:path>
              <a:path w="1911" h="795">
                <a:moveTo>
                  <a:pt x="14412" y="15726"/>
                </a:moveTo>
                <a:cubicBezTo>
                  <a:pt x="14385" y="15807"/>
                  <a:pt x="14351" y="15890"/>
                  <a:pt x="14337" y="15974"/>
                </a:cubicBezTo>
              </a:path>
              <a:path w="1911" h="795">
                <a:moveTo>
                  <a:pt x="14833" y="15205"/>
                </a:moveTo>
                <a:cubicBezTo>
                  <a:pt x="14694" y="15324"/>
                  <a:pt x="14637" y="15475"/>
                  <a:pt x="14585" y="15652"/>
                </a:cubicBezTo>
                <a:cubicBezTo>
                  <a:pt x="14779" y="15768"/>
                  <a:pt x="14957" y="15722"/>
                  <a:pt x="14957" y="15429"/>
                </a:cubicBezTo>
                <a:cubicBezTo>
                  <a:pt x="14957" y="15315"/>
                  <a:pt x="14891" y="15282"/>
                  <a:pt x="14808" y="15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00800" y="5419800"/>
            <a:ext cx="527040" cy="206280"/>
          </a:xfrm>
          <a:custGeom>
            <a:avLst/>
            <a:gdLst/>
            <a:ahLst/>
            <a:rect l="l" t="t" r="r" b="b"/>
            <a:pathLst>
              <a:path w="1464" h="572">
                <a:moveTo>
                  <a:pt x="15304" y="15627"/>
                </a:moveTo>
                <a:cubicBezTo>
                  <a:pt x="15280" y="15627"/>
                  <a:pt x="15272" y="15627"/>
                  <a:pt x="15304" y="15627"/>
                </a:cubicBezTo>
              </a:path>
              <a:path w="1464" h="572">
                <a:moveTo>
                  <a:pt x="15528" y="15156"/>
                </a:moveTo>
                <a:cubicBezTo>
                  <a:pt x="15528" y="15264"/>
                  <a:pt x="15459" y="15404"/>
                  <a:pt x="15478" y="15503"/>
                </a:cubicBezTo>
                <a:cubicBezTo>
                  <a:pt x="15516" y="15700"/>
                  <a:pt x="15735" y="15530"/>
                  <a:pt x="15801" y="15478"/>
                </a:cubicBezTo>
                <a:cubicBezTo>
                  <a:pt x="15801" y="15462"/>
                  <a:pt x="15801" y="15445"/>
                  <a:pt x="15801" y="15429"/>
                </a:cubicBezTo>
                <a:cubicBezTo>
                  <a:pt x="15763" y="15437"/>
                  <a:pt x="15494" y="15544"/>
                  <a:pt x="15602" y="15627"/>
                </a:cubicBezTo>
                <a:cubicBezTo>
                  <a:pt x="15705" y="15627"/>
                  <a:pt x="15752" y="15610"/>
                  <a:pt x="15801" y="15528"/>
                </a:cubicBezTo>
              </a:path>
              <a:path w="1464" h="572">
                <a:moveTo>
                  <a:pt x="16197" y="15056"/>
                </a:moveTo>
                <a:cubicBezTo>
                  <a:pt x="16148" y="15073"/>
                  <a:pt x="16064" y="15059"/>
                  <a:pt x="16024" y="15081"/>
                </a:cubicBezTo>
                <a:cubicBezTo>
                  <a:pt x="15980" y="15106"/>
                  <a:pt x="15969" y="15186"/>
                  <a:pt x="15949" y="15230"/>
                </a:cubicBezTo>
                <a:cubicBezTo>
                  <a:pt x="16063" y="15268"/>
                  <a:pt x="16183" y="15229"/>
                  <a:pt x="16222" y="15379"/>
                </a:cubicBezTo>
                <a:cubicBezTo>
                  <a:pt x="16266" y="15546"/>
                  <a:pt x="16073" y="15711"/>
                  <a:pt x="15949" y="15528"/>
                </a:cubicBezTo>
                <a:cubicBezTo>
                  <a:pt x="15949" y="15495"/>
                  <a:pt x="15949" y="15462"/>
                  <a:pt x="15949" y="15429"/>
                </a:cubicBezTo>
              </a:path>
              <a:path w="1464" h="572">
                <a:moveTo>
                  <a:pt x="16570" y="15056"/>
                </a:moveTo>
                <a:cubicBezTo>
                  <a:pt x="16448" y="15239"/>
                  <a:pt x="16389" y="15321"/>
                  <a:pt x="16470" y="15528"/>
                </a:cubicBezTo>
                <a:cubicBezTo>
                  <a:pt x="16596" y="15502"/>
                  <a:pt x="16920" y="15311"/>
                  <a:pt x="16694" y="15131"/>
                </a:cubicBezTo>
                <a:cubicBezTo>
                  <a:pt x="16644" y="15123"/>
                  <a:pt x="16595" y="15114"/>
                  <a:pt x="16545" y="151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68840" y="6010200"/>
            <a:ext cx="1598400" cy="339840"/>
          </a:xfrm>
          <a:custGeom>
            <a:avLst/>
            <a:gdLst/>
            <a:ahLst/>
            <a:rect l="l" t="t" r="r" b="b"/>
            <a:pathLst>
              <a:path w="4441" h="943">
                <a:moveTo>
                  <a:pt x="10468" y="17090"/>
                </a:moveTo>
                <a:lnTo>
                  <a:pt x="10468" y="17090"/>
                </a:lnTo>
                <a:lnTo>
                  <a:pt x="10468" y="17090"/>
                </a:lnTo>
              </a:path>
              <a:path w="4441" h="943">
                <a:moveTo>
                  <a:pt x="10468" y="17090"/>
                </a:moveTo>
                <a:lnTo>
                  <a:pt x="10468" y="17090"/>
                </a:lnTo>
              </a:path>
              <a:path w="4441" h="943">
                <a:moveTo>
                  <a:pt x="10840" y="16694"/>
                </a:moveTo>
                <a:cubicBezTo>
                  <a:pt x="10824" y="16821"/>
                  <a:pt x="10807" y="16980"/>
                  <a:pt x="10765" y="17090"/>
                </a:cubicBezTo>
              </a:path>
              <a:path w="4441" h="943">
                <a:moveTo>
                  <a:pt x="11906" y="17041"/>
                </a:moveTo>
                <a:cubicBezTo>
                  <a:pt x="11920" y="17169"/>
                  <a:pt x="11969" y="17215"/>
                  <a:pt x="11857" y="17214"/>
                </a:cubicBezTo>
              </a:path>
              <a:path w="4441" h="943">
                <a:moveTo>
                  <a:pt x="14709" y="17363"/>
                </a:moveTo>
                <a:cubicBezTo>
                  <a:pt x="14662" y="17430"/>
                  <a:pt x="14503" y="17721"/>
                  <a:pt x="14759" y="17636"/>
                </a:cubicBezTo>
                <a:cubicBezTo>
                  <a:pt x="14916" y="17584"/>
                  <a:pt x="14957" y="17452"/>
                  <a:pt x="14833" y="173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62160" y="5938920"/>
            <a:ext cx="243000" cy="419040"/>
          </a:xfrm>
          <a:custGeom>
            <a:avLst/>
            <a:gdLst/>
            <a:ahLst/>
            <a:rect l="l" t="t" r="r" b="b"/>
            <a:pathLst>
              <a:path w="671" h="1167">
                <a:moveTo>
                  <a:pt x="8880" y="16520"/>
                </a:moveTo>
                <a:cubicBezTo>
                  <a:pt x="8856" y="16579"/>
                  <a:pt x="8839" y="16631"/>
                  <a:pt x="8830" y="16694"/>
                </a:cubicBezTo>
                <a:cubicBezTo>
                  <a:pt x="8906" y="16694"/>
                  <a:pt x="8967" y="16700"/>
                  <a:pt x="9029" y="16669"/>
                </a:cubicBezTo>
              </a:path>
              <a:path w="671" h="1167">
                <a:moveTo>
                  <a:pt x="9004" y="16495"/>
                </a:moveTo>
                <a:cubicBezTo>
                  <a:pt x="8977" y="16635"/>
                  <a:pt x="8944" y="16776"/>
                  <a:pt x="8930" y="16917"/>
                </a:cubicBezTo>
              </a:path>
              <a:path w="671" h="1167">
                <a:moveTo>
                  <a:pt x="8508" y="17090"/>
                </a:moveTo>
                <a:cubicBezTo>
                  <a:pt x="8713" y="17050"/>
                  <a:pt x="8921" y="17021"/>
                  <a:pt x="9128" y="16991"/>
                </a:cubicBezTo>
                <a:cubicBezTo>
                  <a:pt x="9153" y="16991"/>
                  <a:pt x="9161" y="16991"/>
                  <a:pt x="9178" y="16991"/>
                </a:cubicBezTo>
              </a:path>
              <a:path w="671" h="1167">
                <a:moveTo>
                  <a:pt x="8706" y="17314"/>
                </a:moveTo>
                <a:cubicBezTo>
                  <a:pt x="8682" y="17375"/>
                  <a:pt x="8567" y="17602"/>
                  <a:pt x="8607" y="17661"/>
                </a:cubicBezTo>
                <a:cubicBezTo>
                  <a:pt x="8665" y="17661"/>
                  <a:pt x="8693" y="17635"/>
                  <a:pt x="8706" y="17562"/>
                </a:cubicBezTo>
              </a:path>
              <a:path w="671" h="1167">
                <a:moveTo>
                  <a:pt x="8954" y="17314"/>
                </a:moveTo>
                <a:cubicBezTo>
                  <a:pt x="8851" y="17386"/>
                  <a:pt x="8860" y="17380"/>
                  <a:pt x="8880" y="17512"/>
                </a:cubicBezTo>
                <a:cubicBezTo>
                  <a:pt x="8995" y="17486"/>
                  <a:pt x="9075" y="17447"/>
                  <a:pt x="9004" y="17338"/>
                </a:cubicBezTo>
                <a:cubicBezTo>
                  <a:pt x="8981" y="17316"/>
                  <a:pt x="8973" y="17311"/>
                  <a:pt x="8979" y="172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38360" y="6197760"/>
            <a:ext cx="27000" cy="98280"/>
          </a:xfrm>
          <a:custGeom>
            <a:avLst/>
            <a:gdLst/>
            <a:ahLst/>
            <a:rect l="l" t="t" r="r" b="b"/>
            <a:pathLst>
              <a:path w="75" h="274">
                <a:moveTo>
                  <a:pt x="9624" y="17214"/>
                </a:moveTo>
                <a:cubicBezTo>
                  <a:pt x="9624" y="17291"/>
                  <a:pt x="9647" y="17449"/>
                  <a:pt x="9550" y="17487"/>
                </a:cubicBezTo>
                <a:cubicBezTo>
                  <a:pt x="9550" y="17479"/>
                  <a:pt x="9550" y="17470"/>
                  <a:pt x="9550" y="17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81280" y="6072120"/>
            <a:ext cx="79560" cy="125640"/>
          </a:xfrm>
          <a:custGeom>
            <a:avLst/>
            <a:gdLst/>
            <a:ahLst/>
            <a:rect l="l" t="t" r="r" b="b"/>
            <a:pathLst>
              <a:path w="224" h="348">
                <a:moveTo>
                  <a:pt x="10071" y="16867"/>
                </a:moveTo>
                <a:cubicBezTo>
                  <a:pt x="9988" y="16982"/>
                  <a:pt x="9961" y="17068"/>
                  <a:pt x="9947" y="17214"/>
                </a:cubicBezTo>
                <a:cubicBezTo>
                  <a:pt x="10092" y="17203"/>
                  <a:pt x="10188" y="17193"/>
                  <a:pt x="10170" y="17016"/>
                </a:cubicBezTo>
                <a:cubicBezTo>
                  <a:pt x="10161" y="16923"/>
                  <a:pt x="10121" y="16930"/>
                  <a:pt x="10046" y="169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40120" y="5983200"/>
            <a:ext cx="384120" cy="160560"/>
          </a:xfrm>
          <a:custGeom>
            <a:avLst/>
            <a:gdLst/>
            <a:ahLst/>
            <a:rect l="l" t="t" r="r" b="b"/>
            <a:pathLst>
              <a:path w="1068" h="448">
                <a:moveTo>
                  <a:pt x="10691" y="16768"/>
                </a:moveTo>
                <a:cubicBezTo>
                  <a:pt x="10691" y="16842"/>
                  <a:pt x="10675" y="16896"/>
                  <a:pt x="10666" y="16966"/>
                </a:cubicBezTo>
                <a:cubicBezTo>
                  <a:pt x="10766" y="16958"/>
                  <a:pt x="10825" y="16972"/>
                  <a:pt x="10840" y="16867"/>
                </a:cubicBezTo>
              </a:path>
              <a:path w="1068" h="448">
                <a:moveTo>
                  <a:pt x="11088" y="16694"/>
                </a:moveTo>
                <a:cubicBezTo>
                  <a:pt x="11217" y="16743"/>
                  <a:pt x="11357" y="16815"/>
                  <a:pt x="11286" y="16991"/>
                </a:cubicBezTo>
                <a:cubicBezTo>
                  <a:pt x="11251" y="17078"/>
                  <a:pt x="11093" y="17032"/>
                  <a:pt x="11063" y="16991"/>
                </a:cubicBezTo>
                <a:cubicBezTo>
                  <a:pt x="11146" y="16941"/>
                  <a:pt x="11141" y="16993"/>
                  <a:pt x="11212" y="17041"/>
                </a:cubicBezTo>
                <a:cubicBezTo>
                  <a:pt x="11305" y="17104"/>
                  <a:pt x="11346" y="16953"/>
                  <a:pt x="11385" y="16892"/>
                </a:cubicBezTo>
              </a:path>
              <a:path w="1068" h="448">
                <a:moveTo>
                  <a:pt x="11410" y="16619"/>
                </a:moveTo>
                <a:cubicBezTo>
                  <a:pt x="11410" y="16715"/>
                  <a:pt x="11378" y="16828"/>
                  <a:pt x="11385" y="16917"/>
                </a:cubicBezTo>
                <a:cubicBezTo>
                  <a:pt x="11393" y="16933"/>
                  <a:pt x="11402" y="16950"/>
                  <a:pt x="11410" y="16966"/>
                </a:cubicBezTo>
                <a:cubicBezTo>
                  <a:pt x="11554" y="17009"/>
                  <a:pt x="11607" y="16993"/>
                  <a:pt x="11708" y="16892"/>
                </a:cubicBezTo>
                <a:cubicBezTo>
                  <a:pt x="11731" y="16869"/>
                  <a:pt x="11742" y="16861"/>
                  <a:pt x="11708" y="16867"/>
                </a:cubicBezTo>
                <a:cubicBezTo>
                  <a:pt x="11697" y="16871"/>
                  <a:pt x="11503" y="17028"/>
                  <a:pt x="11559" y="17041"/>
                </a:cubicBezTo>
                <a:cubicBezTo>
                  <a:pt x="11584" y="17033"/>
                  <a:pt x="11608" y="17024"/>
                  <a:pt x="11633" y="170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38800" y="6010200"/>
            <a:ext cx="473040" cy="223920"/>
          </a:xfrm>
          <a:custGeom>
            <a:avLst/>
            <a:gdLst/>
            <a:ahLst/>
            <a:rect l="l" t="t" r="r" b="b"/>
            <a:pathLst>
              <a:path w="1316" h="621">
                <a:moveTo>
                  <a:pt x="12427" y="16793"/>
                </a:moveTo>
                <a:cubicBezTo>
                  <a:pt x="12352" y="16899"/>
                  <a:pt x="12337" y="16987"/>
                  <a:pt x="12328" y="17115"/>
                </a:cubicBezTo>
                <a:cubicBezTo>
                  <a:pt x="12467" y="17143"/>
                  <a:pt x="12585" y="17083"/>
                  <a:pt x="12601" y="16917"/>
                </a:cubicBezTo>
                <a:cubicBezTo>
                  <a:pt x="12606" y="16867"/>
                  <a:pt x="12480" y="16870"/>
                  <a:pt x="12452" y="16867"/>
                </a:cubicBezTo>
              </a:path>
              <a:path w="1316" h="621">
                <a:moveTo>
                  <a:pt x="12700" y="16991"/>
                </a:moveTo>
                <a:cubicBezTo>
                  <a:pt x="12700" y="17057"/>
                  <a:pt x="12673" y="17082"/>
                  <a:pt x="12725" y="17066"/>
                </a:cubicBezTo>
              </a:path>
              <a:path w="1316" h="621">
                <a:moveTo>
                  <a:pt x="12874" y="16768"/>
                </a:moveTo>
                <a:cubicBezTo>
                  <a:pt x="12874" y="16807"/>
                  <a:pt x="12834" y="16952"/>
                  <a:pt x="12874" y="16966"/>
                </a:cubicBezTo>
                <a:cubicBezTo>
                  <a:pt x="13016" y="17017"/>
                  <a:pt x="13101" y="16931"/>
                  <a:pt x="13122" y="16818"/>
                </a:cubicBezTo>
              </a:path>
              <a:path w="1316" h="621">
                <a:moveTo>
                  <a:pt x="13097" y="16768"/>
                </a:moveTo>
                <a:cubicBezTo>
                  <a:pt x="13078" y="16893"/>
                  <a:pt x="13056" y="17015"/>
                  <a:pt x="13047" y="17140"/>
                </a:cubicBezTo>
              </a:path>
              <a:path w="1316" h="621">
                <a:moveTo>
                  <a:pt x="13295" y="16718"/>
                </a:moveTo>
                <a:cubicBezTo>
                  <a:pt x="13343" y="16698"/>
                  <a:pt x="13384" y="16694"/>
                  <a:pt x="13444" y="16694"/>
                </a:cubicBezTo>
                <a:cubicBezTo>
                  <a:pt x="13444" y="16799"/>
                  <a:pt x="13427" y="16799"/>
                  <a:pt x="13345" y="16867"/>
                </a:cubicBezTo>
                <a:cubicBezTo>
                  <a:pt x="13422" y="16867"/>
                  <a:pt x="13494" y="16892"/>
                  <a:pt x="13494" y="16991"/>
                </a:cubicBezTo>
                <a:cubicBezTo>
                  <a:pt x="13494" y="17079"/>
                  <a:pt x="13382" y="17090"/>
                  <a:pt x="13320" y="17090"/>
                </a:cubicBezTo>
              </a:path>
              <a:path w="1316" h="621">
                <a:moveTo>
                  <a:pt x="13643" y="17115"/>
                </a:moveTo>
                <a:cubicBezTo>
                  <a:pt x="13643" y="17129"/>
                  <a:pt x="13656" y="17402"/>
                  <a:pt x="13618" y="172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72040" y="5956200"/>
            <a:ext cx="231840" cy="411120"/>
          </a:xfrm>
          <a:custGeom>
            <a:avLst/>
            <a:gdLst/>
            <a:ahLst/>
            <a:rect l="l" t="t" r="r" b="b"/>
            <a:pathLst>
              <a:path w="646" h="1142">
                <a:moveTo>
                  <a:pt x="14213" y="16619"/>
                </a:moveTo>
                <a:cubicBezTo>
                  <a:pt x="14236" y="16754"/>
                  <a:pt x="14227" y="16879"/>
                  <a:pt x="14188" y="17016"/>
                </a:cubicBezTo>
                <a:cubicBezTo>
                  <a:pt x="14163" y="17066"/>
                  <a:pt x="14155" y="17083"/>
                  <a:pt x="14188" y="17016"/>
                </a:cubicBezTo>
              </a:path>
              <a:path w="646" h="1142">
                <a:moveTo>
                  <a:pt x="14412" y="16570"/>
                </a:moveTo>
                <a:cubicBezTo>
                  <a:pt x="14486" y="16559"/>
                  <a:pt x="14519" y="16557"/>
                  <a:pt x="14585" y="16570"/>
                </a:cubicBezTo>
                <a:cubicBezTo>
                  <a:pt x="14564" y="16712"/>
                  <a:pt x="14547" y="16686"/>
                  <a:pt x="14461" y="16743"/>
                </a:cubicBezTo>
                <a:cubicBezTo>
                  <a:pt x="14469" y="16743"/>
                  <a:pt x="14478" y="16743"/>
                  <a:pt x="14486" y="16743"/>
                </a:cubicBezTo>
                <a:cubicBezTo>
                  <a:pt x="14592" y="16792"/>
                  <a:pt x="14685" y="16856"/>
                  <a:pt x="14536" y="16942"/>
                </a:cubicBezTo>
                <a:cubicBezTo>
                  <a:pt x="14475" y="16962"/>
                  <a:pt x="14461" y="16980"/>
                  <a:pt x="14436" y="16942"/>
                </a:cubicBezTo>
              </a:path>
              <a:path w="646" h="1142">
                <a:moveTo>
                  <a:pt x="14089" y="17214"/>
                </a:moveTo>
                <a:cubicBezTo>
                  <a:pt x="14296" y="17163"/>
                  <a:pt x="14497" y="17100"/>
                  <a:pt x="14709" y="17066"/>
                </a:cubicBezTo>
                <a:cubicBezTo>
                  <a:pt x="14717" y="17066"/>
                  <a:pt x="14726" y="17066"/>
                  <a:pt x="14734" y="17066"/>
                </a:cubicBezTo>
              </a:path>
              <a:path w="646" h="1142">
                <a:moveTo>
                  <a:pt x="14312" y="17363"/>
                </a:moveTo>
                <a:cubicBezTo>
                  <a:pt x="14409" y="17400"/>
                  <a:pt x="14634" y="17483"/>
                  <a:pt x="14511" y="17636"/>
                </a:cubicBezTo>
                <a:cubicBezTo>
                  <a:pt x="14447" y="17716"/>
                  <a:pt x="14278" y="17717"/>
                  <a:pt x="14238" y="17636"/>
                </a:cubicBezTo>
                <a:cubicBezTo>
                  <a:pt x="14335" y="17617"/>
                  <a:pt x="14410" y="17650"/>
                  <a:pt x="14511" y="176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92080" y="2081160"/>
            <a:ext cx="6288120" cy="133560"/>
          </a:xfrm>
          <a:custGeom>
            <a:avLst/>
            <a:gdLst/>
            <a:ahLst/>
            <a:rect l="l" t="t" r="r" b="b"/>
            <a:pathLst>
              <a:path w="17464" h="374">
                <a:moveTo>
                  <a:pt x="2480" y="6028"/>
                </a:moveTo>
                <a:cubicBezTo>
                  <a:pt x="2529" y="6024"/>
                  <a:pt x="2555" y="6008"/>
                  <a:pt x="2604" y="6003"/>
                </a:cubicBezTo>
                <a:cubicBezTo>
                  <a:pt x="2839" y="5978"/>
                  <a:pt x="3088" y="5961"/>
                  <a:pt x="3324" y="5953"/>
                </a:cubicBezTo>
                <a:cubicBezTo>
                  <a:pt x="3702" y="5941"/>
                  <a:pt x="4064" y="5912"/>
                  <a:pt x="4440" y="5879"/>
                </a:cubicBezTo>
                <a:cubicBezTo>
                  <a:pt x="4632" y="5862"/>
                  <a:pt x="4821" y="5837"/>
                  <a:pt x="5011" y="5829"/>
                </a:cubicBezTo>
                <a:cubicBezTo>
                  <a:pt x="5202" y="5821"/>
                  <a:pt x="5392" y="5840"/>
                  <a:pt x="5581" y="5854"/>
                </a:cubicBezTo>
                <a:cubicBezTo>
                  <a:pt x="5927" y="5879"/>
                  <a:pt x="6276" y="5895"/>
                  <a:pt x="6623" y="5904"/>
                </a:cubicBezTo>
                <a:cubicBezTo>
                  <a:pt x="6823" y="5909"/>
                  <a:pt x="7018" y="5923"/>
                  <a:pt x="7218" y="5928"/>
                </a:cubicBezTo>
                <a:cubicBezTo>
                  <a:pt x="7881" y="5943"/>
                  <a:pt x="8543" y="5917"/>
                  <a:pt x="9203" y="5953"/>
                </a:cubicBezTo>
                <a:cubicBezTo>
                  <a:pt x="9448" y="5966"/>
                  <a:pt x="9700" y="5997"/>
                  <a:pt x="9947" y="6003"/>
                </a:cubicBezTo>
                <a:cubicBezTo>
                  <a:pt x="10708" y="6022"/>
                  <a:pt x="11473" y="6003"/>
                  <a:pt x="12229" y="6003"/>
                </a:cubicBezTo>
                <a:cubicBezTo>
                  <a:pt x="12430" y="6003"/>
                  <a:pt x="12624" y="6023"/>
                  <a:pt x="12824" y="6028"/>
                </a:cubicBezTo>
                <a:cubicBezTo>
                  <a:pt x="13033" y="6033"/>
                  <a:pt x="13237" y="6019"/>
                  <a:pt x="13444" y="6003"/>
                </a:cubicBezTo>
                <a:cubicBezTo>
                  <a:pt x="13635" y="5989"/>
                  <a:pt x="13825" y="5941"/>
                  <a:pt x="14015" y="5928"/>
                </a:cubicBezTo>
                <a:cubicBezTo>
                  <a:pt x="14247" y="5912"/>
                  <a:pt x="14479" y="5911"/>
                  <a:pt x="14709" y="5879"/>
                </a:cubicBezTo>
                <a:cubicBezTo>
                  <a:pt x="14856" y="5858"/>
                  <a:pt x="15011" y="5813"/>
                  <a:pt x="15156" y="5804"/>
                </a:cubicBezTo>
                <a:cubicBezTo>
                  <a:pt x="15318" y="5794"/>
                  <a:pt x="15463" y="5802"/>
                  <a:pt x="15627" y="5804"/>
                </a:cubicBezTo>
                <a:cubicBezTo>
                  <a:pt x="15985" y="5807"/>
                  <a:pt x="16336" y="5826"/>
                  <a:pt x="16694" y="5829"/>
                </a:cubicBezTo>
                <a:cubicBezTo>
                  <a:pt x="16888" y="5831"/>
                  <a:pt x="17072" y="5810"/>
                  <a:pt x="17264" y="5804"/>
                </a:cubicBezTo>
                <a:cubicBezTo>
                  <a:pt x="17704" y="5791"/>
                  <a:pt x="18126" y="5839"/>
                  <a:pt x="18554" y="5928"/>
                </a:cubicBezTo>
                <a:cubicBezTo>
                  <a:pt x="19017" y="6024"/>
                  <a:pt x="19472" y="6098"/>
                  <a:pt x="19943" y="61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4120" y="4089240"/>
            <a:ext cx="17640" cy="135000"/>
          </a:xfrm>
          <a:custGeom>
            <a:avLst/>
            <a:gdLst/>
            <a:ahLst/>
            <a:rect l="l" t="t" r="r" b="b"/>
            <a:pathLst>
              <a:path w="50" h="373">
                <a:moveTo>
                  <a:pt x="1067" y="11361"/>
                </a:moveTo>
                <a:cubicBezTo>
                  <a:pt x="1067" y="11420"/>
                  <a:pt x="1081" y="11471"/>
                  <a:pt x="1091" y="11534"/>
                </a:cubicBezTo>
                <a:cubicBezTo>
                  <a:pt x="1113" y="11641"/>
                  <a:pt x="1121" y="11665"/>
                  <a:pt x="1116" y="117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8120" y="4010040"/>
            <a:ext cx="98280" cy="177840"/>
          </a:xfrm>
          <a:custGeom>
            <a:avLst/>
            <a:gdLst/>
            <a:ahLst/>
            <a:rect l="l" t="t" r="r" b="b"/>
            <a:pathLst>
              <a:path w="274" h="497">
                <a:moveTo>
                  <a:pt x="1215" y="11162"/>
                </a:moveTo>
                <a:cubicBezTo>
                  <a:pt x="1271" y="11150"/>
                  <a:pt x="1464" y="11090"/>
                  <a:pt x="1364" y="11237"/>
                </a:cubicBezTo>
                <a:cubicBezTo>
                  <a:pt x="1339" y="11262"/>
                  <a:pt x="1315" y="11286"/>
                  <a:pt x="1290" y="11311"/>
                </a:cubicBezTo>
                <a:cubicBezTo>
                  <a:pt x="1290" y="11319"/>
                  <a:pt x="1290" y="11328"/>
                  <a:pt x="1290" y="11336"/>
                </a:cubicBezTo>
                <a:cubicBezTo>
                  <a:pt x="1431" y="11336"/>
                  <a:pt x="1532" y="11374"/>
                  <a:pt x="1439" y="11534"/>
                </a:cubicBezTo>
                <a:cubicBezTo>
                  <a:pt x="1365" y="11608"/>
                  <a:pt x="1341" y="11633"/>
                  <a:pt x="1265" y="116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4760" y="4241880"/>
            <a:ext cx="188640" cy="71280"/>
          </a:xfrm>
          <a:custGeom>
            <a:avLst/>
            <a:gdLst/>
            <a:ahLst/>
            <a:rect l="l" t="t" r="r" b="b"/>
            <a:pathLst>
              <a:path w="522" h="200">
                <a:moveTo>
                  <a:pt x="1042" y="11981"/>
                </a:moveTo>
                <a:cubicBezTo>
                  <a:pt x="1212" y="11917"/>
                  <a:pt x="1391" y="11831"/>
                  <a:pt x="1563" y="117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7120" y="4411800"/>
            <a:ext cx="98640" cy="125280"/>
          </a:xfrm>
          <a:custGeom>
            <a:avLst/>
            <a:gdLst/>
            <a:ahLst/>
            <a:rect l="l" t="t" r="r" b="b"/>
            <a:pathLst>
              <a:path w="274" h="348">
                <a:moveTo>
                  <a:pt x="1017" y="12278"/>
                </a:moveTo>
                <a:cubicBezTo>
                  <a:pt x="1159" y="12270"/>
                  <a:pt x="1353" y="12294"/>
                  <a:pt x="1240" y="12502"/>
                </a:cubicBezTo>
                <a:cubicBezTo>
                  <a:pt x="1184" y="12604"/>
                  <a:pt x="1089" y="12592"/>
                  <a:pt x="992" y="12601"/>
                </a:cubicBezTo>
                <a:cubicBezTo>
                  <a:pt x="1078" y="12503"/>
                  <a:pt x="1134" y="12502"/>
                  <a:pt x="1265" y="125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5120" y="4375080"/>
            <a:ext cx="106560" cy="108000"/>
          </a:xfrm>
          <a:custGeom>
            <a:avLst/>
            <a:gdLst/>
            <a:ahLst/>
            <a:rect l="l" t="t" r="r" b="b"/>
            <a:pathLst>
              <a:path w="299" h="299">
                <a:moveTo>
                  <a:pt x="1364" y="12204"/>
                </a:moveTo>
                <a:cubicBezTo>
                  <a:pt x="1304" y="12325"/>
                  <a:pt x="1279" y="12344"/>
                  <a:pt x="1290" y="12427"/>
                </a:cubicBezTo>
                <a:cubicBezTo>
                  <a:pt x="1321" y="12427"/>
                  <a:pt x="1716" y="12316"/>
                  <a:pt x="1588" y="12229"/>
                </a:cubicBezTo>
                <a:cubicBezTo>
                  <a:pt x="1475" y="12206"/>
                  <a:pt x="1444" y="12205"/>
                  <a:pt x="1389" y="121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0240" y="4170240"/>
            <a:ext cx="46080" cy="61920"/>
          </a:xfrm>
          <a:custGeom>
            <a:avLst/>
            <a:gdLst/>
            <a:ahLst/>
            <a:rect l="l" t="t" r="r" b="b"/>
            <a:pathLst>
              <a:path w="125" h="174">
                <a:moveTo>
                  <a:pt x="1836" y="11584"/>
                </a:moveTo>
                <a:cubicBezTo>
                  <a:pt x="1859" y="11643"/>
                  <a:pt x="1915" y="11704"/>
                  <a:pt x="1960" y="117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85880" y="4160880"/>
            <a:ext cx="98280" cy="125280"/>
          </a:xfrm>
          <a:custGeom>
            <a:avLst/>
            <a:gdLst/>
            <a:ahLst/>
            <a:rect l="l" t="t" r="r" b="b"/>
            <a:pathLst>
              <a:path w="274" h="348">
                <a:moveTo>
                  <a:pt x="2232" y="11559"/>
                </a:moveTo>
                <a:cubicBezTo>
                  <a:pt x="2181" y="11619"/>
                  <a:pt x="2183" y="11596"/>
                  <a:pt x="2183" y="11658"/>
                </a:cubicBezTo>
                <a:cubicBezTo>
                  <a:pt x="2245" y="11671"/>
                  <a:pt x="2385" y="11662"/>
                  <a:pt x="2431" y="11708"/>
                </a:cubicBezTo>
                <a:cubicBezTo>
                  <a:pt x="2532" y="11808"/>
                  <a:pt x="2405" y="11959"/>
                  <a:pt x="2282" y="11906"/>
                </a:cubicBezTo>
                <a:cubicBezTo>
                  <a:pt x="2257" y="11881"/>
                  <a:pt x="2233" y="11857"/>
                  <a:pt x="2208" y="118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6960" y="3938760"/>
            <a:ext cx="61920" cy="115560"/>
          </a:xfrm>
          <a:custGeom>
            <a:avLst/>
            <a:gdLst/>
            <a:ahLst/>
            <a:rect l="l" t="t" r="r" b="b"/>
            <a:pathLst>
              <a:path w="174" h="323">
                <a:moveTo>
                  <a:pt x="2059" y="10939"/>
                </a:moveTo>
                <a:cubicBezTo>
                  <a:pt x="2023" y="10948"/>
                  <a:pt x="1971" y="10983"/>
                  <a:pt x="1960" y="10988"/>
                </a:cubicBezTo>
                <a:cubicBezTo>
                  <a:pt x="1934" y="10999"/>
                  <a:pt x="1916" y="11043"/>
                  <a:pt x="1935" y="11088"/>
                </a:cubicBezTo>
                <a:cubicBezTo>
                  <a:pt x="1943" y="11096"/>
                  <a:pt x="1952" y="11104"/>
                  <a:pt x="1960" y="11112"/>
                </a:cubicBezTo>
                <a:cubicBezTo>
                  <a:pt x="2001" y="11102"/>
                  <a:pt x="2039" y="11081"/>
                  <a:pt x="2084" y="11063"/>
                </a:cubicBezTo>
                <a:cubicBezTo>
                  <a:pt x="2133" y="11148"/>
                  <a:pt x="2076" y="11222"/>
                  <a:pt x="1984" y="11261"/>
                </a:cubicBezTo>
                <a:cubicBezTo>
                  <a:pt x="1968" y="11261"/>
                  <a:pt x="1951" y="11261"/>
                  <a:pt x="1935" y="112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71880" y="5803920"/>
            <a:ext cx="2465280" cy="723960"/>
          </a:xfrm>
          <a:custGeom>
            <a:avLst/>
            <a:gdLst/>
            <a:ahLst/>
            <a:rect l="l" t="t" r="r" b="b"/>
            <a:pathLst>
              <a:path w="6847" h="2010">
                <a:moveTo>
                  <a:pt x="15329" y="17711"/>
                </a:moveTo>
                <a:cubicBezTo>
                  <a:pt x="15316" y="17508"/>
                  <a:pt x="15282" y="17318"/>
                  <a:pt x="15255" y="17115"/>
                </a:cubicBezTo>
                <a:cubicBezTo>
                  <a:pt x="15231" y="16931"/>
                  <a:pt x="15222" y="16725"/>
                  <a:pt x="15180" y="16545"/>
                </a:cubicBezTo>
                <a:cubicBezTo>
                  <a:pt x="15164" y="16476"/>
                  <a:pt x="15108" y="16270"/>
                  <a:pt x="15056" y="16222"/>
                </a:cubicBezTo>
                <a:cubicBezTo>
                  <a:pt x="15040" y="16207"/>
                  <a:pt x="15014" y="16188"/>
                  <a:pt x="14982" y="16173"/>
                </a:cubicBezTo>
                <a:cubicBezTo>
                  <a:pt x="14893" y="16130"/>
                  <a:pt x="14731" y="16115"/>
                  <a:pt x="14635" y="16123"/>
                </a:cubicBezTo>
                <a:cubicBezTo>
                  <a:pt x="14499" y="16135"/>
                  <a:pt x="14378" y="16169"/>
                  <a:pt x="14238" y="16173"/>
                </a:cubicBezTo>
                <a:cubicBezTo>
                  <a:pt x="14087" y="16177"/>
                  <a:pt x="13941" y="16182"/>
                  <a:pt x="13791" y="16197"/>
                </a:cubicBezTo>
                <a:cubicBezTo>
                  <a:pt x="13645" y="16211"/>
                  <a:pt x="13514" y="16248"/>
                  <a:pt x="13370" y="16272"/>
                </a:cubicBezTo>
                <a:cubicBezTo>
                  <a:pt x="13224" y="16296"/>
                  <a:pt x="13071" y="16304"/>
                  <a:pt x="12923" y="16321"/>
                </a:cubicBezTo>
                <a:cubicBezTo>
                  <a:pt x="12805" y="16335"/>
                  <a:pt x="12691" y="16383"/>
                  <a:pt x="12576" y="16396"/>
                </a:cubicBezTo>
                <a:cubicBezTo>
                  <a:pt x="12361" y="16421"/>
                  <a:pt x="12163" y="16363"/>
                  <a:pt x="11956" y="16346"/>
                </a:cubicBezTo>
                <a:cubicBezTo>
                  <a:pt x="11827" y="16335"/>
                  <a:pt x="11686" y="16327"/>
                  <a:pt x="11559" y="16321"/>
                </a:cubicBezTo>
                <a:cubicBezTo>
                  <a:pt x="11430" y="16315"/>
                  <a:pt x="11338" y="16307"/>
                  <a:pt x="11212" y="16272"/>
                </a:cubicBezTo>
                <a:cubicBezTo>
                  <a:pt x="11111" y="16244"/>
                  <a:pt x="11016" y="16213"/>
                  <a:pt x="10914" y="16197"/>
                </a:cubicBezTo>
                <a:cubicBezTo>
                  <a:pt x="10758" y="16173"/>
                  <a:pt x="10600" y="16155"/>
                  <a:pt x="10443" y="16148"/>
                </a:cubicBezTo>
                <a:cubicBezTo>
                  <a:pt x="10305" y="16141"/>
                  <a:pt x="10178" y="16157"/>
                  <a:pt x="10046" y="16173"/>
                </a:cubicBezTo>
                <a:cubicBezTo>
                  <a:pt x="9917" y="16189"/>
                  <a:pt x="9801" y="16223"/>
                  <a:pt x="9674" y="16247"/>
                </a:cubicBezTo>
                <a:cubicBezTo>
                  <a:pt x="9569" y="16267"/>
                  <a:pt x="9457" y="16280"/>
                  <a:pt x="9351" y="16297"/>
                </a:cubicBezTo>
                <a:cubicBezTo>
                  <a:pt x="9254" y="16313"/>
                  <a:pt x="9171" y="16340"/>
                  <a:pt x="9079" y="16371"/>
                </a:cubicBezTo>
                <a:cubicBezTo>
                  <a:pt x="8968" y="16408"/>
                  <a:pt x="8866" y="16415"/>
                  <a:pt x="8756" y="16446"/>
                </a:cubicBezTo>
                <a:cubicBezTo>
                  <a:pt x="8721" y="16456"/>
                  <a:pt x="8658" y="16478"/>
                  <a:pt x="8632" y="16495"/>
                </a:cubicBezTo>
                <a:cubicBezTo>
                  <a:pt x="8595" y="16518"/>
                  <a:pt x="8553" y="16532"/>
                  <a:pt x="8533" y="16570"/>
                </a:cubicBezTo>
                <a:cubicBezTo>
                  <a:pt x="8472" y="16686"/>
                  <a:pt x="8548" y="16997"/>
                  <a:pt x="8558" y="17115"/>
                </a:cubicBezTo>
                <a:cubicBezTo>
                  <a:pt x="8567" y="17219"/>
                  <a:pt x="8558" y="17320"/>
                  <a:pt x="8558" y="17413"/>
                </a:cubicBezTo>
                <a:cubicBezTo>
                  <a:pt x="8558" y="17546"/>
                  <a:pt x="8577" y="17685"/>
                  <a:pt x="8582" y="17810"/>
                </a:cubicBezTo>
                <a:cubicBezTo>
                  <a:pt x="8586" y="17917"/>
                  <a:pt x="8579" y="18025"/>
                  <a:pt x="8582" y="18132"/>
                </a:cubicBezTo>
                <a:cubicBezTo>
                  <a:pt x="8655" y="18117"/>
                  <a:pt x="8731" y="18099"/>
                  <a:pt x="8806" y="18083"/>
                </a:cubicBezTo>
                <a:cubicBezTo>
                  <a:pt x="9019" y="18039"/>
                  <a:pt x="9262" y="17956"/>
                  <a:pt x="9475" y="17934"/>
                </a:cubicBezTo>
                <a:cubicBezTo>
                  <a:pt x="9675" y="17914"/>
                  <a:pt x="9847" y="17897"/>
                  <a:pt x="10046" y="17859"/>
                </a:cubicBezTo>
                <a:cubicBezTo>
                  <a:pt x="10397" y="17792"/>
                  <a:pt x="10758" y="17744"/>
                  <a:pt x="11112" y="17711"/>
                </a:cubicBezTo>
                <a:cubicBezTo>
                  <a:pt x="11294" y="17694"/>
                  <a:pt x="11474" y="17688"/>
                  <a:pt x="11658" y="17686"/>
                </a:cubicBezTo>
                <a:cubicBezTo>
                  <a:pt x="11859" y="17684"/>
                  <a:pt x="12058" y="17704"/>
                  <a:pt x="12254" y="17711"/>
                </a:cubicBezTo>
                <a:cubicBezTo>
                  <a:pt x="12405" y="17717"/>
                  <a:pt x="12551" y="17718"/>
                  <a:pt x="12700" y="17735"/>
                </a:cubicBezTo>
                <a:cubicBezTo>
                  <a:pt x="12824" y="17749"/>
                  <a:pt x="12948" y="17782"/>
                  <a:pt x="13072" y="17810"/>
                </a:cubicBezTo>
                <a:cubicBezTo>
                  <a:pt x="13183" y="17835"/>
                  <a:pt x="13311" y="17872"/>
                  <a:pt x="13419" y="17884"/>
                </a:cubicBezTo>
                <a:cubicBezTo>
                  <a:pt x="13540" y="17898"/>
                  <a:pt x="13648" y="17915"/>
                  <a:pt x="13767" y="17934"/>
                </a:cubicBezTo>
                <a:cubicBezTo>
                  <a:pt x="13897" y="17955"/>
                  <a:pt x="14032" y="17966"/>
                  <a:pt x="14163" y="17983"/>
                </a:cubicBezTo>
                <a:cubicBezTo>
                  <a:pt x="14280" y="17999"/>
                  <a:pt x="14393" y="17998"/>
                  <a:pt x="14511" y="18008"/>
                </a:cubicBezTo>
                <a:cubicBezTo>
                  <a:pt x="14610" y="18016"/>
                  <a:pt x="14704" y="18031"/>
                  <a:pt x="14808" y="18033"/>
                </a:cubicBezTo>
                <a:cubicBezTo>
                  <a:pt x="14939" y="18035"/>
                  <a:pt x="15055" y="18025"/>
                  <a:pt x="15180" y="18008"/>
                </a:cubicBezTo>
                <a:cubicBezTo>
                  <a:pt x="15221" y="18003"/>
                  <a:pt x="15268" y="18003"/>
                  <a:pt x="15304" y="17983"/>
                </a:cubicBezTo>
                <a:cubicBezTo>
                  <a:pt x="15350" y="17958"/>
                  <a:pt x="15363" y="17949"/>
                  <a:pt x="15379" y="17884"/>
                </a:cubicBezTo>
                <a:cubicBezTo>
                  <a:pt x="15399" y="17803"/>
                  <a:pt x="15355" y="17737"/>
                  <a:pt x="15354" y="17661"/>
                </a:cubicBezTo>
                <a:cubicBezTo>
                  <a:pt x="15353" y="17587"/>
                  <a:pt x="15350" y="17547"/>
                  <a:pt x="15329" y="17487"/>
                </a:cubicBezTo>
                <a:cubicBezTo>
                  <a:pt x="15329" y="17462"/>
                  <a:pt x="15329" y="17454"/>
                  <a:pt x="15304" y="17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Objective:  Students will order fractions and dec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Let’s Practice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Order the following sets from greatest to lea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7,      , 0.751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Order the following sets from least to greate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27,      , 0.6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219320" y="1981080"/>
                <a:ext cx="4474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895480" y="1981080"/>
                <a:ext cx="3812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295280" y="3962520"/>
                <a:ext cx="4572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743200" y="4038480"/>
                <a:ext cx="533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160200" y="2286000"/>
            <a:ext cx="3403800" cy="768240"/>
          </a:xfrm>
          <a:custGeom>
            <a:avLst/>
            <a:gdLst/>
            <a:ahLst/>
            <a:rect l="l" t="t" r="r" b="b"/>
            <a:pathLst>
              <a:path w="9452" h="2134">
                <a:moveTo>
                  <a:pt x="645" y="7565"/>
                </a:moveTo>
                <a:cubicBezTo>
                  <a:pt x="685" y="7498"/>
                  <a:pt x="760" y="7453"/>
                  <a:pt x="843" y="7441"/>
                </a:cubicBezTo>
                <a:cubicBezTo>
                  <a:pt x="851" y="7441"/>
                  <a:pt x="860" y="7441"/>
                  <a:pt x="868" y="7441"/>
                </a:cubicBezTo>
                <a:cubicBezTo>
                  <a:pt x="842" y="7494"/>
                  <a:pt x="819" y="7531"/>
                  <a:pt x="819" y="7590"/>
                </a:cubicBezTo>
                <a:cubicBezTo>
                  <a:pt x="819" y="7676"/>
                  <a:pt x="692" y="7760"/>
                  <a:pt x="620" y="7789"/>
                </a:cubicBezTo>
                <a:cubicBezTo>
                  <a:pt x="557" y="7815"/>
                  <a:pt x="509" y="7813"/>
                  <a:pt x="446" y="7813"/>
                </a:cubicBezTo>
              </a:path>
              <a:path w="9452" h="2134">
                <a:moveTo>
                  <a:pt x="446" y="7987"/>
                </a:moveTo>
                <a:cubicBezTo>
                  <a:pt x="585" y="7951"/>
                  <a:pt x="727" y="7912"/>
                  <a:pt x="868" y="7888"/>
                </a:cubicBezTo>
              </a:path>
              <a:path w="9452" h="2134">
                <a:moveTo>
                  <a:pt x="546" y="8235"/>
                </a:moveTo>
                <a:cubicBezTo>
                  <a:pt x="546" y="8268"/>
                  <a:pt x="546" y="8301"/>
                  <a:pt x="546" y="8334"/>
                </a:cubicBezTo>
                <a:cubicBezTo>
                  <a:pt x="657" y="8334"/>
                  <a:pt x="669" y="8350"/>
                  <a:pt x="719" y="8260"/>
                </a:cubicBezTo>
              </a:path>
              <a:path w="9452" h="2134">
                <a:moveTo>
                  <a:pt x="719" y="8161"/>
                </a:moveTo>
                <a:cubicBezTo>
                  <a:pt x="704" y="8270"/>
                  <a:pt x="719" y="8370"/>
                  <a:pt x="719" y="8483"/>
                </a:cubicBezTo>
              </a:path>
              <a:path w="9452" h="2134">
                <a:moveTo>
                  <a:pt x="893" y="7913"/>
                </a:moveTo>
                <a:cubicBezTo>
                  <a:pt x="915" y="7980"/>
                  <a:pt x="968" y="8013"/>
                  <a:pt x="992" y="8062"/>
                </a:cubicBezTo>
              </a:path>
              <a:path w="9452" h="2134">
                <a:moveTo>
                  <a:pt x="992" y="7863"/>
                </a:moveTo>
                <a:cubicBezTo>
                  <a:pt x="961" y="7963"/>
                  <a:pt x="910" y="8059"/>
                  <a:pt x="893" y="8161"/>
                </a:cubicBezTo>
              </a:path>
              <a:path w="9452" h="2134">
                <a:moveTo>
                  <a:pt x="1116" y="8062"/>
                </a:moveTo>
                <a:cubicBezTo>
                  <a:pt x="1157" y="8042"/>
                  <a:pt x="1163" y="8033"/>
                  <a:pt x="1191" y="8037"/>
                </a:cubicBezTo>
                <a:cubicBezTo>
                  <a:pt x="1177" y="8120"/>
                  <a:pt x="1159" y="8159"/>
                  <a:pt x="1116" y="8235"/>
                </a:cubicBezTo>
                <a:cubicBezTo>
                  <a:pt x="1213" y="8235"/>
                  <a:pt x="1218" y="8241"/>
                  <a:pt x="1265" y="8161"/>
                </a:cubicBezTo>
              </a:path>
              <a:path w="9452" h="2134">
                <a:moveTo>
                  <a:pt x="1240" y="8012"/>
                </a:moveTo>
                <a:cubicBezTo>
                  <a:pt x="1280" y="8044"/>
                  <a:pt x="1333" y="8057"/>
                  <a:pt x="1339" y="8111"/>
                </a:cubicBezTo>
                <a:cubicBezTo>
                  <a:pt x="1339" y="8119"/>
                  <a:pt x="1339" y="8128"/>
                  <a:pt x="1339" y="8136"/>
                </a:cubicBezTo>
              </a:path>
              <a:path w="9452" h="2134">
                <a:moveTo>
                  <a:pt x="1215" y="8012"/>
                </a:moveTo>
                <a:cubicBezTo>
                  <a:pt x="1266" y="7954"/>
                  <a:pt x="1359" y="7923"/>
                  <a:pt x="1389" y="7863"/>
                </a:cubicBezTo>
              </a:path>
              <a:path w="9452" h="2134">
                <a:moveTo>
                  <a:pt x="1116" y="7789"/>
                </a:moveTo>
                <a:cubicBezTo>
                  <a:pt x="1227" y="7744"/>
                  <a:pt x="1256" y="7736"/>
                  <a:pt x="1315" y="7689"/>
                </a:cubicBezTo>
              </a:path>
              <a:path w="9452" h="2134">
                <a:moveTo>
                  <a:pt x="1141" y="7441"/>
                </a:moveTo>
                <a:cubicBezTo>
                  <a:pt x="1212" y="7441"/>
                  <a:pt x="1257" y="7437"/>
                  <a:pt x="1315" y="7466"/>
                </a:cubicBezTo>
                <a:cubicBezTo>
                  <a:pt x="1258" y="7595"/>
                  <a:pt x="1179" y="7626"/>
                  <a:pt x="1042" y="7615"/>
                </a:cubicBezTo>
                <a:cubicBezTo>
                  <a:pt x="1154" y="7578"/>
                  <a:pt x="1135" y="7577"/>
                  <a:pt x="1240" y="7615"/>
                </a:cubicBezTo>
                <a:cubicBezTo>
                  <a:pt x="1248" y="7615"/>
                  <a:pt x="1257" y="7615"/>
                  <a:pt x="1265" y="7615"/>
                </a:cubicBezTo>
              </a:path>
              <a:path w="9452" h="2134">
                <a:moveTo>
                  <a:pt x="1389" y="7392"/>
                </a:moveTo>
                <a:cubicBezTo>
                  <a:pt x="1370" y="7487"/>
                  <a:pt x="1347" y="7499"/>
                  <a:pt x="1265" y="7541"/>
                </a:cubicBezTo>
              </a:path>
              <a:path w="9452" h="2134">
                <a:moveTo>
                  <a:pt x="1389" y="7367"/>
                </a:moveTo>
                <a:cubicBezTo>
                  <a:pt x="1389" y="7359"/>
                  <a:pt x="1389" y="7350"/>
                  <a:pt x="1389" y="7342"/>
                </a:cubicBezTo>
              </a:path>
              <a:path w="9452" h="2134">
                <a:moveTo>
                  <a:pt x="1389" y="7789"/>
                </a:moveTo>
                <a:cubicBezTo>
                  <a:pt x="1473" y="7752"/>
                  <a:pt x="1521" y="7727"/>
                  <a:pt x="1612" y="7714"/>
                </a:cubicBezTo>
              </a:path>
              <a:path w="9452" h="2134">
                <a:moveTo>
                  <a:pt x="1588" y="7813"/>
                </a:moveTo>
                <a:cubicBezTo>
                  <a:pt x="1651" y="7804"/>
                  <a:pt x="1703" y="7787"/>
                  <a:pt x="1761" y="7764"/>
                </a:cubicBezTo>
              </a:path>
              <a:path w="9452" h="2134">
                <a:moveTo>
                  <a:pt x="2009" y="7888"/>
                </a:moveTo>
                <a:cubicBezTo>
                  <a:pt x="2212" y="7803"/>
                  <a:pt x="2413" y="7701"/>
                  <a:pt x="2629" y="7665"/>
                </a:cubicBezTo>
              </a:path>
              <a:path w="9452" h="2134">
                <a:moveTo>
                  <a:pt x="9079" y="6598"/>
                </a:moveTo>
                <a:cubicBezTo>
                  <a:pt x="9112" y="6649"/>
                  <a:pt x="9180" y="6740"/>
                  <a:pt x="9203" y="6796"/>
                </a:cubicBezTo>
              </a:path>
              <a:path w="9452" h="2134">
                <a:moveTo>
                  <a:pt x="9203" y="6573"/>
                </a:moveTo>
                <a:cubicBezTo>
                  <a:pt x="9176" y="6680"/>
                  <a:pt x="9149" y="6770"/>
                  <a:pt x="9103" y="6871"/>
                </a:cubicBezTo>
              </a:path>
              <a:path w="9452" h="2134">
                <a:moveTo>
                  <a:pt x="9327" y="6375"/>
                </a:moveTo>
                <a:cubicBezTo>
                  <a:pt x="9305" y="6440"/>
                  <a:pt x="9297" y="6455"/>
                  <a:pt x="9302" y="6499"/>
                </a:cubicBezTo>
                <a:cubicBezTo>
                  <a:pt x="9403" y="6479"/>
                  <a:pt x="9429" y="6434"/>
                  <a:pt x="9475" y="6350"/>
                </a:cubicBezTo>
              </a:path>
              <a:path w="9452" h="2134">
                <a:moveTo>
                  <a:pt x="9748" y="6772"/>
                </a:moveTo>
                <a:cubicBezTo>
                  <a:pt x="9823" y="6747"/>
                  <a:pt x="9847" y="6739"/>
                  <a:pt x="9897" y="67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9960" y="2643120"/>
            <a:ext cx="214200" cy="125640"/>
          </a:xfrm>
          <a:custGeom>
            <a:avLst/>
            <a:gdLst/>
            <a:ahLst/>
            <a:rect l="l" t="t" r="r" b="b"/>
            <a:pathLst>
              <a:path w="597" h="348">
                <a:moveTo>
                  <a:pt x="1860" y="7491"/>
                </a:moveTo>
                <a:cubicBezTo>
                  <a:pt x="1934" y="7464"/>
                  <a:pt x="2009" y="7443"/>
                  <a:pt x="2084" y="7417"/>
                </a:cubicBezTo>
                <a:cubicBezTo>
                  <a:pt x="2084" y="7511"/>
                  <a:pt x="2068" y="7597"/>
                  <a:pt x="2059" y="7689"/>
                </a:cubicBezTo>
              </a:path>
              <a:path w="597" h="348">
                <a:moveTo>
                  <a:pt x="2381" y="7342"/>
                </a:moveTo>
                <a:cubicBezTo>
                  <a:pt x="2291" y="7342"/>
                  <a:pt x="2298" y="7360"/>
                  <a:pt x="2257" y="7441"/>
                </a:cubicBezTo>
                <a:cubicBezTo>
                  <a:pt x="2337" y="7426"/>
                  <a:pt x="2352" y="7423"/>
                  <a:pt x="2431" y="7441"/>
                </a:cubicBezTo>
                <a:cubicBezTo>
                  <a:pt x="2514" y="7459"/>
                  <a:pt x="2409" y="7572"/>
                  <a:pt x="2356" y="7590"/>
                </a:cubicBezTo>
                <a:cubicBezTo>
                  <a:pt x="2340" y="7590"/>
                  <a:pt x="2323" y="7590"/>
                  <a:pt x="2307" y="75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6960" y="2847960"/>
            <a:ext cx="268200" cy="189000"/>
          </a:xfrm>
          <a:custGeom>
            <a:avLst/>
            <a:gdLst/>
            <a:ahLst/>
            <a:rect l="l" t="t" r="r" b="b"/>
            <a:pathLst>
              <a:path w="745" h="522">
                <a:moveTo>
                  <a:pt x="1960" y="8136"/>
                </a:moveTo>
                <a:cubicBezTo>
                  <a:pt x="1954" y="8237"/>
                  <a:pt x="1935" y="8332"/>
                  <a:pt x="1935" y="8434"/>
                </a:cubicBezTo>
              </a:path>
              <a:path w="745" h="522">
                <a:moveTo>
                  <a:pt x="2208" y="8086"/>
                </a:moveTo>
                <a:cubicBezTo>
                  <a:pt x="2156" y="8164"/>
                  <a:pt x="2138" y="8193"/>
                  <a:pt x="2133" y="8260"/>
                </a:cubicBezTo>
                <a:cubicBezTo>
                  <a:pt x="2212" y="8236"/>
                  <a:pt x="2425" y="8132"/>
                  <a:pt x="2257" y="8037"/>
                </a:cubicBezTo>
                <a:cubicBezTo>
                  <a:pt x="2216" y="8037"/>
                  <a:pt x="2208" y="8037"/>
                  <a:pt x="2183" y="8037"/>
                </a:cubicBezTo>
              </a:path>
              <a:path w="745" h="522">
                <a:moveTo>
                  <a:pt x="2530" y="7913"/>
                </a:moveTo>
                <a:cubicBezTo>
                  <a:pt x="2512" y="8013"/>
                  <a:pt x="2496" y="8070"/>
                  <a:pt x="2530" y="8161"/>
                </a:cubicBezTo>
                <a:cubicBezTo>
                  <a:pt x="2604" y="8124"/>
                  <a:pt x="2786" y="8023"/>
                  <a:pt x="2629" y="7938"/>
                </a:cubicBezTo>
                <a:cubicBezTo>
                  <a:pt x="2596" y="7930"/>
                  <a:pt x="2563" y="7921"/>
                  <a:pt x="2530" y="79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77920" y="1697040"/>
            <a:ext cx="81000" cy="196920"/>
          </a:xfrm>
          <a:custGeom>
            <a:avLst/>
            <a:gdLst/>
            <a:ahLst/>
            <a:rect l="l" t="t" r="r" b="b"/>
            <a:pathLst>
              <a:path w="224" h="547">
                <a:moveTo>
                  <a:pt x="3324" y="4713"/>
                </a:moveTo>
                <a:cubicBezTo>
                  <a:pt x="3300" y="4844"/>
                  <a:pt x="3210" y="5107"/>
                  <a:pt x="3274" y="5234"/>
                </a:cubicBezTo>
                <a:cubicBezTo>
                  <a:pt x="3291" y="5242"/>
                  <a:pt x="3307" y="5251"/>
                  <a:pt x="3324" y="5259"/>
                </a:cubicBezTo>
                <a:cubicBezTo>
                  <a:pt x="3429" y="5206"/>
                  <a:pt x="3574" y="5071"/>
                  <a:pt x="3497" y="4911"/>
                </a:cubicBezTo>
                <a:cubicBezTo>
                  <a:pt x="3484" y="4885"/>
                  <a:pt x="3404" y="4845"/>
                  <a:pt x="3373" y="48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66920" y="1670040"/>
            <a:ext cx="258840" cy="204840"/>
          </a:xfrm>
          <a:custGeom>
            <a:avLst/>
            <a:gdLst/>
            <a:ahLst/>
            <a:rect l="l" t="t" r="r" b="b"/>
            <a:pathLst>
              <a:path w="720" h="572">
                <a:moveTo>
                  <a:pt x="3795" y="5159"/>
                </a:moveTo>
                <a:cubicBezTo>
                  <a:pt x="3795" y="5167"/>
                  <a:pt x="3795" y="5251"/>
                  <a:pt x="3795" y="5184"/>
                </a:cubicBezTo>
              </a:path>
              <a:path w="720" h="572">
                <a:moveTo>
                  <a:pt x="3845" y="4738"/>
                </a:moveTo>
                <a:cubicBezTo>
                  <a:pt x="3911" y="4738"/>
                  <a:pt x="3977" y="4738"/>
                  <a:pt x="4043" y="4738"/>
                </a:cubicBezTo>
                <a:cubicBezTo>
                  <a:pt x="4043" y="4874"/>
                  <a:pt x="4031" y="5002"/>
                  <a:pt x="4018" y="5135"/>
                </a:cubicBezTo>
                <a:cubicBezTo>
                  <a:pt x="4018" y="5151"/>
                  <a:pt x="4018" y="5168"/>
                  <a:pt x="4018" y="5184"/>
                </a:cubicBezTo>
              </a:path>
              <a:path w="720" h="572">
                <a:moveTo>
                  <a:pt x="4440" y="4638"/>
                </a:moveTo>
                <a:cubicBezTo>
                  <a:pt x="4421" y="4644"/>
                  <a:pt x="4301" y="4675"/>
                  <a:pt x="4291" y="4688"/>
                </a:cubicBezTo>
                <a:cubicBezTo>
                  <a:pt x="4244" y="4747"/>
                  <a:pt x="4249" y="4856"/>
                  <a:pt x="4242" y="4936"/>
                </a:cubicBezTo>
                <a:cubicBezTo>
                  <a:pt x="4338" y="4861"/>
                  <a:pt x="4446" y="4838"/>
                  <a:pt x="4514" y="4986"/>
                </a:cubicBezTo>
                <a:cubicBezTo>
                  <a:pt x="4585" y="5140"/>
                  <a:pt x="4425" y="5197"/>
                  <a:pt x="4316" y="5209"/>
                </a:cubicBezTo>
                <a:cubicBezTo>
                  <a:pt x="4308" y="5209"/>
                  <a:pt x="4299" y="5209"/>
                  <a:pt x="4291" y="52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75000" y="2268360"/>
            <a:ext cx="500040" cy="339840"/>
          </a:xfrm>
          <a:custGeom>
            <a:avLst/>
            <a:gdLst/>
            <a:ahLst/>
            <a:rect l="l" t="t" r="r" b="b"/>
            <a:pathLst>
              <a:path w="1390" h="944">
                <a:moveTo>
                  <a:pt x="9401" y="6821"/>
                </a:moveTo>
                <a:cubicBezTo>
                  <a:pt x="9401" y="6879"/>
                  <a:pt x="9401" y="6937"/>
                  <a:pt x="9401" y="6995"/>
                </a:cubicBezTo>
                <a:cubicBezTo>
                  <a:pt x="9449" y="6995"/>
                  <a:pt x="9462" y="6993"/>
                  <a:pt x="9500" y="6970"/>
                </a:cubicBezTo>
              </a:path>
              <a:path w="1390" h="944">
                <a:moveTo>
                  <a:pt x="9525" y="6896"/>
                </a:moveTo>
                <a:cubicBezTo>
                  <a:pt x="9510" y="6945"/>
                  <a:pt x="9475" y="7134"/>
                  <a:pt x="9475" y="7094"/>
                </a:cubicBezTo>
              </a:path>
              <a:path w="1390" h="944">
                <a:moveTo>
                  <a:pt x="9376" y="6697"/>
                </a:moveTo>
                <a:cubicBezTo>
                  <a:pt x="9424" y="6659"/>
                  <a:pt x="9469" y="6647"/>
                  <a:pt x="9525" y="6623"/>
                </a:cubicBezTo>
              </a:path>
              <a:path w="1390" h="944">
                <a:moveTo>
                  <a:pt x="9475" y="6300"/>
                </a:moveTo>
                <a:cubicBezTo>
                  <a:pt x="9448" y="6414"/>
                  <a:pt x="9412" y="6529"/>
                  <a:pt x="9500" y="6573"/>
                </a:cubicBezTo>
              </a:path>
              <a:path w="1390" h="944">
                <a:moveTo>
                  <a:pt x="9748" y="6598"/>
                </a:moveTo>
                <a:cubicBezTo>
                  <a:pt x="9798" y="6598"/>
                  <a:pt x="9847" y="6598"/>
                  <a:pt x="9897" y="6598"/>
                </a:cubicBezTo>
              </a:path>
              <a:path w="1390" h="944">
                <a:moveTo>
                  <a:pt x="10145" y="6449"/>
                </a:moveTo>
                <a:cubicBezTo>
                  <a:pt x="10216" y="6425"/>
                  <a:pt x="10360" y="6344"/>
                  <a:pt x="10319" y="6499"/>
                </a:cubicBezTo>
                <a:cubicBezTo>
                  <a:pt x="10296" y="6522"/>
                  <a:pt x="10292" y="6530"/>
                  <a:pt x="10269" y="6524"/>
                </a:cubicBezTo>
                <a:cubicBezTo>
                  <a:pt x="10299" y="6546"/>
                  <a:pt x="10353" y="6565"/>
                  <a:pt x="10319" y="6623"/>
                </a:cubicBezTo>
                <a:cubicBezTo>
                  <a:pt x="10278" y="6691"/>
                  <a:pt x="10236" y="6672"/>
                  <a:pt x="10170" y="6672"/>
                </a:cubicBezTo>
              </a:path>
              <a:path w="1390" h="944">
                <a:moveTo>
                  <a:pt x="10492" y="6400"/>
                </a:moveTo>
                <a:cubicBezTo>
                  <a:pt x="10492" y="6444"/>
                  <a:pt x="10459" y="6647"/>
                  <a:pt x="10517" y="6672"/>
                </a:cubicBezTo>
                <a:cubicBezTo>
                  <a:pt x="10604" y="6710"/>
                  <a:pt x="10691" y="6610"/>
                  <a:pt x="10716" y="6548"/>
                </a:cubicBezTo>
                <a:cubicBezTo>
                  <a:pt x="10686" y="6555"/>
                  <a:pt x="10593" y="6630"/>
                  <a:pt x="10641" y="6672"/>
                </a:cubicBezTo>
                <a:cubicBezTo>
                  <a:pt x="10658" y="6672"/>
                  <a:pt x="10674" y="6672"/>
                  <a:pt x="10691" y="6672"/>
                </a:cubicBezTo>
              </a:path>
              <a:path w="1390" h="944">
                <a:moveTo>
                  <a:pt x="10170" y="6896"/>
                </a:moveTo>
                <a:cubicBezTo>
                  <a:pt x="10290" y="6872"/>
                  <a:pt x="10417" y="6843"/>
                  <a:pt x="10542" y="6821"/>
                </a:cubicBezTo>
                <a:cubicBezTo>
                  <a:pt x="10649" y="6799"/>
                  <a:pt x="10673" y="6791"/>
                  <a:pt x="10740" y="6796"/>
                </a:cubicBezTo>
              </a:path>
              <a:path w="1390" h="944">
                <a:moveTo>
                  <a:pt x="10269" y="7045"/>
                </a:moveTo>
                <a:cubicBezTo>
                  <a:pt x="10228" y="7127"/>
                  <a:pt x="10212" y="7162"/>
                  <a:pt x="10220" y="7243"/>
                </a:cubicBezTo>
                <a:cubicBezTo>
                  <a:pt x="10288" y="7229"/>
                  <a:pt x="10443" y="7202"/>
                  <a:pt x="10393" y="7119"/>
                </a:cubicBezTo>
                <a:cubicBezTo>
                  <a:pt x="10360" y="7064"/>
                  <a:pt x="10255" y="7121"/>
                  <a:pt x="10443" y="7069"/>
                </a:cubicBezTo>
              </a:path>
              <a:path w="1390" h="944">
                <a:moveTo>
                  <a:pt x="10666" y="6995"/>
                </a:moveTo>
                <a:cubicBezTo>
                  <a:pt x="10637" y="7071"/>
                  <a:pt x="10607" y="7141"/>
                  <a:pt x="10592" y="7218"/>
                </a:cubicBezTo>
                <a:cubicBezTo>
                  <a:pt x="10673" y="7225"/>
                  <a:pt x="10871" y="7156"/>
                  <a:pt x="10716" y="7069"/>
                </a:cubicBezTo>
                <a:cubicBezTo>
                  <a:pt x="10600" y="7023"/>
                  <a:pt x="10566" y="7013"/>
                  <a:pt x="10517" y="69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98920" y="2544840"/>
            <a:ext cx="1446120" cy="98280"/>
          </a:xfrm>
          <a:custGeom>
            <a:avLst/>
            <a:gdLst/>
            <a:ahLst/>
            <a:rect l="l" t="t" r="r" b="b"/>
            <a:pathLst>
              <a:path w="4020" h="274">
                <a:moveTo>
                  <a:pt x="10071" y="7069"/>
                </a:moveTo>
                <a:cubicBezTo>
                  <a:pt x="10057" y="7124"/>
                  <a:pt x="9927" y="7358"/>
                  <a:pt x="10021" y="7268"/>
                </a:cubicBezTo>
              </a:path>
              <a:path w="4020" h="274">
                <a:moveTo>
                  <a:pt x="13965" y="7268"/>
                </a:moveTo>
                <a:cubicBezTo>
                  <a:pt x="13989" y="7299"/>
                  <a:pt x="13991" y="7311"/>
                  <a:pt x="14015" y="73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68760" y="1643040"/>
            <a:ext cx="473040" cy="223920"/>
          </a:xfrm>
          <a:custGeom>
            <a:avLst/>
            <a:gdLst/>
            <a:ahLst/>
            <a:rect l="l" t="t" r="r" b="b"/>
            <a:pathLst>
              <a:path w="1316" h="621">
                <a:moveTo>
                  <a:pt x="7813" y="4589"/>
                </a:moveTo>
                <a:cubicBezTo>
                  <a:pt x="7753" y="4732"/>
                  <a:pt x="7615" y="4967"/>
                  <a:pt x="7739" y="5110"/>
                </a:cubicBezTo>
                <a:cubicBezTo>
                  <a:pt x="7764" y="5118"/>
                  <a:pt x="7788" y="5127"/>
                  <a:pt x="7813" y="5135"/>
                </a:cubicBezTo>
                <a:cubicBezTo>
                  <a:pt x="7963" y="5040"/>
                  <a:pt x="7991" y="4915"/>
                  <a:pt x="7863" y="4762"/>
                </a:cubicBezTo>
                <a:cubicBezTo>
                  <a:pt x="7819" y="4741"/>
                  <a:pt x="7807" y="4738"/>
                  <a:pt x="7789" y="4713"/>
                </a:cubicBezTo>
              </a:path>
              <a:path w="1316" h="621">
                <a:moveTo>
                  <a:pt x="8111" y="5110"/>
                </a:moveTo>
                <a:cubicBezTo>
                  <a:pt x="8111" y="5159"/>
                  <a:pt x="8105" y="5164"/>
                  <a:pt x="8136" y="5184"/>
                </a:cubicBezTo>
                <a:cubicBezTo>
                  <a:pt x="8194" y="5146"/>
                  <a:pt x="8124" y="5113"/>
                  <a:pt x="8086" y="5060"/>
                </a:cubicBezTo>
              </a:path>
              <a:path w="1316" h="621">
                <a:moveTo>
                  <a:pt x="8310" y="4614"/>
                </a:moveTo>
                <a:cubicBezTo>
                  <a:pt x="8360" y="4546"/>
                  <a:pt x="8492" y="4519"/>
                  <a:pt x="8508" y="4663"/>
                </a:cubicBezTo>
                <a:cubicBezTo>
                  <a:pt x="8521" y="4783"/>
                  <a:pt x="8465" y="4831"/>
                  <a:pt x="8384" y="4862"/>
                </a:cubicBezTo>
                <a:cubicBezTo>
                  <a:pt x="8462" y="4773"/>
                  <a:pt x="8646" y="4790"/>
                  <a:pt x="8632" y="4986"/>
                </a:cubicBezTo>
                <a:cubicBezTo>
                  <a:pt x="8614" y="5239"/>
                  <a:pt x="8427" y="5185"/>
                  <a:pt x="8285" y="5110"/>
                </a:cubicBezTo>
              </a:path>
              <a:path w="1316" h="621">
                <a:moveTo>
                  <a:pt x="8806" y="4564"/>
                </a:moveTo>
                <a:cubicBezTo>
                  <a:pt x="8788" y="4740"/>
                  <a:pt x="8770" y="4887"/>
                  <a:pt x="8781" y="5060"/>
                </a:cubicBezTo>
                <a:cubicBezTo>
                  <a:pt x="8793" y="5251"/>
                  <a:pt x="8959" y="5125"/>
                  <a:pt x="9004" y="5035"/>
                </a:cubicBezTo>
                <a:cubicBezTo>
                  <a:pt x="9004" y="5027"/>
                  <a:pt x="9004" y="5019"/>
                  <a:pt x="9004" y="5011"/>
                </a:cubicBezTo>
                <a:cubicBezTo>
                  <a:pt x="8938" y="4989"/>
                  <a:pt x="8757" y="4983"/>
                  <a:pt x="8830" y="5135"/>
                </a:cubicBezTo>
                <a:cubicBezTo>
                  <a:pt x="8847" y="5151"/>
                  <a:pt x="8863" y="5168"/>
                  <a:pt x="8880" y="51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929120" y="1768320"/>
            <a:ext cx="3438720" cy="561960"/>
          </a:xfrm>
          <a:custGeom>
            <a:avLst/>
            <a:gdLst/>
            <a:ahLst/>
            <a:rect l="l" t="t" r="r" b="b"/>
            <a:pathLst>
              <a:path w="9551" h="1564">
                <a:moveTo>
                  <a:pt x="13692" y="4936"/>
                </a:moveTo>
                <a:cubicBezTo>
                  <a:pt x="13692" y="4944"/>
                  <a:pt x="13692" y="4953"/>
                  <a:pt x="13692" y="4961"/>
                </a:cubicBezTo>
              </a:path>
              <a:path w="9551" h="1564">
                <a:moveTo>
                  <a:pt x="19372" y="5135"/>
                </a:moveTo>
                <a:cubicBezTo>
                  <a:pt x="19372" y="5151"/>
                  <a:pt x="19372" y="5168"/>
                  <a:pt x="19372" y="5184"/>
                </a:cubicBezTo>
              </a:path>
              <a:path w="9551" h="1564">
                <a:moveTo>
                  <a:pt x="20712" y="5234"/>
                </a:moveTo>
                <a:cubicBezTo>
                  <a:pt x="20692" y="5311"/>
                  <a:pt x="20700" y="5329"/>
                  <a:pt x="20662" y="5358"/>
                </a:cubicBezTo>
              </a:path>
              <a:path w="9551" h="1564">
                <a:moveTo>
                  <a:pt x="21382" y="5259"/>
                </a:moveTo>
                <a:cubicBezTo>
                  <a:pt x="21374" y="5267"/>
                  <a:pt x="21365" y="5275"/>
                  <a:pt x="21357" y="5283"/>
                </a:cubicBezTo>
              </a:path>
              <a:path w="9551" h="1564">
                <a:moveTo>
                  <a:pt x="22597" y="5060"/>
                </a:moveTo>
                <a:cubicBezTo>
                  <a:pt x="22571" y="5165"/>
                  <a:pt x="22555" y="5241"/>
                  <a:pt x="22498" y="5333"/>
                </a:cubicBezTo>
              </a:path>
              <a:path w="9551" h="1564">
                <a:moveTo>
                  <a:pt x="23242" y="4911"/>
                </a:moveTo>
                <a:cubicBezTo>
                  <a:pt x="23217" y="4911"/>
                  <a:pt x="23209" y="4911"/>
                  <a:pt x="23217" y="4936"/>
                </a:cubicBezTo>
              </a:path>
              <a:path w="9551" h="1564">
                <a:moveTo>
                  <a:pt x="17636" y="6400"/>
                </a:moveTo>
                <a:cubicBezTo>
                  <a:pt x="17658" y="6443"/>
                  <a:pt x="17671" y="6455"/>
                  <a:pt x="17636" y="64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81360" y="1490760"/>
            <a:ext cx="4170600" cy="1216080"/>
          </a:xfrm>
          <a:custGeom>
            <a:avLst/>
            <a:gdLst/>
            <a:ahLst/>
            <a:rect l="l" t="t" r="r" b="b"/>
            <a:pathLst>
              <a:path w="11585" h="3375">
                <a:moveTo>
                  <a:pt x="13295" y="4614"/>
                </a:moveTo>
                <a:cubicBezTo>
                  <a:pt x="13268" y="4724"/>
                  <a:pt x="13210" y="4836"/>
                  <a:pt x="13196" y="4961"/>
                </a:cubicBezTo>
                <a:cubicBezTo>
                  <a:pt x="13196" y="4994"/>
                  <a:pt x="13196" y="5027"/>
                  <a:pt x="13196" y="5060"/>
                </a:cubicBezTo>
                <a:cubicBezTo>
                  <a:pt x="13360" y="5090"/>
                  <a:pt x="13497" y="5035"/>
                  <a:pt x="13519" y="4837"/>
                </a:cubicBezTo>
                <a:cubicBezTo>
                  <a:pt x="13533" y="4706"/>
                  <a:pt x="13462" y="4669"/>
                  <a:pt x="13370" y="4638"/>
                </a:cubicBezTo>
              </a:path>
              <a:path w="11585" h="3375">
                <a:moveTo>
                  <a:pt x="13940" y="4514"/>
                </a:moveTo>
                <a:cubicBezTo>
                  <a:pt x="14041" y="4507"/>
                  <a:pt x="14135" y="4490"/>
                  <a:pt x="14238" y="4490"/>
                </a:cubicBezTo>
                <a:cubicBezTo>
                  <a:pt x="14246" y="4490"/>
                  <a:pt x="14255" y="4490"/>
                  <a:pt x="14263" y="4490"/>
                </a:cubicBezTo>
                <a:cubicBezTo>
                  <a:pt x="14263" y="4630"/>
                  <a:pt x="14237" y="4750"/>
                  <a:pt x="14213" y="4887"/>
                </a:cubicBezTo>
                <a:cubicBezTo>
                  <a:pt x="14213" y="4895"/>
                  <a:pt x="14213" y="4903"/>
                  <a:pt x="14213" y="4911"/>
                </a:cubicBezTo>
              </a:path>
              <a:path w="11585" h="3375">
                <a:moveTo>
                  <a:pt x="13196" y="5407"/>
                </a:moveTo>
                <a:cubicBezTo>
                  <a:pt x="13196" y="5314"/>
                  <a:pt x="13158" y="5539"/>
                  <a:pt x="13146" y="5631"/>
                </a:cubicBezTo>
                <a:cubicBezTo>
                  <a:pt x="13146" y="5740"/>
                  <a:pt x="13141" y="5767"/>
                  <a:pt x="13171" y="5829"/>
                </a:cubicBezTo>
                <a:cubicBezTo>
                  <a:pt x="13309" y="5805"/>
                  <a:pt x="13499" y="5757"/>
                  <a:pt x="13444" y="5556"/>
                </a:cubicBezTo>
                <a:cubicBezTo>
                  <a:pt x="13424" y="5481"/>
                  <a:pt x="13356" y="5452"/>
                  <a:pt x="13295" y="5432"/>
                </a:cubicBezTo>
              </a:path>
              <a:path w="11585" h="3375">
                <a:moveTo>
                  <a:pt x="13667" y="5680"/>
                </a:moveTo>
                <a:cubicBezTo>
                  <a:pt x="13679" y="5721"/>
                  <a:pt x="13692" y="5797"/>
                  <a:pt x="13692" y="5755"/>
                </a:cubicBezTo>
              </a:path>
              <a:path w="11585" h="3375">
                <a:moveTo>
                  <a:pt x="13990" y="5358"/>
                </a:moveTo>
                <a:cubicBezTo>
                  <a:pt x="14044" y="5345"/>
                  <a:pt x="14243" y="5282"/>
                  <a:pt x="14288" y="5308"/>
                </a:cubicBezTo>
                <a:cubicBezTo>
                  <a:pt x="14343" y="5340"/>
                  <a:pt x="14226" y="5631"/>
                  <a:pt x="14213" y="5680"/>
                </a:cubicBezTo>
                <a:cubicBezTo>
                  <a:pt x="14213" y="5824"/>
                  <a:pt x="14291" y="5636"/>
                  <a:pt x="14362" y="5556"/>
                </a:cubicBezTo>
              </a:path>
              <a:path w="11585" h="3375">
                <a:moveTo>
                  <a:pt x="14734" y="5234"/>
                </a:moveTo>
                <a:cubicBezTo>
                  <a:pt x="14648" y="5234"/>
                  <a:pt x="14601" y="5208"/>
                  <a:pt x="14560" y="5283"/>
                </a:cubicBezTo>
                <a:cubicBezTo>
                  <a:pt x="14535" y="5327"/>
                  <a:pt x="14536" y="5338"/>
                  <a:pt x="14536" y="5383"/>
                </a:cubicBezTo>
                <a:cubicBezTo>
                  <a:pt x="14633" y="5383"/>
                  <a:pt x="14785" y="5341"/>
                  <a:pt x="14833" y="5457"/>
                </a:cubicBezTo>
                <a:cubicBezTo>
                  <a:pt x="14893" y="5603"/>
                  <a:pt x="14772" y="5739"/>
                  <a:pt x="14635" y="5730"/>
                </a:cubicBezTo>
                <a:cubicBezTo>
                  <a:pt x="14610" y="5722"/>
                  <a:pt x="14585" y="5713"/>
                  <a:pt x="14560" y="5705"/>
                </a:cubicBezTo>
              </a:path>
              <a:path w="11585" h="3375">
                <a:moveTo>
                  <a:pt x="13444" y="6251"/>
                </a:moveTo>
                <a:cubicBezTo>
                  <a:pt x="13434" y="6241"/>
                  <a:pt x="13269" y="6466"/>
                  <a:pt x="13246" y="6548"/>
                </a:cubicBezTo>
                <a:cubicBezTo>
                  <a:pt x="13246" y="6661"/>
                  <a:pt x="13240" y="6692"/>
                  <a:pt x="13295" y="6747"/>
                </a:cubicBezTo>
                <a:cubicBezTo>
                  <a:pt x="13466" y="6758"/>
                  <a:pt x="13637" y="6673"/>
                  <a:pt x="13618" y="6449"/>
                </a:cubicBezTo>
                <a:cubicBezTo>
                  <a:pt x="13615" y="6419"/>
                  <a:pt x="13452" y="6235"/>
                  <a:pt x="13519" y="6300"/>
                </a:cubicBezTo>
              </a:path>
              <a:path w="11585" h="3375">
                <a:moveTo>
                  <a:pt x="13915" y="6598"/>
                </a:moveTo>
                <a:cubicBezTo>
                  <a:pt x="13915" y="6623"/>
                  <a:pt x="13915" y="6631"/>
                  <a:pt x="13915" y="6648"/>
                </a:cubicBezTo>
              </a:path>
              <a:path w="11585" h="3375">
                <a:moveTo>
                  <a:pt x="14213" y="6300"/>
                </a:moveTo>
                <a:cubicBezTo>
                  <a:pt x="14290" y="6250"/>
                  <a:pt x="14342" y="6251"/>
                  <a:pt x="14436" y="6251"/>
                </a:cubicBezTo>
                <a:cubicBezTo>
                  <a:pt x="14444" y="6251"/>
                  <a:pt x="14453" y="6251"/>
                  <a:pt x="14461" y="6251"/>
                </a:cubicBezTo>
                <a:cubicBezTo>
                  <a:pt x="14443" y="6361"/>
                  <a:pt x="14458" y="6494"/>
                  <a:pt x="14412" y="6598"/>
                </a:cubicBezTo>
                <a:cubicBezTo>
                  <a:pt x="14387" y="6598"/>
                  <a:pt x="14379" y="6598"/>
                  <a:pt x="14412" y="6598"/>
                </a:cubicBezTo>
              </a:path>
              <a:path w="11585" h="3375">
                <a:moveTo>
                  <a:pt x="14883" y="6176"/>
                </a:moveTo>
                <a:cubicBezTo>
                  <a:pt x="14814" y="6186"/>
                  <a:pt x="14739" y="6193"/>
                  <a:pt x="14709" y="6226"/>
                </a:cubicBezTo>
                <a:cubicBezTo>
                  <a:pt x="14660" y="6280"/>
                  <a:pt x="14647" y="6303"/>
                  <a:pt x="14635" y="6375"/>
                </a:cubicBezTo>
                <a:cubicBezTo>
                  <a:pt x="14709" y="6363"/>
                  <a:pt x="14811" y="6316"/>
                  <a:pt x="14883" y="6375"/>
                </a:cubicBezTo>
                <a:cubicBezTo>
                  <a:pt x="14976" y="6451"/>
                  <a:pt x="14987" y="6609"/>
                  <a:pt x="14833" y="6623"/>
                </a:cubicBezTo>
                <a:cubicBezTo>
                  <a:pt x="14708" y="6634"/>
                  <a:pt x="14715" y="6606"/>
                  <a:pt x="14734" y="6548"/>
                </a:cubicBezTo>
              </a:path>
              <a:path w="11585" h="3375">
                <a:moveTo>
                  <a:pt x="15329" y="6176"/>
                </a:moveTo>
                <a:cubicBezTo>
                  <a:pt x="15329" y="6292"/>
                  <a:pt x="15329" y="6408"/>
                  <a:pt x="15329" y="6524"/>
                </a:cubicBezTo>
              </a:path>
              <a:path w="11585" h="3375">
                <a:moveTo>
                  <a:pt x="13543" y="7045"/>
                </a:moveTo>
                <a:cubicBezTo>
                  <a:pt x="13418" y="7065"/>
                  <a:pt x="13304" y="7191"/>
                  <a:pt x="13271" y="7317"/>
                </a:cubicBezTo>
                <a:cubicBezTo>
                  <a:pt x="13210" y="7553"/>
                  <a:pt x="13432" y="7573"/>
                  <a:pt x="13568" y="7441"/>
                </a:cubicBezTo>
                <a:cubicBezTo>
                  <a:pt x="13668" y="7344"/>
                  <a:pt x="13674" y="7175"/>
                  <a:pt x="13593" y="7094"/>
                </a:cubicBezTo>
                <a:cubicBezTo>
                  <a:pt x="13565" y="7066"/>
                  <a:pt x="13527" y="7074"/>
                  <a:pt x="13568" y="7094"/>
                </a:cubicBezTo>
              </a:path>
              <a:path w="11585" h="3375">
                <a:moveTo>
                  <a:pt x="15255" y="5135"/>
                </a:moveTo>
                <a:cubicBezTo>
                  <a:pt x="15176" y="5228"/>
                  <a:pt x="15105" y="5361"/>
                  <a:pt x="15081" y="5482"/>
                </a:cubicBezTo>
                <a:cubicBezTo>
                  <a:pt x="15081" y="5515"/>
                  <a:pt x="15081" y="5548"/>
                  <a:pt x="15081" y="5581"/>
                </a:cubicBezTo>
                <a:cubicBezTo>
                  <a:pt x="15222" y="5595"/>
                  <a:pt x="15320" y="5502"/>
                  <a:pt x="15280" y="5333"/>
                </a:cubicBezTo>
                <a:cubicBezTo>
                  <a:pt x="15227" y="5255"/>
                  <a:pt x="15207" y="5226"/>
                  <a:pt x="15156" y="5184"/>
                </a:cubicBezTo>
              </a:path>
              <a:path w="11585" h="3375">
                <a:moveTo>
                  <a:pt x="14610" y="4638"/>
                </a:moveTo>
                <a:cubicBezTo>
                  <a:pt x="14557" y="4753"/>
                  <a:pt x="14544" y="4810"/>
                  <a:pt x="14560" y="4936"/>
                </a:cubicBezTo>
                <a:cubicBezTo>
                  <a:pt x="14696" y="4925"/>
                  <a:pt x="14805" y="4881"/>
                  <a:pt x="14734" y="4713"/>
                </a:cubicBezTo>
                <a:cubicBezTo>
                  <a:pt x="14704" y="4643"/>
                  <a:pt x="14632" y="4648"/>
                  <a:pt x="14610" y="4663"/>
                </a:cubicBezTo>
              </a:path>
              <a:path w="11585" h="3375">
                <a:moveTo>
                  <a:pt x="15106" y="4564"/>
                </a:moveTo>
                <a:cubicBezTo>
                  <a:pt x="15007" y="4630"/>
                  <a:pt x="14902" y="4826"/>
                  <a:pt x="14957" y="4961"/>
                </a:cubicBezTo>
                <a:cubicBezTo>
                  <a:pt x="14982" y="4978"/>
                  <a:pt x="15007" y="4994"/>
                  <a:pt x="15032" y="5011"/>
                </a:cubicBezTo>
                <a:cubicBezTo>
                  <a:pt x="15131" y="4973"/>
                  <a:pt x="15373" y="4869"/>
                  <a:pt x="15230" y="4713"/>
                </a:cubicBezTo>
                <a:cubicBezTo>
                  <a:pt x="15197" y="4696"/>
                  <a:pt x="15164" y="4680"/>
                  <a:pt x="15131" y="4663"/>
                </a:cubicBezTo>
              </a:path>
              <a:path w="11585" h="3375">
                <a:moveTo>
                  <a:pt x="15627" y="4341"/>
                </a:moveTo>
                <a:cubicBezTo>
                  <a:pt x="15730" y="4309"/>
                  <a:pt x="15830" y="4302"/>
                  <a:pt x="15949" y="4291"/>
                </a:cubicBezTo>
                <a:cubicBezTo>
                  <a:pt x="16231" y="4266"/>
                  <a:pt x="16512" y="4223"/>
                  <a:pt x="16793" y="4192"/>
                </a:cubicBezTo>
                <a:cubicBezTo>
                  <a:pt x="17112" y="4157"/>
                  <a:pt x="17391" y="4157"/>
                  <a:pt x="17711" y="4167"/>
                </a:cubicBezTo>
                <a:cubicBezTo>
                  <a:pt x="18007" y="4176"/>
                  <a:pt x="18285" y="4184"/>
                  <a:pt x="18579" y="4217"/>
                </a:cubicBezTo>
                <a:cubicBezTo>
                  <a:pt x="18610" y="4221"/>
                  <a:pt x="18646" y="4217"/>
                  <a:pt x="18678" y="4217"/>
                </a:cubicBezTo>
              </a:path>
              <a:path w="11585" h="3375">
                <a:moveTo>
                  <a:pt x="13122" y="4663"/>
                </a:moveTo>
                <a:cubicBezTo>
                  <a:pt x="13044" y="4682"/>
                  <a:pt x="12957" y="4706"/>
                  <a:pt x="12874" y="4713"/>
                </a:cubicBezTo>
                <a:cubicBezTo>
                  <a:pt x="12770" y="4722"/>
                  <a:pt x="12793" y="4717"/>
                  <a:pt x="12725" y="4738"/>
                </a:cubicBezTo>
                <a:cubicBezTo>
                  <a:pt x="12725" y="5021"/>
                  <a:pt x="12728" y="5298"/>
                  <a:pt x="12750" y="5581"/>
                </a:cubicBezTo>
                <a:cubicBezTo>
                  <a:pt x="12771" y="5854"/>
                  <a:pt x="12782" y="6128"/>
                  <a:pt x="12799" y="6400"/>
                </a:cubicBezTo>
                <a:cubicBezTo>
                  <a:pt x="12806" y="6512"/>
                  <a:pt x="12791" y="6591"/>
                  <a:pt x="12824" y="6697"/>
                </a:cubicBezTo>
                <a:cubicBezTo>
                  <a:pt x="12851" y="6785"/>
                  <a:pt x="12862" y="6879"/>
                  <a:pt x="12874" y="6970"/>
                </a:cubicBezTo>
                <a:cubicBezTo>
                  <a:pt x="12874" y="6978"/>
                  <a:pt x="12874" y="6987"/>
                  <a:pt x="12874" y="6995"/>
                </a:cubicBezTo>
                <a:cubicBezTo>
                  <a:pt x="12992" y="6987"/>
                  <a:pt x="13103" y="6959"/>
                  <a:pt x="13221" y="6945"/>
                </a:cubicBezTo>
                <a:cubicBezTo>
                  <a:pt x="13246" y="6945"/>
                  <a:pt x="13254" y="6945"/>
                  <a:pt x="13271" y="6945"/>
                </a:cubicBezTo>
              </a:path>
              <a:path w="11585" h="3375">
                <a:moveTo>
                  <a:pt x="14709" y="5358"/>
                </a:moveTo>
                <a:cubicBezTo>
                  <a:pt x="14709" y="5350"/>
                  <a:pt x="14709" y="5341"/>
                  <a:pt x="14709" y="5333"/>
                </a:cubicBezTo>
                <a:cubicBezTo>
                  <a:pt x="14685" y="5345"/>
                  <a:pt x="14729" y="5440"/>
                  <a:pt x="14734" y="5507"/>
                </a:cubicBezTo>
                <a:cubicBezTo>
                  <a:pt x="14746" y="5664"/>
                  <a:pt x="14773" y="5822"/>
                  <a:pt x="14784" y="5978"/>
                </a:cubicBezTo>
                <a:cubicBezTo>
                  <a:pt x="14794" y="6114"/>
                  <a:pt x="14790" y="6242"/>
                  <a:pt x="14808" y="6375"/>
                </a:cubicBezTo>
                <a:cubicBezTo>
                  <a:pt x="14815" y="6427"/>
                  <a:pt x="14810" y="6528"/>
                  <a:pt x="14833" y="6573"/>
                </a:cubicBezTo>
                <a:cubicBezTo>
                  <a:pt x="14856" y="6596"/>
                  <a:pt x="14867" y="6604"/>
                  <a:pt x="14833" y="6598"/>
                </a:cubicBezTo>
              </a:path>
              <a:path w="11585" h="3375">
                <a:moveTo>
                  <a:pt x="16892" y="4936"/>
                </a:moveTo>
                <a:cubicBezTo>
                  <a:pt x="16866" y="5067"/>
                  <a:pt x="16806" y="5202"/>
                  <a:pt x="16768" y="5333"/>
                </a:cubicBezTo>
                <a:cubicBezTo>
                  <a:pt x="16760" y="5366"/>
                  <a:pt x="16751" y="5399"/>
                  <a:pt x="16743" y="5432"/>
                </a:cubicBezTo>
                <a:cubicBezTo>
                  <a:pt x="16866" y="5467"/>
                  <a:pt x="16974" y="5368"/>
                  <a:pt x="17016" y="5234"/>
                </a:cubicBezTo>
                <a:cubicBezTo>
                  <a:pt x="17042" y="5151"/>
                  <a:pt x="17019" y="5088"/>
                  <a:pt x="16966" y="5035"/>
                </a:cubicBezTo>
              </a:path>
              <a:path w="11585" h="3375">
                <a:moveTo>
                  <a:pt x="17190" y="5333"/>
                </a:moveTo>
                <a:cubicBezTo>
                  <a:pt x="17190" y="5398"/>
                  <a:pt x="17161" y="5450"/>
                  <a:pt x="17214" y="5432"/>
                </a:cubicBezTo>
              </a:path>
              <a:path w="11585" h="3375">
                <a:moveTo>
                  <a:pt x="17388" y="5035"/>
                </a:moveTo>
                <a:cubicBezTo>
                  <a:pt x="17412" y="5000"/>
                  <a:pt x="17580" y="4952"/>
                  <a:pt x="17636" y="5011"/>
                </a:cubicBezTo>
                <a:cubicBezTo>
                  <a:pt x="17733" y="5114"/>
                  <a:pt x="17411" y="5506"/>
                  <a:pt x="17512" y="5407"/>
                </a:cubicBezTo>
                <a:cubicBezTo>
                  <a:pt x="17520" y="5391"/>
                  <a:pt x="17529" y="5374"/>
                  <a:pt x="17537" y="5358"/>
                </a:cubicBezTo>
              </a:path>
              <a:path w="11585" h="3375">
                <a:moveTo>
                  <a:pt x="18058" y="4936"/>
                </a:moveTo>
                <a:cubicBezTo>
                  <a:pt x="17989" y="4943"/>
                  <a:pt x="17915" y="4971"/>
                  <a:pt x="17884" y="4986"/>
                </a:cubicBezTo>
                <a:cubicBezTo>
                  <a:pt x="17849" y="5003"/>
                  <a:pt x="17856" y="5042"/>
                  <a:pt x="17835" y="5085"/>
                </a:cubicBezTo>
                <a:cubicBezTo>
                  <a:pt x="17923" y="5085"/>
                  <a:pt x="17987" y="5068"/>
                  <a:pt x="18058" y="5135"/>
                </a:cubicBezTo>
                <a:cubicBezTo>
                  <a:pt x="18172" y="5241"/>
                  <a:pt x="17947" y="5397"/>
                  <a:pt x="17859" y="5407"/>
                </a:cubicBezTo>
                <a:cubicBezTo>
                  <a:pt x="17767" y="5385"/>
                  <a:pt x="17732" y="5384"/>
                  <a:pt x="17785" y="5308"/>
                </a:cubicBezTo>
              </a:path>
              <a:path w="11585" h="3375">
                <a:moveTo>
                  <a:pt x="18306" y="4887"/>
                </a:moveTo>
                <a:cubicBezTo>
                  <a:pt x="18313" y="4973"/>
                  <a:pt x="18374" y="5149"/>
                  <a:pt x="18331" y="5234"/>
                </a:cubicBezTo>
                <a:cubicBezTo>
                  <a:pt x="18323" y="5234"/>
                  <a:pt x="18314" y="5234"/>
                  <a:pt x="18306" y="5234"/>
                </a:cubicBezTo>
              </a:path>
              <a:path w="11585" h="3375">
                <a:moveTo>
                  <a:pt x="18703" y="5184"/>
                </a:moveTo>
                <a:cubicBezTo>
                  <a:pt x="18693" y="5269"/>
                  <a:pt x="18680" y="5352"/>
                  <a:pt x="18653" y="5432"/>
                </a:cubicBezTo>
              </a:path>
              <a:path w="11585" h="3375">
                <a:moveTo>
                  <a:pt x="19050" y="4837"/>
                </a:moveTo>
                <a:cubicBezTo>
                  <a:pt x="19050" y="4749"/>
                  <a:pt x="18992" y="4949"/>
                  <a:pt x="18976" y="5035"/>
                </a:cubicBezTo>
                <a:cubicBezTo>
                  <a:pt x="18960" y="5118"/>
                  <a:pt x="18997" y="5357"/>
                  <a:pt x="19124" y="5184"/>
                </a:cubicBezTo>
                <a:cubicBezTo>
                  <a:pt x="19214" y="5061"/>
                  <a:pt x="19177" y="5007"/>
                  <a:pt x="19149" y="4911"/>
                </a:cubicBezTo>
                <a:cubicBezTo>
                  <a:pt x="19149" y="4895"/>
                  <a:pt x="19149" y="4878"/>
                  <a:pt x="19149" y="4862"/>
                </a:cubicBezTo>
              </a:path>
              <a:path w="11585" h="3375">
                <a:moveTo>
                  <a:pt x="19472" y="4862"/>
                </a:moveTo>
                <a:cubicBezTo>
                  <a:pt x="19570" y="4848"/>
                  <a:pt x="19632" y="4824"/>
                  <a:pt x="19720" y="4862"/>
                </a:cubicBezTo>
                <a:cubicBezTo>
                  <a:pt x="19715" y="4908"/>
                  <a:pt x="19640" y="5154"/>
                  <a:pt x="19645" y="5159"/>
                </a:cubicBezTo>
                <a:cubicBezTo>
                  <a:pt x="19662" y="5151"/>
                  <a:pt x="19678" y="5143"/>
                  <a:pt x="19695" y="5135"/>
                </a:cubicBezTo>
              </a:path>
              <a:path w="11585" h="3375">
                <a:moveTo>
                  <a:pt x="20166" y="4762"/>
                </a:moveTo>
                <a:cubicBezTo>
                  <a:pt x="20120" y="4768"/>
                  <a:pt x="20046" y="4770"/>
                  <a:pt x="20017" y="4812"/>
                </a:cubicBezTo>
                <a:cubicBezTo>
                  <a:pt x="20009" y="4829"/>
                  <a:pt x="20001" y="4845"/>
                  <a:pt x="19993" y="4862"/>
                </a:cubicBezTo>
                <a:cubicBezTo>
                  <a:pt x="20103" y="4899"/>
                  <a:pt x="20166" y="4880"/>
                  <a:pt x="20141" y="5035"/>
                </a:cubicBezTo>
                <a:cubicBezTo>
                  <a:pt x="20121" y="5162"/>
                  <a:pt x="19862" y="5164"/>
                  <a:pt x="19918" y="5060"/>
                </a:cubicBezTo>
                <a:cubicBezTo>
                  <a:pt x="19951" y="5035"/>
                  <a:pt x="19984" y="5011"/>
                  <a:pt x="20017" y="4986"/>
                </a:cubicBezTo>
              </a:path>
              <a:path w="11585" h="3375">
                <a:moveTo>
                  <a:pt x="20414" y="4738"/>
                </a:moveTo>
                <a:cubicBezTo>
                  <a:pt x="20287" y="4844"/>
                  <a:pt x="20297" y="4952"/>
                  <a:pt x="20315" y="5110"/>
                </a:cubicBezTo>
                <a:cubicBezTo>
                  <a:pt x="20471" y="5121"/>
                  <a:pt x="20631" y="5070"/>
                  <a:pt x="20588" y="4862"/>
                </a:cubicBezTo>
                <a:cubicBezTo>
                  <a:pt x="20570" y="4776"/>
                  <a:pt x="20505" y="4773"/>
                  <a:pt x="20439" y="4762"/>
                </a:cubicBezTo>
              </a:path>
              <a:path w="11585" h="3375">
                <a:moveTo>
                  <a:pt x="21307" y="4837"/>
                </a:moveTo>
                <a:cubicBezTo>
                  <a:pt x="21202" y="4795"/>
                  <a:pt x="21102" y="4965"/>
                  <a:pt x="21059" y="5060"/>
                </a:cubicBezTo>
                <a:cubicBezTo>
                  <a:pt x="21059" y="5077"/>
                  <a:pt x="21059" y="5093"/>
                  <a:pt x="21059" y="5110"/>
                </a:cubicBezTo>
                <a:cubicBezTo>
                  <a:pt x="21234" y="5132"/>
                  <a:pt x="21329" y="5118"/>
                  <a:pt x="21282" y="4911"/>
                </a:cubicBezTo>
                <a:cubicBezTo>
                  <a:pt x="21262" y="4871"/>
                  <a:pt x="21254" y="4864"/>
                  <a:pt x="21258" y="4837"/>
                </a:cubicBezTo>
              </a:path>
              <a:path w="11585" h="3375">
                <a:moveTo>
                  <a:pt x="21555" y="4837"/>
                </a:moveTo>
                <a:cubicBezTo>
                  <a:pt x="21568" y="4799"/>
                  <a:pt x="21704" y="4792"/>
                  <a:pt x="21754" y="4787"/>
                </a:cubicBezTo>
                <a:cubicBezTo>
                  <a:pt x="21779" y="4787"/>
                  <a:pt x="21803" y="4787"/>
                  <a:pt x="21828" y="4787"/>
                </a:cubicBezTo>
                <a:cubicBezTo>
                  <a:pt x="21805" y="4904"/>
                  <a:pt x="21688" y="5021"/>
                  <a:pt x="21679" y="5135"/>
                </a:cubicBezTo>
                <a:cubicBezTo>
                  <a:pt x="21751" y="5135"/>
                  <a:pt x="21802" y="5114"/>
                  <a:pt x="21853" y="5060"/>
                </a:cubicBezTo>
              </a:path>
              <a:path w="11585" h="3375">
                <a:moveTo>
                  <a:pt x="22051" y="4787"/>
                </a:moveTo>
                <a:cubicBezTo>
                  <a:pt x="21928" y="4850"/>
                  <a:pt x="21904" y="4955"/>
                  <a:pt x="21878" y="5085"/>
                </a:cubicBezTo>
                <a:cubicBezTo>
                  <a:pt x="22012" y="5085"/>
                  <a:pt x="22095" y="5044"/>
                  <a:pt x="22101" y="4887"/>
                </a:cubicBezTo>
                <a:cubicBezTo>
                  <a:pt x="22104" y="4799"/>
                  <a:pt x="22034" y="4859"/>
                  <a:pt x="22051" y="4787"/>
                </a:cubicBezTo>
              </a:path>
              <a:path w="11585" h="3375">
                <a:moveTo>
                  <a:pt x="22423" y="4713"/>
                </a:moveTo>
                <a:cubicBezTo>
                  <a:pt x="22313" y="4750"/>
                  <a:pt x="22216" y="4855"/>
                  <a:pt x="22250" y="4986"/>
                </a:cubicBezTo>
                <a:cubicBezTo>
                  <a:pt x="22290" y="5142"/>
                  <a:pt x="22514" y="4982"/>
                  <a:pt x="22498" y="4862"/>
                </a:cubicBezTo>
                <a:cubicBezTo>
                  <a:pt x="22450" y="4790"/>
                  <a:pt x="22437" y="4767"/>
                  <a:pt x="22374" y="4762"/>
                </a:cubicBezTo>
              </a:path>
              <a:path w="11585" h="3375">
                <a:moveTo>
                  <a:pt x="22920" y="4564"/>
                </a:moveTo>
                <a:cubicBezTo>
                  <a:pt x="22839" y="4712"/>
                  <a:pt x="22789" y="4818"/>
                  <a:pt x="22771" y="4986"/>
                </a:cubicBezTo>
                <a:cubicBezTo>
                  <a:pt x="22937" y="4986"/>
                  <a:pt x="22978" y="4921"/>
                  <a:pt x="23019" y="4762"/>
                </a:cubicBezTo>
                <a:cubicBezTo>
                  <a:pt x="23038" y="4690"/>
                  <a:pt x="22966" y="4694"/>
                  <a:pt x="22920" y="4663"/>
                </a:cubicBezTo>
              </a:path>
              <a:path w="11585" h="3375">
                <a:moveTo>
                  <a:pt x="23490" y="4589"/>
                </a:moveTo>
                <a:cubicBezTo>
                  <a:pt x="23502" y="4554"/>
                  <a:pt x="23591" y="4548"/>
                  <a:pt x="23639" y="4539"/>
                </a:cubicBezTo>
                <a:cubicBezTo>
                  <a:pt x="23647" y="4539"/>
                  <a:pt x="23656" y="4539"/>
                  <a:pt x="23664" y="4539"/>
                </a:cubicBezTo>
                <a:cubicBezTo>
                  <a:pt x="23624" y="4599"/>
                  <a:pt x="23585" y="4658"/>
                  <a:pt x="23540" y="4713"/>
                </a:cubicBezTo>
                <a:cubicBezTo>
                  <a:pt x="23649" y="4693"/>
                  <a:pt x="23770" y="4755"/>
                  <a:pt x="23639" y="4887"/>
                </a:cubicBezTo>
                <a:cubicBezTo>
                  <a:pt x="23530" y="4996"/>
                  <a:pt x="23466" y="4929"/>
                  <a:pt x="23391" y="4862"/>
                </a:cubicBezTo>
              </a:path>
              <a:path w="11585" h="3375">
                <a:moveTo>
                  <a:pt x="23862" y="4490"/>
                </a:moveTo>
                <a:cubicBezTo>
                  <a:pt x="23862" y="4600"/>
                  <a:pt x="23819" y="4684"/>
                  <a:pt x="23788" y="4787"/>
                </a:cubicBezTo>
                <a:cubicBezTo>
                  <a:pt x="23780" y="4820"/>
                  <a:pt x="23771" y="4854"/>
                  <a:pt x="23763" y="4887"/>
                </a:cubicBezTo>
                <a:cubicBezTo>
                  <a:pt x="23896" y="4926"/>
                  <a:pt x="23977" y="4922"/>
                  <a:pt x="24036" y="4787"/>
                </a:cubicBezTo>
                <a:cubicBezTo>
                  <a:pt x="24036" y="4779"/>
                  <a:pt x="24036" y="4770"/>
                  <a:pt x="24036" y="4762"/>
                </a:cubicBezTo>
                <a:cubicBezTo>
                  <a:pt x="23893" y="4798"/>
                  <a:pt x="23833" y="4853"/>
                  <a:pt x="23887" y="4986"/>
                </a:cubicBezTo>
              </a:path>
              <a:path w="11585" h="3375">
                <a:moveTo>
                  <a:pt x="24185" y="4490"/>
                </a:moveTo>
                <a:cubicBezTo>
                  <a:pt x="24074" y="4545"/>
                  <a:pt x="24013" y="4685"/>
                  <a:pt x="24085" y="4812"/>
                </a:cubicBezTo>
                <a:cubicBezTo>
                  <a:pt x="24110" y="4829"/>
                  <a:pt x="24135" y="4845"/>
                  <a:pt x="24160" y="4862"/>
                </a:cubicBezTo>
                <a:cubicBezTo>
                  <a:pt x="24271" y="4834"/>
                  <a:pt x="24423" y="4691"/>
                  <a:pt x="24259" y="4564"/>
                </a:cubicBezTo>
                <a:cubicBezTo>
                  <a:pt x="24218" y="4556"/>
                  <a:pt x="24176" y="4547"/>
                  <a:pt x="24135" y="4539"/>
                </a:cubicBezTo>
              </a:path>
              <a:path w="11585" h="3375">
                <a:moveTo>
                  <a:pt x="17314" y="6102"/>
                </a:moveTo>
                <a:cubicBezTo>
                  <a:pt x="17288" y="6205"/>
                  <a:pt x="17226" y="6276"/>
                  <a:pt x="17214" y="6400"/>
                </a:cubicBezTo>
                <a:cubicBezTo>
                  <a:pt x="17214" y="6510"/>
                  <a:pt x="17187" y="6533"/>
                  <a:pt x="17239" y="6573"/>
                </a:cubicBezTo>
                <a:cubicBezTo>
                  <a:pt x="17426" y="6500"/>
                  <a:pt x="17508" y="6400"/>
                  <a:pt x="17413" y="6176"/>
                </a:cubicBezTo>
                <a:cubicBezTo>
                  <a:pt x="17374" y="6138"/>
                  <a:pt x="17357" y="6136"/>
                  <a:pt x="17363" y="61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1571760"/>
            <a:ext cx="312480" cy="1071360"/>
          </a:xfrm>
          <a:custGeom>
            <a:avLst/>
            <a:gdLst/>
            <a:ahLst/>
            <a:rect l="l" t="t" r="r" b="b"/>
            <a:pathLst>
              <a:path w="869" h="2977">
                <a:moveTo>
                  <a:pt x="15751" y="6077"/>
                </a:moveTo>
                <a:cubicBezTo>
                  <a:pt x="15751" y="6145"/>
                  <a:pt x="15769" y="6209"/>
                  <a:pt x="15776" y="6276"/>
                </a:cubicBezTo>
              </a:path>
              <a:path w="869" h="2977">
                <a:moveTo>
                  <a:pt x="15602" y="6350"/>
                </a:moveTo>
                <a:cubicBezTo>
                  <a:pt x="15713" y="6406"/>
                  <a:pt x="15909" y="6439"/>
                  <a:pt x="16024" y="6325"/>
                </a:cubicBezTo>
                <a:cubicBezTo>
                  <a:pt x="16095" y="6254"/>
                  <a:pt x="16127" y="6059"/>
                  <a:pt x="16049" y="5978"/>
                </a:cubicBezTo>
                <a:cubicBezTo>
                  <a:pt x="15905" y="5829"/>
                  <a:pt x="15747" y="5905"/>
                  <a:pt x="15677" y="6077"/>
                </a:cubicBezTo>
                <a:cubicBezTo>
                  <a:pt x="15618" y="6222"/>
                  <a:pt x="15662" y="6261"/>
                  <a:pt x="15751" y="6350"/>
                </a:cubicBezTo>
              </a:path>
              <a:path w="869" h="2977">
                <a:moveTo>
                  <a:pt x="15677" y="5259"/>
                </a:moveTo>
                <a:cubicBezTo>
                  <a:pt x="15689" y="5209"/>
                  <a:pt x="15712" y="5213"/>
                  <a:pt x="15751" y="5184"/>
                </a:cubicBezTo>
                <a:cubicBezTo>
                  <a:pt x="15741" y="5271"/>
                  <a:pt x="15701" y="5326"/>
                  <a:pt x="15677" y="5407"/>
                </a:cubicBezTo>
                <a:cubicBezTo>
                  <a:pt x="15657" y="5474"/>
                  <a:pt x="15825" y="5411"/>
                  <a:pt x="15850" y="5407"/>
                </a:cubicBezTo>
              </a:path>
              <a:path w="869" h="2977">
                <a:moveTo>
                  <a:pt x="15627" y="5606"/>
                </a:moveTo>
                <a:cubicBezTo>
                  <a:pt x="15769" y="5595"/>
                  <a:pt x="15844" y="5579"/>
                  <a:pt x="15949" y="5482"/>
                </a:cubicBezTo>
                <a:cubicBezTo>
                  <a:pt x="16028" y="5409"/>
                  <a:pt x="16082" y="5336"/>
                  <a:pt x="16024" y="5234"/>
                </a:cubicBezTo>
                <a:cubicBezTo>
                  <a:pt x="15962" y="5124"/>
                  <a:pt x="15930" y="5072"/>
                  <a:pt x="15801" y="5060"/>
                </a:cubicBezTo>
                <a:cubicBezTo>
                  <a:pt x="15646" y="5046"/>
                  <a:pt x="15609" y="5152"/>
                  <a:pt x="15503" y="5234"/>
                </a:cubicBezTo>
                <a:cubicBezTo>
                  <a:pt x="15411" y="5305"/>
                  <a:pt x="15518" y="5508"/>
                  <a:pt x="15627" y="5556"/>
                </a:cubicBezTo>
                <a:cubicBezTo>
                  <a:pt x="15734" y="5556"/>
                  <a:pt x="15772" y="5549"/>
                  <a:pt x="15801" y="5457"/>
                </a:cubicBezTo>
              </a:path>
              <a:path w="869" h="2977">
                <a:moveTo>
                  <a:pt x="15652" y="4539"/>
                </a:moveTo>
                <a:cubicBezTo>
                  <a:pt x="15682" y="4531"/>
                  <a:pt x="15696" y="4522"/>
                  <a:pt x="15726" y="4514"/>
                </a:cubicBezTo>
                <a:cubicBezTo>
                  <a:pt x="15726" y="4559"/>
                  <a:pt x="15662" y="4616"/>
                  <a:pt x="15701" y="4638"/>
                </a:cubicBezTo>
                <a:cubicBezTo>
                  <a:pt x="15770" y="4676"/>
                  <a:pt x="15864" y="4682"/>
                  <a:pt x="15751" y="4787"/>
                </a:cubicBezTo>
                <a:cubicBezTo>
                  <a:pt x="15703" y="4811"/>
                  <a:pt x="15689" y="4819"/>
                  <a:pt x="15652" y="4812"/>
                </a:cubicBezTo>
              </a:path>
              <a:path w="869" h="2977">
                <a:moveTo>
                  <a:pt x="15503" y="4911"/>
                </a:moveTo>
                <a:cubicBezTo>
                  <a:pt x="15631" y="5003"/>
                  <a:pt x="15777" y="5064"/>
                  <a:pt x="15925" y="4936"/>
                </a:cubicBezTo>
                <a:cubicBezTo>
                  <a:pt x="16034" y="4842"/>
                  <a:pt x="16123" y="4672"/>
                  <a:pt x="16024" y="4539"/>
                </a:cubicBezTo>
                <a:cubicBezTo>
                  <a:pt x="15948" y="4437"/>
                  <a:pt x="15761" y="4308"/>
                  <a:pt x="15627" y="4390"/>
                </a:cubicBezTo>
                <a:cubicBezTo>
                  <a:pt x="15388" y="4537"/>
                  <a:pt x="15484" y="4781"/>
                  <a:pt x="15577" y="4961"/>
                </a:cubicBezTo>
              </a:path>
              <a:path w="869" h="2977">
                <a:moveTo>
                  <a:pt x="15825" y="6945"/>
                </a:moveTo>
                <a:cubicBezTo>
                  <a:pt x="15834" y="6928"/>
                  <a:pt x="15856" y="6968"/>
                  <a:pt x="15925" y="6970"/>
                </a:cubicBezTo>
                <a:cubicBezTo>
                  <a:pt x="15999" y="6970"/>
                  <a:pt x="16032" y="6995"/>
                  <a:pt x="16024" y="6945"/>
                </a:cubicBezTo>
              </a:path>
              <a:path w="869" h="2977">
                <a:moveTo>
                  <a:pt x="15999" y="6821"/>
                </a:moveTo>
                <a:cubicBezTo>
                  <a:pt x="15999" y="6900"/>
                  <a:pt x="16015" y="6968"/>
                  <a:pt x="16024" y="7045"/>
                </a:cubicBezTo>
              </a:path>
              <a:path w="869" h="2977">
                <a:moveTo>
                  <a:pt x="15825" y="7293"/>
                </a:moveTo>
                <a:cubicBezTo>
                  <a:pt x="16000" y="7350"/>
                  <a:pt x="16092" y="7362"/>
                  <a:pt x="16222" y="7193"/>
                </a:cubicBezTo>
                <a:cubicBezTo>
                  <a:pt x="16350" y="7026"/>
                  <a:pt x="16350" y="6847"/>
                  <a:pt x="16173" y="6722"/>
                </a:cubicBezTo>
                <a:cubicBezTo>
                  <a:pt x="15930" y="6551"/>
                  <a:pt x="15739" y="6663"/>
                  <a:pt x="15726" y="6945"/>
                </a:cubicBezTo>
                <a:cubicBezTo>
                  <a:pt x="15714" y="7201"/>
                  <a:pt x="15790" y="7185"/>
                  <a:pt x="15974" y="71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161120" y="2303640"/>
            <a:ext cx="554040" cy="98280"/>
          </a:xfrm>
          <a:custGeom>
            <a:avLst/>
            <a:gdLst/>
            <a:ahLst/>
            <a:rect l="l" t="t" r="r" b="b"/>
            <a:pathLst>
              <a:path w="1539" h="273">
                <a:moveTo>
                  <a:pt x="19943" y="6400"/>
                </a:moveTo>
                <a:cubicBezTo>
                  <a:pt x="19957" y="6539"/>
                  <a:pt x="19981" y="6573"/>
                  <a:pt x="19893" y="6672"/>
                </a:cubicBezTo>
              </a:path>
              <a:path w="1539" h="273">
                <a:moveTo>
                  <a:pt x="21406" y="6424"/>
                </a:moveTo>
                <a:cubicBezTo>
                  <a:pt x="21422" y="6544"/>
                  <a:pt x="21444" y="6640"/>
                  <a:pt x="21307" y="66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29240" y="2125800"/>
            <a:ext cx="393840" cy="295200"/>
          </a:xfrm>
          <a:custGeom>
            <a:avLst/>
            <a:gdLst/>
            <a:ahLst/>
            <a:rect l="l" t="t" r="r" b="b"/>
            <a:pathLst>
              <a:path w="1093" h="819">
                <a:moveTo>
                  <a:pt x="17859" y="6052"/>
                </a:moveTo>
                <a:cubicBezTo>
                  <a:pt x="17942" y="6037"/>
                  <a:pt x="17999" y="6028"/>
                  <a:pt x="18083" y="6028"/>
                </a:cubicBezTo>
                <a:cubicBezTo>
                  <a:pt x="18083" y="6134"/>
                  <a:pt x="18063" y="6249"/>
                  <a:pt x="18033" y="6350"/>
                </a:cubicBezTo>
                <a:cubicBezTo>
                  <a:pt x="18013" y="6390"/>
                  <a:pt x="18004" y="6397"/>
                  <a:pt x="18008" y="6424"/>
                </a:cubicBezTo>
              </a:path>
              <a:path w="1093" h="819">
                <a:moveTo>
                  <a:pt x="18430" y="5978"/>
                </a:moveTo>
                <a:cubicBezTo>
                  <a:pt x="18376" y="6002"/>
                  <a:pt x="18299" y="6014"/>
                  <a:pt x="18281" y="6052"/>
                </a:cubicBezTo>
                <a:cubicBezTo>
                  <a:pt x="18256" y="6102"/>
                  <a:pt x="18248" y="6119"/>
                  <a:pt x="18231" y="6152"/>
                </a:cubicBezTo>
                <a:cubicBezTo>
                  <a:pt x="18318" y="6158"/>
                  <a:pt x="18509" y="6174"/>
                  <a:pt x="18430" y="6325"/>
                </a:cubicBezTo>
                <a:cubicBezTo>
                  <a:pt x="18363" y="6454"/>
                  <a:pt x="18259" y="6486"/>
                  <a:pt x="18231" y="6350"/>
                </a:cubicBezTo>
              </a:path>
              <a:path w="1093" h="819">
                <a:moveTo>
                  <a:pt x="18678" y="5904"/>
                </a:moveTo>
                <a:cubicBezTo>
                  <a:pt x="18678" y="6064"/>
                  <a:pt x="18663" y="6217"/>
                  <a:pt x="18653" y="6375"/>
                </a:cubicBezTo>
                <a:cubicBezTo>
                  <a:pt x="18653" y="6383"/>
                  <a:pt x="18653" y="6392"/>
                  <a:pt x="18653" y="6400"/>
                </a:cubicBezTo>
              </a:path>
              <a:path w="1093" h="819">
                <a:moveTo>
                  <a:pt x="18951" y="6424"/>
                </a:moveTo>
                <a:cubicBezTo>
                  <a:pt x="18931" y="6561"/>
                  <a:pt x="18913" y="6627"/>
                  <a:pt x="18827" y="67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919920" y="2081160"/>
            <a:ext cx="144360" cy="401760"/>
          </a:xfrm>
          <a:custGeom>
            <a:avLst/>
            <a:gdLst/>
            <a:ahLst/>
            <a:rect l="l" t="t" r="r" b="b"/>
            <a:pathLst>
              <a:path w="398" h="1118">
                <a:moveTo>
                  <a:pt x="19298" y="5829"/>
                </a:moveTo>
                <a:cubicBezTo>
                  <a:pt x="19363" y="5816"/>
                  <a:pt x="19427" y="5789"/>
                  <a:pt x="19496" y="5779"/>
                </a:cubicBezTo>
                <a:cubicBezTo>
                  <a:pt x="19489" y="5833"/>
                  <a:pt x="19470" y="6026"/>
                  <a:pt x="19397" y="5953"/>
                </a:cubicBezTo>
                <a:cubicBezTo>
                  <a:pt x="19468" y="5953"/>
                  <a:pt x="19551" y="6014"/>
                  <a:pt x="19496" y="6102"/>
                </a:cubicBezTo>
                <a:cubicBezTo>
                  <a:pt x="19444" y="6184"/>
                  <a:pt x="19359" y="6153"/>
                  <a:pt x="19298" y="6127"/>
                </a:cubicBezTo>
              </a:path>
              <a:path w="398" h="1118">
                <a:moveTo>
                  <a:pt x="19224" y="6350"/>
                </a:moveTo>
                <a:cubicBezTo>
                  <a:pt x="19357" y="6335"/>
                  <a:pt x="19487" y="6309"/>
                  <a:pt x="19621" y="6300"/>
                </a:cubicBezTo>
              </a:path>
              <a:path w="398" h="1118">
                <a:moveTo>
                  <a:pt x="19323" y="6524"/>
                </a:moveTo>
                <a:cubicBezTo>
                  <a:pt x="19309" y="6573"/>
                  <a:pt x="19287" y="6623"/>
                  <a:pt x="19273" y="6672"/>
                </a:cubicBezTo>
                <a:cubicBezTo>
                  <a:pt x="19359" y="6689"/>
                  <a:pt x="19406" y="6675"/>
                  <a:pt x="19496" y="6648"/>
                </a:cubicBezTo>
              </a:path>
              <a:path w="398" h="1118">
                <a:moveTo>
                  <a:pt x="19521" y="6474"/>
                </a:moveTo>
                <a:cubicBezTo>
                  <a:pt x="19514" y="6618"/>
                  <a:pt x="19489" y="6753"/>
                  <a:pt x="19472" y="68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04040" y="2152800"/>
            <a:ext cx="349200" cy="169560"/>
          </a:xfrm>
          <a:custGeom>
            <a:avLst/>
            <a:gdLst/>
            <a:ahLst/>
            <a:rect l="l" t="t" r="r" b="b"/>
            <a:pathLst>
              <a:path w="969" h="472">
                <a:moveTo>
                  <a:pt x="20389" y="6003"/>
                </a:moveTo>
                <a:cubicBezTo>
                  <a:pt x="20404" y="6011"/>
                  <a:pt x="20300" y="6174"/>
                  <a:pt x="20290" y="6251"/>
                </a:cubicBezTo>
                <a:cubicBezTo>
                  <a:pt x="20277" y="6345"/>
                  <a:pt x="20320" y="6543"/>
                  <a:pt x="20464" y="6424"/>
                </a:cubicBezTo>
                <a:cubicBezTo>
                  <a:pt x="20538" y="6363"/>
                  <a:pt x="20608" y="6252"/>
                  <a:pt x="20588" y="6152"/>
                </a:cubicBezTo>
                <a:cubicBezTo>
                  <a:pt x="20575" y="6089"/>
                  <a:pt x="20560" y="6051"/>
                  <a:pt x="20513" y="6028"/>
                </a:cubicBezTo>
              </a:path>
              <a:path w="969" h="472">
                <a:moveTo>
                  <a:pt x="20762" y="6300"/>
                </a:moveTo>
                <a:cubicBezTo>
                  <a:pt x="20762" y="6350"/>
                  <a:pt x="20762" y="6399"/>
                  <a:pt x="20762" y="6449"/>
                </a:cubicBezTo>
              </a:path>
              <a:path w="969" h="472">
                <a:moveTo>
                  <a:pt x="20960" y="6003"/>
                </a:moveTo>
                <a:cubicBezTo>
                  <a:pt x="21055" y="5984"/>
                  <a:pt x="21129" y="5978"/>
                  <a:pt x="21233" y="5978"/>
                </a:cubicBezTo>
                <a:cubicBezTo>
                  <a:pt x="21241" y="5978"/>
                  <a:pt x="21250" y="5978"/>
                  <a:pt x="21258" y="5978"/>
                </a:cubicBezTo>
                <a:cubicBezTo>
                  <a:pt x="21230" y="6090"/>
                  <a:pt x="21179" y="6211"/>
                  <a:pt x="21158" y="6325"/>
                </a:cubicBezTo>
                <a:cubicBezTo>
                  <a:pt x="21158" y="6367"/>
                  <a:pt x="21158" y="6375"/>
                  <a:pt x="21158" y="64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96160" y="2035080"/>
            <a:ext cx="204840" cy="385920"/>
          </a:xfrm>
          <a:custGeom>
            <a:avLst/>
            <a:gdLst/>
            <a:ahLst/>
            <a:rect l="l" t="t" r="r" b="b"/>
            <a:pathLst>
              <a:path w="572" h="1068">
                <a:moveTo>
                  <a:pt x="21803" y="5705"/>
                </a:moveTo>
                <a:cubicBezTo>
                  <a:pt x="21803" y="5602"/>
                  <a:pt x="21706" y="5707"/>
                  <a:pt x="21679" y="5755"/>
                </a:cubicBezTo>
                <a:cubicBezTo>
                  <a:pt x="21679" y="5771"/>
                  <a:pt x="21679" y="5788"/>
                  <a:pt x="21679" y="5804"/>
                </a:cubicBezTo>
                <a:cubicBezTo>
                  <a:pt x="21779" y="5804"/>
                  <a:pt x="21778" y="5801"/>
                  <a:pt x="21828" y="5730"/>
                </a:cubicBezTo>
                <a:cubicBezTo>
                  <a:pt x="21836" y="5722"/>
                  <a:pt x="21845" y="5713"/>
                  <a:pt x="21853" y="5705"/>
                </a:cubicBezTo>
                <a:cubicBezTo>
                  <a:pt x="21853" y="5796"/>
                  <a:pt x="21853" y="5887"/>
                  <a:pt x="21853" y="5978"/>
                </a:cubicBezTo>
              </a:path>
              <a:path w="572" h="1068">
                <a:moveTo>
                  <a:pt x="21679" y="6176"/>
                </a:moveTo>
                <a:cubicBezTo>
                  <a:pt x="21806" y="6165"/>
                  <a:pt x="21906" y="6133"/>
                  <a:pt x="22027" y="6152"/>
                </a:cubicBezTo>
              </a:path>
              <a:path w="572" h="1068">
                <a:moveTo>
                  <a:pt x="21729" y="6449"/>
                </a:moveTo>
                <a:cubicBezTo>
                  <a:pt x="21780" y="6443"/>
                  <a:pt x="21922" y="6503"/>
                  <a:pt x="21853" y="6598"/>
                </a:cubicBezTo>
                <a:cubicBezTo>
                  <a:pt x="21808" y="6660"/>
                  <a:pt x="21720" y="6663"/>
                  <a:pt x="21654" y="6672"/>
                </a:cubicBezTo>
                <a:cubicBezTo>
                  <a:pt x="21685" y="6602"/>
                  <a:pt x="21707" y="6581"/>
                  <a:pt x="21779" y="6623"/>
                </a:cubicBezTo>
                <a:cubicBezTo>
                  <a:pt x="21795" y="6631"/>
                  <a:pt x="21812" y="6640"/>
                  <a:pt x="21828" y="6648"/>
                </a:cubicBezTo>
              </a:path>
              <a:path w="572" h="1068">
                <a:moveTo>
                  <a:pt x="22200" y="6350"/>
                </a:moveTo>
                <a:cubicBezTo>
                  <a:pt x="22154" y="6350"/>
                  <a:pt x="22053" y="6322"/>
                  <a:pt x="22027" y="6375"/>
                </a:cubicBezTo>
                <a:cubicBezTo>
                  <a:pt x="22015" y="6399"/>
                  <a:pt x="22014" y="6446"/>
                  <a:pt x="22002" y="6474"/>
                </a:cubicBezTo>
                <a:cubicBezTo>
                  <a:pt x="22063" y="6474"/>
                  <a:pt x="22088" y="6421"/>
                  <a:pt x="22151" y="6474"/>
                </a:cubicBezTo>
                <a:cubicBezTo>
                  <a:pt x="22228" y="6539"/>
                  <a:pt x="22255" y="6682"/>
                  <a:pt x="22126" y="6722"/>
                </a:cubicBezTo>
                <a:cubicBezTo>
                  <a:pt x="21995" y="6763"/>
                  <a:pt x="21937" y="6751"/>
                  <a:pt x="21977" y="66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60960" y="2490840"/>
            <a:ext cx="233280" cy="144360"/>
          </a:xfrm>
          <a:custGeom>
            <a:avLst/>
            <a:gdLst/>
            <a:ahLst/>
            <a:rect l="l" t="t" r="r" b="b"/>
            <a:pathLst>
              <a:path w="646" h="397">
                <a:moveTo>
                  <a:pt x="14387" y="7045"/>
                </a:moveTo>
                <a:cubicBezTo>
                  <a:pt x="14342" y="7023"/>
                  <a:pt x="14444" y="6983"/>
                  <a:pt x="14486" y="6970"/>
                </a:cubicBezTo>
                <a:cubicBezTo>
                  <a:pt x="14599" y="6935"/>
                  <a:pt x="14464" y="7103"/>
                  <a:pt x="14436" y="7119"/>
                </a:cubicBezTo>
                <a:cubicBezTo>
                  <a:pt x="14381" y="7119"/>
                  <a:pt x="14545" y="7134"/>
                  <a:pt x="14560" y="7144"/>
                </a:cubicBezTo>
                <a:cubicBezTo>
                  <a:pt x="14669" y="7222"/>
                  <a:pt x="14473" y="7321"/>
                  <a:pt x="14412" y="7317"/>
                </a:cubicBezTo>
                <a:cubicBezTo>
                  <a:pt x="14354" y="7298"/>
                  <a:pt x="14329" y="7308"/>
                  <a:pt x="14337" y="7268"/>
                </a:cubicBezTo>
              </a:path>
              <a:path w="646" h="397">
                <a:moveTo>
                  <a:pt x="14709" y="6921"/>
                </a:moveTo>
                <a:cubicBezTo>
                  <a:pt x="14692" y="7021"/>
                  <a:pt x="14667" y="7115"/>
                  <a:pt x="14660" y="7218"/>
                </a:cubicBezTo>
                <a:cubicBezTo>
                  <a:pt x="14740" y="7243"/>
                  <a:pt x="14911" y="7269"/>
                  <a:pt x="14982" y="7193"/>
                </a:cubicBezTo>
                <a:cubicBezTo>
                  <a:pt x="14982" y="7177"/>
                  <a:pt x="14982" y="7160"/>
                  <a:pt x="14982" y="7144"/>
                </a:cubicBezTo>
                <a:cubicBezTo>
                  <a:pt x="14974" y="7141"/>
                  <a:pt x="14785" y="7144"/>
                  <a:pt x="14833" y="7218"/>
                </a:cubicBezTo>
                <a:cubicBezTo>
                  <a:pt x="14858" y="7235"/>
                  <a:pt x="14883" y="7251"/>
                  <a:pt x="14908" y="72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18080" y="2463840"/>
            <a:ext cx="108000" cy="125280"/>
          </a:xfrm>
          <a:custGeom>
            <a:avLst/>
            <a:gdLst/>
            <a:ahLst/>
            <a:rect l="l" t="t" r="r" b="b"/>
            <a:pathLst>
              <a:path w="299" h="348">
                <a:moveTo>
                  <a:pt x="15553" y="6896"/>
                </a:moveTo>
                <a:cubicBezTo>
                  <a:pt x="15409" y="6932"/>
                  <a:pt x="15363" y="6997"/>
                  <a:pt x="15329" y="7144"/>
                </a:cubicBezTo>
                <a:cubicBezTo>
                  <a:pt x="15418" y="7210"/>
                  <a:pt x="15601" y="7222"/>
                  <a:pt x="15627" y="7045"/>
                </a:cubicBezTo>
                <a:cubicBezTo>
                  <a:pt x="15645" y="6920"/>
                  <a:pt x="15510" y="6889"/>
                  <a:pt x="15429" y="68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82840" y="3894120"/>
            <a:ext cx="6545160" cy="830160"/>
          </a:xfrm>
          <a:custGeom>
            <a:avLst/>
            <a:gdLst/>
            <a:ahLst/>
            <a:rect l="l" t="t" r="r" b="b"/>
            <a:pathLst>
              <a:path w="18182" h="2308">
                <a:moveTo>
                  <a:pt x="4142" y="10815"/>
                </a:moveTo>
                <a:cubicBezTo>
                  <a:pt x="4134" y="10831"/>
                  <a:pt x="4126" y="10848"/>
                  <a:pt x="4118" y="10864"/>
                </a:cubicBezTo>
              </a:path>
              <a:path w="18182" h="2308">
                <a:moveTo>
                  <a:pt x="12378" y="11013"/>
                </a:moveTo>
                <a:cubicBezTo>
                  <a:pt x="12355" y="11036"/>
                  <a:pt x="12344" y="11044"/>
                  <a:pt x="12378" y="11038"/>
                </a:cubicBezTo>
              </a:path>
              <a:path w="18182" h="2308">
                <a:moveTo>
                  <a:pt x="12328" y="11807"/>
                </a:moveTo>
                <a:cubicBezTo>
                  <a:pt x="12347" y="11864"/>
                  <a:pt x="12356" y="11871"/>
                  <a:pt x="12353" y="11906"/>
                </a:cubicBezTo>
              </a:path>
              <a:path w="18182" h="2308">
                <a:moveTo>
                  <a:pt x="12378" y="12601"/>
                </a:moveTo>
                <a:cubicBezTo>
                  <a:pt x="12378" y="12617"/>
                  <a:pt x="12378" y="12634"/>
                  <a:pt x="12378" y="12650"/>
                </a:cubicBezTo>
              </a:path>
              <a:path w="18182" h="2308">
                <a:moveTo>
                  <a:pt x="14288" y="12129"/>
                </a:moveTo>
                <a:cubicBezTo>
                  <a:pt x="14282" y="12288"/>
                  <a:pt x="14270" y="12443"/>
                  <a:pt x="14263" y="12601"/>
                </a:cubicBezTo>
              </a:path>
              <a:path w="18182" h="2308">
                <a:moveTo>
                  <a:pt x="17636" y="11534"/>
                </a:moveTo>
                <a:cubicBezTo>
                  <a:pt x="17613" y="11616"/>
                  <a:pt x="17618" y="11768"/>
                  <a:pt x="17562" y="11683"/>
                </a:cubicBezTo>
              </a:path>
              <a:path w="18182" h="2308">
                <a:moveTo>
                  <a:pt x="18579" y="11311"/>
                </a:moveTo>
                <a:cubicBezTo>
                  <a:pt x="18579" y="11328"/>
                  <a:pt x="18579" y="11344"/>
                  <a:pt x="18579" y="11361"/>
                </a:cubicBezTo>
              </a:path>
              <a:path w="18182" h="2308">
                <a:moveTo>
                  <a:pt x="18579" y="11361"/>
                </a:moveTo>
                <a:lnTo>
                  <a:pt x="18579" y="11361"/>
                </a:lnTo>
              </a:path>
              <a:path w="18182" h="2308">
                <a:moveTo>
                  <a:pt x="19670" y="11509"/>
                </a:moveTo>
                <a:cubicBezTo>
                  <a:pt x="19647" y="11621"/>
                  <a:pt x="19646" y="11652"/>
                  <a:pt x="19596" y="11708"/>
                </a:cubicBezTo>
              </a:path>
              <a:path w="18182" h="2308">
                <a:moveTo>
                  <a:pt x="20340" y="11311"/>
                </a:moveTo>
                <a:lnTo>
                  <a:pt x="20340" y="11311"/>
                </a:lnTo>
              </a:path>
              <a:path w="18182" h="2308">
                <a:moveTo>
                  <a:pt x="21878" y="11187"/>
                </a:moveTo>
                <a:cubicBezTo>
                  <a:pt x="21858" y="11228"/>
                  <a:pt x="21839" y="11244"/>
                  <a:pt x="21878" y="11237"/>
                </a:cubicBezTo>
              </a:path>
              <a:path w="18182" h="2308">
                <a:moveTo>
                  <a:pt x="17611" y="12874"/>
                </a:moveTo>
                <a:cubicBezTo>
                  <a:pt x="17611" y="12970"/>
                  <a:pt x="17613" y="13000"/>
                  <a:pt x="17562" y="13047"/>
                </a:cubicBezTo>
              </a:path>
              <a:path w="18182" h="2308">
                <a:moveTo>
                  <a:pt x="18579" y="12774"/>
                </a:moveTo>
                <a:cubicBezTo>
                  <a:pt x="18587" y="12774"/>
                  <a:pt x="18596" y="12774"/>
                  <a:pt x="18604" y="12774"/>
                </a:cubicBezTo>
              </a:path>
              <a:path w="18182" h="2308">
                <a:moveTo>
                  <a:pt x="18604" y="12774"/>
                </a:moveTo>
                <a:lnTo>
                  <a:pt x="18604" y="12774"/>
                </a:lnTo>
              </a:path>
              <a:path w="18182" h="2308">
                <a:moveTo>
                  <a:pt x="19695" y="12898"/>
                </a:moveTo>
                <a:cubicBezTo>
                  <a:pt x="19614" y="13087"/>
                  <a:pt x="19657" y="13128"/>
                  <a:pt x="19496" y="13047"/>
                </a:cubicBezTo>
              </a:path>
              <a:path w="18182" h="2308">
                <a:moveTo>
                  <a:pt x="21233" y="12675"/>
                </a:moveTo>
                <a:cubicBezTo>
                  <a:pt x="21233" y="12753"/>
                  <a:pt x="21248" y="12771"/>
                  <a:pt x="21208" y="12799"/>
                </a:cubicBezTo>
              </a:path>
              <a:path w="18182" h="2308">
                <a:moveTo>
                  <a:pt x="22275" y="12576"/>
                </a:moveTo>
                <a:cubicBezTo>
                  <a:pt x="22283" y="12576"/>
                  <a:pt x="22291" y="12576"/>
                  <a:pt x="22299" y="12576"/>
                </a:cubicBezTo>
              </a:path>
              <a:path w="18182" h="2308">
                <a:moveTo>
                  <a:pt x="22299" y="12576"/>
                </a:moveTo>
                <a:lnTo>
                  <a:pt x="22299" y="1257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3714840"/>
            <a:ext cx="411120" cy="214200"/>
          </a:xfrm>
          <a:custGeom>
            <a:avLst/>
            <a:gdLst/>
            <a:ahLst/>
            <a:rect l="l" t="t" r="r" b="b"/>
            <a:pathLst>
              <a:path w="1142" h="596">
                <a:moveTo>
                  <a:pt x="3894" y="10393"/>
                </a:moveTo>
                <a:cubicBezTo>
                  <a:pt x="3759" y="10505"/>
                  <a:pt x="3621" y="10677"/>
                  <a:pt x="3597" y="10864"/>
                </a:cubicBezTo>
                <a:cubicBezTo>
                  <a:pt x="3605" y="10881"/>
                  <a:pt x="3613" y="10897"/>
                  <a:pt x="3621" y="10914"/>
                </a:cubicBezTo>
                <a:cubicBezTo>
                  <a:pt x="3809" y="10870"/>
                  <a:pt x="4009" y="10790"/>
                  <a:pt x="3919" y="10542"/>
                </a:cubicBezTo>
                <a:cubicBezTo>
                  <a:pt x="3887" y="10452"/>
                  <a:pt x="3864" y="10522"/>
                  <a:pt x="3845" y="10468"/>
                </a:cubicBezTo>
              </a:path>
              <a:path w="1142" h="596">
                <a:moveTo>
                  <a:pt x="4514" y="10368"/>
                </a:moveTo>
                <a:cubicBezTo>
                  <a:pt x="4546" y="10306"/>
                  <a:pt x="4569" y="10290"/>
                  <a:pt x="4638" y="10319"/>
                </a:cubicBezTo>
                <a:cubicBezTo>
                  <a:pt x="4731" y="10516"/>
                  <a:pt x="4732" y="10631"/>
                  <a:pt x="4514" y="10740"/>
                </a:cubicBezTo>
                <a:cubicBezTo>
                  <a:pt x="4432" y="10761"/>
                  <a:pt x="4399" y="10787"/>
                  <a:pt x="4415" y="10716"/>
                </a:cubicBezTo>
                <a:cubicBezTo>
                  <a:pt x="4569" y="10595"/>
                  <a:pt x="4551" y="10694"/>
                  <a:pt x="4688" y="10790"/>
                </a:cubicBezTo>
                <a:cubicBezTo>
                  <a:pt x="4716" y="10790"/>
                  <a:pt x="4727" y="10788"/>
                  <a:pt x="4738" y="107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97120" y="3732120"/>
            <a:ext cx="411120" cy="223920"/>
          </a:xfrm>
          <a:custGeom>
            <a:avLst/>
            <a:gdLst/>
            <a:ahLst/>
            <a:rect l="l" t="t" r="r" b="b"/>
            <a:pathLst>
              <a:path w="1142" h="621">
                <a:moveTo>
                  <a:pt x="7739" y="10418"/>
                </a:moveTo>
                <a:cubicBezTo>
                  <a:pt x="7624" y="10522"/>
                  <a:pt x="7431" y="10727"/>
                  <a:pt x="7491" y="10914"/>
                </a:cubicBezTo>
                <a:cubicBezTo>
                  <a:pt x="7516" y="10939"/>
                  <a:pt x="7540" y="10963"/>
                  <a:pt x="7565" y="10988"/>
                </a:cubicBezTo>
                <a:cubicBezTo>
                  <a:pt x="7752" y="10868"/>
                  <a:pt x="7874" y="10765"/>
                  <a:pt x="7789" y="10517"/>
                </a:cubicBezTo>
                <a:cubicBezTo>
                  <a:pt x="7771" y="10463"/>
                  <a:pt x="7665" y="10368"/>
                  <a:pt x="7640" y="10443"/>
                </a:cubicBezTo>
              </a:path>
              <a:path w="1142" h="621">
                <a:moveTo>
                  <a:pt x="8012" y="10790"/>
                </a:moveTo>
                <a:cubicBezTo>
                  <a:pt x="7993" y="10858"/>
                  <a:pt x="7963" y="10915"/>
                  <a:pt x="7987" y="10939"/>
                </a:cubicBezTo>
              </a:path>
              <a:path w="1142" h="621">
                <a:moveTo>
                  <a:pt x="8632" y="10368"/>
                </a:moveTo>
                <a:cubicBezTo>
                  <a:pt x="8533" y="10401"/>
                  <a:pt x="8466" y="10399"/>
                  <a:pt x="8434" y="10468"/>
                </a:cubicBezTo>
                <a:cubicBezTo>
                  <a:pt x="8403" y="10535"/>
                  <a:pt x="8356" y="10600"/>
                  <a:pt x="8334" y="10666"/>
                </a:cubicBezTo>
                <a:cubicBezTo>
                  <a:pt x="8394" y="10656"/>
                  <a:pt x="8535" y="10594"/>
                  <a:pt x="8582" y="10666"/>
                </a:cubicBezTo>
                <a:cubicBezTo>
                  <a:pt x="8653" y="10776"/>
                  <a:pt x="8543" y="11032"/>
                  <a:pt x="8384" y="10964"/>
                </a:cubicBezTo>
                <a:cubicBezTo>
                  <a:pt x="8359" y="10931"/>
                  <a:pt x="8335" y="10897"/>
                  <a:pt x="8310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87880" y="3687840"/>
            <a:ext cx="2081160" cy="1224000"/>
          </a:xfrm>
          <a:custGeom>
            <a:avLst/>
            <a:gdLst/>
            <a:ahLst/>
            <a:rect l="l" t="t" r="r" b="b"/>
            <a:pathLst>
              <a:path w="5781" h="3400">
                <a:moveTo>
                  <a:pt x="11906" y="10641"/>
                </a:moveTo>
                <a:cubicBezTo>
                  <a:pt x="11867" y="10523"/>
                  <a:pt x="11769" y="10781"/>
                  <a:pt x="11708" y="10889"/>
                </a:cubicBezTo>
                <a:cubicBezTo>
                  <a:pt x="11645" y="11015"/>
                  <a:pt x="11605" y="11043"/>
                  <a:pt x="11683" y="11112"/>
                </a:cubicBezTo>
                <a:cubicBezTo>
                  <a:pt x="11883" y="11074"/>
                  <a:pt x="12088" y="11000"/>
                  <a:pt x="12005" y="10740"/>
                </a:cubicBezTo>
                <a:cubicBezTo>
                  <a:pt x="11956" y="10691"/>
                  <a:pt x="11939" y="10674"/>
                  <a:pt x="11906" y="10641"/>
                </a:cubicBezTo>
              </a:path>
              <a:path w="5781" h="3400">
                <a:moveTo>
                  <a:pt x="12725" y="10666"/>
                </a:moveTo>
                <a:cubicBezTo>
                  <a:pt x="12860" y="10666"/>
                  <a:pt x="13042" y="10796"/>
                  <a:pt x="12874" y="10964"/>
                </a:cubicBezTo>
                <a:cubicBezTo>
                  <a:pt x="12760" y="11009"/>
                  <a:pt x="12730" y="11025"/>
                  <a:pt x="12650" y="11013"/>
                </a:cubicBezTo>
                <a:cubicBezTo>
                  <a:pt x="12608" y="10904"/>
                  <a:pt x="12758" y="10902"/>
                  <a:pt x="12849" y="10914"/>
                </a:cubicBezTo>
                <a:cubicBezTo>
                  <a:pt x="12922" y="10939"/>
                  <a:pt x="12946" y="10947"/>
                  <a:pt x="12998" y="10939"/>
                </a:cubicBezTo>
              </a:path>
              <a:path w="5781" h="3400">
                <a:moveTo>
                  <a:pt x="13072" y="10592"/>
                </a:moveTo>
                <a:cubicBezTo>
                  <a:pt x="13184" y="10592"/>
                  <a:pt x="13285" y="10575"/>
                  <a:pt x="13395" y="10567"/>
                </a:cubicBezTo>
                <a:cubicBezTo>
                  <a:pt x="13385" y="10712"/>
                  <a:pt x="13344" y="10828"/>
                  <a:pt x="13295" y="10964"/>
                </a:cubicBezTo>
              </a:path>
              <a:path w="5781" h="3400">
                <a:moveTo>
                  <a:pt x="11906" y="11460"/>
                </a:moveTo>
                <a:cubicBezTo>
                  <a:pt x="11742" y="11559"/>
                  <a:pt x="11709" y="11713"/>
                  <a:pt x="11683" y="11906"/>
                </a:cubicBezTo>
                <a:cubicBezTo>
                  <a:pt x="11860" y="11966"/>
                  <a:pt x="12055" y="11908"/>
                  <a:pt x="12055" y="11658"/>
                </a:cubicBezTo>
                <a:cubicBezTo>
                  <a:pt x="12055" y="11529"/>
                  <a:pt x="11941" y="11542"/>
                  <a:pt x="11857" y="11534"/>
                </a:cubicBezTo>
              </a:path>
              <a:path w="5781" h="3400">
                <a:moveTo>
                  <a:pt x="12799" y="11460"/>
                </a:moveTo>
                <a:cubicBezTo>
                  <a:pt x="12843" y="11386"/>
                  <a:pt x="12985" y="11315"/>
                  <a:pt x="13022" y="11460"/>
                </a:cubicBezTo>
                <a:cubicBezTo>
                  <a:pt x="13057" y="11600"/>
                  <a:pt x="12952" y="11840"/>
                  <a:pt x="12774" y="11807"/>
                </a:cubicBezTo>
                <a:cubicBezTo>
                  <a:pt x="12774" y="11799"/>
                  <a:pt x="12774" y="11790"/>
                  <a:pt x="12774" y="11782"/>
                </a:cubicBezTo>
                <a:cubicBezTo>
                  <a:pt x="12815" y="11701"/>
                  <a:pt x="12922" y="11690"/>
                  <a:pt x="12998" y="11757"/>
                </a:cubicBezTo>
                <a:cubicBezTo>
                  <a:pt x="13062" y="11813"/>
                  <a:pt x="13024" y="11892"/>
                  <a:pt x="13097" y="11857"/>
                </a:cubicBezTo>
              </a:path>
              <a:path w="5781" h="3400">
                <a:moveTo>
                  <a:pt x="13444" y="11435"/>
                </a:moveTo>
                <a:cubicBezTo>
                  <a:pt x="13326" y="11482"/>
                  <a:pt x="13308" y="11619"/>
                  <a:pt x="13271" y="11733"/>
                </a:cubicBezTo>
                <a:cubicBezTo>
                  <a:pt x="13392" y="11784"/>
                  <a:pt x="13649" y="11817"/>
                  <a:pt x="13593" y="11584"/>
                </a:cubicBezTo>
                <a:cubicBezTo>
                  <a:pt x="13562" y="11456"/>
                  <a:pt x="13514" y="11447"/>
                  <a:pt x="13419" y="11435"/>
                </a:cubicBezTo>
              </a:path>
              <a:path w="5781" h="3400">
                <a:moveTo>
                  <a:pt x="11931" y="12229"/>
                </a:moveTo>
                <a:cubicBezTo>
                  <a:pt x="11957" y="12242"/>
                  <a:pt x="11776" y="12480"/>
                  <a:pt x="11757" y="12526"/>
                </a:cubicBezTo>
                <a:cubicBezTo>
                  <a:pt x="11715" y="12675"/>
                  <a:pt x="11692" y="12707"/>
                  <a:pt x="11733" y="12799"/>
                </a:cubicBezTo>
                <a:cubicBezTo>
                  <a:pt x="11918" y="12769"/>
                  <a:pt x="12252" y="12688"/>
                  <a:pt x="12105" y="12402"/>
                </a:cubicBezTo>
                <a:cubicBezTo>
                  <a:pt x="12024" y="12342"/>
                  <a:pt x="12011" y="12328"/>
                  <a:pt x="11956" y="12303"/>
                </a:cubicBezTo>
              </a:path>
              <a:path w="5781" h="3400">
                <a:moveTo>
                  <a:pt x="12849" y="12154"/>
                </a:moveTo>
                <a:cubicBezTo>
                  <a:pt x="12827" y="12308"/>
                  <a:pt x="12752" y="12430"/>
                  <a:pt x="12700" y="12576"/>
                </a:cubicBezTo>
                <a:cubicBezTo>
                  <a:pt x="12836" y="12654"/>
                  <a:pt x="12931" y="12637"/>
                  <a:pt x="13022" y="12502"/>
                </a:cubicBezTo>
                <a:cubicBezTo>
                  <a:pt x="13042" y="12441"/>
                  <a:pt x="13061" y="12426"/>
                  <a:pt x="13022" y="12402"/>
                </a:cubicBezTo>
                <a:cubicBezTo>
                  <a:pt x="12883" y="12502"/>
                  <a:pt x="12783" y="12572"/>
                  <a:pt x="12998" y="12601"/>
                </a:cubicBezTo>
              </a:path>
              <a:path w="5781" h="3400">
                <a:moveTo>
                  <a:pt x="13519" y="12080"/>
                </a:moveTo>
                <a:cubicBezTo>
                  <a:pt x="13380" y="12165"/>
                  <a:pt x="13245" y="12310"/>
                  <a:pt x="13295" y="12502"/>
                </a:cubicBezTo>
                <a:cubicBezTo>
                  <a:pt x="13312" y="12518"/>
                  <a:pt x="13328" y="12535"/>
                  <a:pt x="13345" y="12551"/>
                </a:cubicBezTo>
                <a:cubicBezTo>
                  <a:pt x="13560" y="12463"/>
                  <a:pt x="13686" y="12419"/>
                  <a:pt x="13543" y="12179"/>
                </a:cubicBezTo>
                <a:cubicBezTo>
                  <a:pt x="13505" y="12140"/>
                  <a:pt x="13503" y="12123"/>
                  <a:pt x="13469" y="12129"/>
                </a:cubicBezTo>
              </a:path>
              <a:path w="5781" h="3400">
                <a:moveTo>
                  <a:pt x="12129" y="13122"/>
                </a:moveTo>
                <a:cubicBezTo>
                  <a:pt x="12215" y="13065"/>
                  <a:pt x="12034" y="13206"/>
                  <a:pt x="11981" y="13295"/>
                </a:cubicBezTo>
                <a:cubicBezTo>
                  <a:pt x="11918" y="13441"/>
                  <a:pt x="11893" y="13469"/>
                  <a:pt x="11906" y="13568"/>
                </a:cubicBezTo>
                <a:cubicBezTo>
                  <a:pt x="12163" y="13582"/>
                  <a:pt x="12303" y="13531"/>
                  <a:pt x="12303" y="13246"/>
                </a:cubicBezTo>
                <a:cubicBezTo>
                  <a:pt x="12303" y="13130"/>
                  <a:pt x="12261" y="13161"/>
                  <a:pt x="12229" y="13097"/>
                </a:cubicBezTo>
              </a:path>
              <a:path w="5781" h="3400">
                <a:moveTo>
                  <a:pt x="12650" y="13370"/>
                </a:moveTo>
                <a:cubicBezTo>
                  <a:pt x="12650" y="13419"/>
                  <a:pt x="12650" y="13436"/>
                  <a:pt x="12650" y="13469"/>
                </a:cubicBezTo>
              </a:path>
              <a:path w="5781" h="3400">
                <a:moveTo>
                  <a:pt x="13072" y="12948"/>
                </a:moveTo>
                <a:cubicBezTo>
                  <a:pt x="12965" y="12958"/>
                  <a:pt x="12901" y="12957"/>
                  <a:pt x="12849" y="13072"/>
                </a:cubicBezTo>
                <a:cubicBezTo>
                  <a:pt x="12849" y="13117"/>
                  <a:pt x="12845" y="13130"/>
                  <a:pt x="12874" y="13146"/>
                </a:cubicBezTo>
                <a:cubicBezTo>
                  <a:pt x="12946" y="13134"/>
                  <a:pt x="13080" y="13080"/>
                  <a:pt x="13146" y="13146"/>
                </a:cubicBezTo>
                <a:cubicBezTo>
                  <a:pt x="13280" y="13281"/>
                  <a:pt x="13081" y="13511"/>
                  <a:pt x="12923" y="13469"/>
                </a:cubicBezTo>
                <a:cubicBezTo>
                  <a:pt x="12838" y="13384"/>
                  <a:pt x="12816" y="13344"/>
                  <a:pt x="12874" y="13246"/>
                </a:cubicBezTo>
              </a:path>
              <a:path w="5781" h="3400">
                <a:moveTo>
                  <a:pt x="13568" y="12898"/>
                </a:moveTo>
                <a:cubicBezTo>
                  <a:pt x="13404" y="13047"/>
                  <a:pt x="13400" y="13135"/>
                  <a:pt x="13419" y="13345"/>
                </a:cubicBezTo>
                <a:cubicBezTo>
                  <a:pt x="13603" y="13354"/>
                  <a:pt x="13816" y="13310"/>
                  <a:pt x="13742" y="13047"/>
                </a:cubicBezTo>
                <a:cubicBezTo>
                  <a:pt x="13671" y="12954"/>
                  <a:pt x="13654" y="12923"/>
                  <a:pt x="13568" y="12923"/>
                </a:cubicBezTo>
              </a:path>
              <a:path w="5781" h="3400">
                <a:moveTo>
                  <a:pt x="15255" y="10319"/>
                </a:moveTo>
                <a:cubicBezTo>
                  <a:pt x="15335" y="10271"/>
                  <a:pt x="15386" y="10284"/>
                  <a:pt x="15478" y="10269"/>
                </a:cubicBezTo>
                <a:cubicBezTo>
                  <a:pt x="15779" y="10220"/>
                  <a:pt x="16047" y="10278"/>
                  <a:pt x="16346" y="10319"/>
                </a:cubicBezTo>
                <a:cubicBezTo>
                  <a:pt x="16618" y="10356"/>
                  <a:pt x="16891" y="10388"/>
                  <a:pt x="17165" y="10393"/>
                </a:cubicBezTo>
                <a:cubicBezTo>
                  <a:pt x="17272" y="10393"/>
                  <a:pt x="17297" y="10393"/>
                  <a:pt x="17363" y="10393"/>
                </a:cubicBezTo>
              </a:path>
              <a:path w="5781" h="3400">
                <a:moveTo>
                  <a:pt x="11757" y="10592"/>
                </a:moveTo>
                <a:cubicBezTo>
                  <a:pt x="11741" y="10584"/>
                  <a:pt x="11724" y="10575"/>
                  <a:pt x="11708" y="10567"/>
                </a:cubicBezTo>
                <a:cubicBezTo>
                  <a:pt x="11732" y="10663"/>
                  <a:pt x="11757" y="10765"/>
                  <a:pt x="11782" y="10864"/>
                </a:cubicBezTo>
                <a:cubicBezTo>
                  <a:pt x="11815" y="10995"/>
                  <a:pt x="11845" y="11151"/>
                  <a:pt x="11857" y="11286"/>
                </a:cubicBezTo>
                <a:cubicBezTo>
                  <a:pt x="11872" y="11455"/>
                  <a:pt x="11836" y="11616"/>
                  <a:pt x="11832" y="11782"/>
                </a:cubicBezTo>
                <a:cubicBezTo>
                  <a:pt x="11829" y="11908"/>
                  <a:pt x="11807" y="12026"/>
                  <a:pt x="11807" y="12154"/>
                </a:cubicBezTo>
                <a:cubicBezTo>
                  <a:pt x="11807" y="12315"/>
                  <a:pt x="11819" y="12470"/>
                  <a:pt x="11832" y="12626"/>
                </a:cubicBezTo>
                <a:cubicBezTo>
                  <a:pt x="11845" y="12788"/>
                  <a:pt x="11879" y="12917"/>
                  <a:pt x="11931" y="13072"/>
                </a:cubicBezTo>
                <a:cubicBezTo>
                  <a:pt x="11967" y="13178"/>
                  <a:pt x="12000" y="13287"/>
                  <a:pt x="12030" y="13395"/>
                </a:cubicBezTo>
                <a:cubicBezTo>
                  <a:pt x="12055" y="13484"/>
                  <a:pt x="12055" y="13526"/>
                  <a:pt x="12055" y="13618"/>
                </a:cubicBezTo>
              </a:path>
              <a:path w="5781" h="3400">
                <a:moveTo>
                  <a:pt x="12700" y="10641"/>
                </a:moveTo>
                <a:cubicBezTo>
                  <a:pt x="12700" y="10633"/>
                  <a:pt x="12700" y="10624"/>
                  <a:pt x="12700" y="10616"/>
                </a:cubicBezTo>
                <a:cubicBezTo>
                  <a:pt x="12766" y="10704"/>
                  <a:pt x="12758" y="10880"/>
                  <a:pt x="12774" y="10988"/>
                </a:cubicBezTo>
                <a:cubicBezTo>
                  <a:pt x="12803" y="11188"/>
                  <a:pt x="12799" y="11383"/>
                  <a:pt x="12799" y="11584"/>
                </a:cubicBezTo>
                <a:cubicBezTo>
                  <a:pt x="12799" y="11660"/>
                  <a:pt x="12808" y="11712"/>
                  <a:pt x="12824" y="11782"/>
                </a:cubicBezTo>
                <a:cubicBezTo>
                  <a:pt x="12834" y="11827"/>
                  <a:pt x="12818" y="11816"/>
                  <a:pt x="12849" y="11857"/>
                </a:cubicBezTo>
              </a:path>
              <a:path w="5781" h="3400">
                <a:moveTo>
                  <a:pt x="14139" y="11336"/>
                </a:moveTo>
                <a:cubicBezTo>
                  <a:pt x="14148" y="11432"/>
                  <a:pt x="14183" y="11548"/>
                  <a:pt x="14139" y="11609"/>
                </a:cubicBezTo>
              </a:path>
              <a:path w="5781" h="3400">
                <a:moveTo>
                  <a:pt x="13965" y="11633"/>
                </a:moveTo>
                <a:cubicBezTo>
                  <a:pt x="14051" y="11748"/>
                  <a:pt x="14178" y="11782"/>
                  <a:pt x="14312" y="11683"/>
                </a:cubicBezTo>
                <a:cubicBezTo>
                  <a:pt x="14445" y="11584"/>
                  <a:pt x="14477" y="11394"/>
                  <a:pt x="14337" y="11286"/>
                </a:cubicBezTo>
                <a:cubicBezTo>
                  <a:pt x="14143" y="11136"/>
                  <a:pt x="13957" y="11189"/>
                  <a:pt x="13891" y="11435"/>
                </a:cubicBezTo>
                <a:cubicBezTo>
                  <a:pt x="13832" y="11654"/>
                  <a:pt x="13953" y="11616"/>
                  <a:pt x="14089" y="11609"/>
                </a:cubicBezTo>
              </a:path>
              <a:path w="5781" h="3400">
                <a:moveTo>
                  <a:pt x="13841" y="10517"/>
                </a:moveTo>
                <a:cubicBezTo>
                  <a:pt x="13908" y="10494"/>
                  <a:pt x="13926" y="10489"/>
                  <a:pt x="13965" y="10468"/>
                </a:cubicBezTo>
                <a:cubicBezTo>
                  <a:pt x="13944" y="10592"/>
                  <a:pt x="13872" y="10658"/>
                  <a:pt x="13816" y="10765"/>
                </a:cubicBezTo>
                <a:cubicBezTo>
                  <a:pt x="13775" y="10842"/>
                  <a:pt x="14026" y="10748"/>
                  <a:pt x="14039" y="10740"/>
                </a:cubicBezTo>
              </a:path>
              <a:path w="5781" h="3400">
                <a:moveTo>
                  <a:pt x="13717" y="10889"/>
                </a:moveTo>
                <a:cubicBezTo>
                  <a:pt x="13906" y="10936"/>
                  <a:pt x="14080" y="10923"/>
                  <a:pt x="14238" y="10790"/>
                </a:cubicBezTo>
                <a:cubicBezTo>
                  <a:pt x="14410" y="10645"/>
                  <a:pt x="14369" y="10486"/>
                  <a:pt x="14213" y="10344"/>
                </a:cubicBezTo>
                <a:cubicBezTo>
                  <a:pt x="14039" y="10186"/>
                  <a:pt x="13810" y="10207"/>
                  <a:pt x="13692" y="10418"/>
                </a:cubicBezTo>
                <a:cubicBezTo>
                  <a:pt x="13569" y="10638"/>
                  <a:pt x="13595" y="10916"/>
                  <a:pt x="13891" y="10939"/>
                </a:cubicBezTo>
                <a:cubicBezTo>
                  <a:pt x="13957" y="10931"/>
                  <a:pt x="14023" y="10922"/>
                  <a:pt x="14089" y="10914"/>
                </a:cubicBezTo>
              </a:path>
              <a:path w="5781" h="3400">
                <a:moveTo>
                  <a:pt x="14337" y="12998"/>
                </a:moveTo>
                <a:cubicBezTo>
                  <a:pt x="14278" y="12978"/>
                  <a:pt x="14364" y="12943"/>
                  <a:pt x="14412" y="12923"/>
                </a:cubicBezTo>
                <a:cubicBezTo>
                  <a:pt x="14420" y="12923"/>
                  <a:pt x="14428" y="12923"/>
                  <a:pt x="14436" y="12923"/>
                </a:cubicBezTo>
                <a:cubicBezTo>
                  <a:pt x="14403" y="13016"/>
                  <a:pt x="14423" y="13037"/>
                  <a:pt x="14337" y="13072"/>
                </a:cubicBezTo>
                <a:cubicBezTo>
                  <a:pt x="14411" y="13091"/>
                  <a:pt x="14445" y="13204"/>
                  <a:pt x="14387" y="13271"/>
                </a:cubicBezTo>
                <a:cubicBezTo>
                  <a:pt x="14341" y="13324"/>
                  <a:pt x="14255" y="13291"/>
                  <a:pt x="14213" y="13271"/>
                </a:cubicBezTo>
              </a:path>
              <a:path w="5781" h="3400">
                <a:moveTo>
                  <a:pt x="14015" y="13444"/>
                </a:moveTo>
                <a:cubicBezTo>
                  <a:pt x="14158" y="13516"/>
                  <a:pt x="14387" y="13589"/>
                  <a:pt x="14536" y="13469"/>
                </a:cubicBezTo>
                <a:cubicBezTo>
                  <a:pt x="14709" y="13331"/>
                  <a:pt x="14787" y="13014"/>
                  <a:pt x="14585" y="12874"/>
                </a:cubicBezTo>
                <a:cubicBezTo>
                  <a:pt x="14389" y="12738"/>
                  <a:pt x="14141" y="12727"/>
                  <a:pt x="14039" y="12973"/>
                </a:cubicBezTo>
                <a:cubicBezTo>
                  <a:pt x="13891" y="13329"/>
                  <a:pt x="14033" y="13452"/>
                  <a:pt x="14337" y="13419"/>
                </a:cubicBezTo>
              </a:path>
              <a:path w="5781" h="3400">
                <a:moveTo>
                  <a:pt x="14139" y="12204"/>
                </a:moveTo>
                <a:cubicBezTo>
                  <a:pt x="14196" y="12224"/>
                  <a:pt x="14124" y="12216"/>
                  <a:pt x="14139" y="12278"/>
                </a:cubicBezTo>
                <a:cubicBezTo>
                  <a:pt x="14172" y="12416"/>
                  <a:pt x="14296" y="12324"/>
                  <a:pt x="14362" y="12278"/>
                </a:cubicBezTo>
              </a:path>
              <a:path w="5781" h="3400">
                <a:moveTo>
                  <a:pt x="13990" y="12477"/>
                </a:moveTo>
                <a:cubicBezTo>
                  <a:pt x="14111" y="12612"/>
                  <a:pt x="14204" y="12717"/>
                  <a:pt x="14412" y="12700"/>
                </a:cubicBezTo>
                <a:cubicBezTo>
                  <a:pt x="14657" y="12680"/>
                  <a:pt x="14845" y="12505"/>
                  <a:pt x="14833" y="12254"/>
                </a:cubicBezTo>
                <a:cubicBezTo>
                  <a:pt x="14823" y="12042"/>
                  <a:pt x="14556" y="11872"/>
                  <a:pt x="14362" y="11857"/>
                </a:cubicBezTo>
                <a:cubicBezTo>
                  <a:pt x="14049" y="11833"/>
                  <a:pt x="13840" y="12271"/>
                  <a:pt x="13990" y="12526"/>
                </a:cubicBezTo>
                <a:cubicBezTo>
                  <a:pt x="14176" y="12634"/>
                  <a:pt x="14248" y="12661"/>
                  <a:pt x="14387" y="12526"/>
                </a:cubicBezTo>
              </a:path>
              <a:path w="5781" h="3400">
                <a:moveTo>
                  <a:pt x="16173" y="11038"/>
                </a:moveTo>
                <a:cubicBezTo>
                  <a:pt x="16060" y="11105"/>
                  <a:pt x="15964" y="11316"/>
                  <a:pt x="15974" y="11460"/>
                </a:cubicBezTo>
                <a:cubicBezTo>
                  <a:pt x="15991" y="11493"/>
                  <a:pt x="16007" y="11526"/>
                  <a:pt x="16024" y="11559"/>
                </a:cubicBezTo>
                <a:cubicBezTo>
                  <a:pt x="16255" y="11510"/>
                  <a:pt x="16354" y="11376"/>
                  <a:pt x="16297" y="11112"/>
                </a:cubicBezTo>
                <a:cubicBezTo>
                  <a:pt x="16273" y="11000"/>
                  <a:pt x="16265" y="11013"/>
                  <a:pt x="16197" y="11013"/>
                </a:cubicBezTo>
              </a:path>
              <a:path w="5781" h="3400">
                <a:moveTo>
                  <a:pt x="16495" y="11311"/>
                </a:moveTo>
                <a:cubicBezTo>
                  <a:pt x="16495" y="11361"/>
                  <a:pt x="16495" y="11377"/>
                  <a:pt x="16495" y="11410"/>
                </a:cubicBezTo>
              </a:path>
              <a:path w="5781" h="3400">
                <a:moveTo>
                  <a:pt x="16818" y="11013"/>
                </a:moveTo>
                <a:cubicBezTo>
                  <a:pt x="16867" y="10973"/>
                  <a:pt x="16904" y="10961"/>
                  <a:pt x="16966" y="10939"/>
                </a:cubicBezTo>
                <a:cubicBezTo>
                  <a:pt x="17051" y="11071"/>
                  <a:pt x="17075" y="11229"/>
                  <a:pt x="16942" y="11361"/>
                </a:cubicBezTo>
                <a:cubicBezTo>
                  <a:pt x="16820" y="11482"/>
                  <a:pt x="16776" y="11395"/>
                  <a:pt x="16768" y="11311"/>
                </a:cubicBezTo>
                <a:cubicBezTo>
                  <a:pt x="16947" y="11281"/>
                  <a:pt x="16899" y="11352"/>
                  <a:pt x="17016" y="11460"/>
                </a:cubicBezTo>
                <a:cubicBezTo>
                  <a:pt x="17024" y="11460"/>
                  <a:pt x="17033" y="11460"/>
                  <a:pt x="17041" y="11460"/>
                </a:cubicBezTo>
              </a:path>
              <a:path w="5781" h="3400">
                <a:moveTo>
                  <a:pt x="17264" y="10988"/>
                </a:moveTo>
                <a:cubicBezTo>
                  <a:pt x="17170" y="11130"/>
                  <a:pt x="17128" y="11238"/>
                  <a:pt x="17190" y="11385"/>
                </a:cubicBezTo>
                <a:cubicBezTo>
                  <a:pt x="17331" y="11326"/>
                  <a:pt x="17553" y="11197"/>
                  <a:pt x="17338" y="11038"/>
                </a:cubicBezTo>
                <a:cubicBezTo>
                  <a:pt x="17322" y="11038"/>
                  <a:pt x="17305" y="11038"/>
                  <a:pt x="17289" y="110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00880" y="3919680"/>
            <a:ext cx="992160" cy="822240"/>
          </a:xfrm>
          <a:custGeom>
            <a:avLst/>
            <a:gdLst/>
            <a:ahLst/>
            <a:rect l="l" t="t" r="r" b="b"/>
            <a:pathLst>
              <a:path w="2754" h="2283">
                <a:moveTo>
                  <a:pt x="18231" y="10988"/>
                </a:moveTo>
                <a:cubicBezTo>
                  <a:pt x="18077" y="11104"/>
                  <a:pt x="18047" y="11204"/>
                  <a:pt x="18107" y="11385"/>
                </a:cubicBezTo>
                <a:cubicBezTo>
                  <a:pt x="18297" y="11345"/>
                  <a:pt x="18450" y="11245"/>
                  <a:pt x="18281" y="11038"/>
                </a:cubicBezTo>
                <a:cubicBezTo>
                  <a:pt x="18241" y="10989"/>
                  <a:pt x="18135" y="10972"/>
                  <a:pt x="18281" y="11038"/>
                </a:cubicBezTo>
              </a:path>
              <a:path w="2754" h="2283">
                <a:moveTo>
                  <a:pt x="20141" y="10889"/>
                </a:moveTo>
                <a:cubicBezTo>
                  <a:pt x="20045" y="10948"/>
                  <a:pt x="19954" y="11135"/>
                  <a:pt x="19968" y="11261"/>
                </a:cubicBezTo>
                <a:cubicBezTo>
                  <a:pt x="19984" y="11278"/>
                  <a:pt x="20001" y="11294"/>
                  <a:pt x="20017" y="11311"/>
                </a:cubicBezTo>
                <a:cubicBezTo>
                  <a:pt x="20216" y="11262"/>
                  <a:pt x="20267" y="11192"/>
                  <a:pt x="20191" y="10988"/>
                </a:cubicBezTo>
                <a:cubicBezTo>
                  <a:pt x="20173" y="10940"/>
                  <a:pt x="20154" y="10908"/>
                  <a:pt x="20117" y="10889"/>
                </a:cubicBezTo>
              </a:path>
              <a:path w="2754" h="2283">
                <a:moveTo>
                  <a:pt x="18331" y="12477"/>
                </a:moveTo>
                <a:cubicBezTo>
                  <a:pt x="18200" y="12629"/>
                  <a:pt x="18162" y="12733"/>
                  <a:pt x="18132" y="12923"/>
                </a:cubicBezTo>
                <a:cubicBezTo>
                  <a:pt x="18306" y="12935"/>
                  <a:pt x="18440" y="12862"/>
                  <a:pt x="18355" y="12650"/>
                </a:cubicBezTo>
                <a:cubicBezTo>
                  <a:pt x="18299" y="12575"/>
                  <a:pt x="18295" y="12562"/>
                  <a:pt x="18256" y="12526"/>
                </a:cubicBezTo>
              </a:path>
              <a:path w="2754" h="2283">
                <a:moveTo>
                  <a:pt x="18876" y="12477"/>
                </a:moveTo>
                <a:cubicBezTo>
                  <a:pt x="19026" y="12462"/>
                  <a:pt x="19115" y="12556"/>
                  <a:pt x="19050" y="12725"/>
                </a:cubicBezTo>
                <a:cubicBezTo>
                  <a:pt x="19011" y="12826"/>
                  <a:pt x="18896" y="12785"/>
                  <a:pt x="18827" y="12774"/>
                </a:cubicBezTo>
                <a:cubicBezTo>
                  <a:pt x="18876" y="12678"/>
                  <a:pt x="18943" y="12756"/>
                  <a:pt x="19025" y="12750"/>
                </a:cubicBezTo>
                <a:cubicBezTo>
                  <a:pt x="19110" y="12722"/>
                  <a:pt x="19145" y="12709"/>
                  <a:pt x="19199" y="12675"/>
                </a:cubicBezTo>
              </a:path>
              <a:path w="2754" h="2283">
                <a:moveTo>
                  <a:pt x="19124" y="12402"/>
                </a:moveTo>
                <a:cubicBezTo>
                  <a:pt x="19215" y="12402"/>
                  <a:pt x="19306" y="12402"/>
                  <a:pt x="19397" y="12402"/>
                </a:cubicBezTo>
                <a:cubicBezTo>
                  <a:pt x="19383" y="12521"/>
                  <a:pt x="19209" y="12789"/>
                  <a:pt x="19323" y="12750"/>
                </a:cubicBezTo>
                <a:cubicBezTo>
                  <a:pt x="19339" y="12733"/>
                  <a:pt x="19356" y="12717"/>
                  <a:pt x="19372" y="12700"/>
                </a:cubicBezTo>
              </a:path>
              <a:path w="2754" h="2283">
                <a:moveTo>
                  <a:pt x="20464" y="12080"/>
                </a:moveTo>
                <a:cubicBezTo>
                  <a:pt x="20464" y="12203"/>
                  <a:pt x="20461" y="12312"/>
                  <a:pt x="20439" y="12427"/>
                </a:cubicBezTo>
                <a:cubicBezTo>
                  <a:pt x="20439" y="12435"/>
                  <a:pt x="20439" y="12444"/>
                  <a:pt x="20439" y="12452"/>
                </a:cubicBezTo>
              </a:path>
              <a:path w="2754" h="2283">
                <a:moveTo>
                  <a:pt x="20365" y="12551"/>
                </a:moveTo>
                <a:cubicBezTo>
                  <a:pt x="20517" y="12516"/>
                  <a:pt x="20656" y="12477"/>
                  <a:pt x="20811" y="12477"/>
                </a:cubicBezTo>
              </a:path>
              <a:path w="2754" h="2283">
                <a:moveTo>
                  <a:pt x="20538" y="12774"/>
                </a:moveTo>
                <a:cubicBezTo>
                  <a:pt x="20594" y="12747"/>
                  <a:pt x="20616" y="12739"/>
                  <a:pt x="20662" y="12750"/>
                </a:cubicBezTo>
                <a:cubicBezTo>
                  <a:pt x="20699" y="12921"/>
                  <a:pt x="20666" y="13101"/>
                  <a:pt x="20464" y="13171"/>
                </a:cubicBezTo>
                <a:cubicBezTo>
                  <a:pt x="20339" y="13171"/>
                  <a:pt x="20297" y="13193"/>
                  <a:pt x="20290" y="13097"/>
                </a:cubicBezTo>
                <a:cubicBezTo>
                  <a:pt x="20454" y="13056"/>
                  <a:pt x="20511" y="13048"/>
                  <a:pt x="20662" y="13146"/>
                </a:cubicBezTo>
                <a:cubicBezTo>
                  <a:pt x="20670" y="13154"/>
                  <a:pt x="20679" y="13163"/>
                  <a:pt x="20687" y="131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858080" y="4394160"/>
            <a:ext cx="384120" cy="187200"/>
          </a:xfrm>
          <a:custGeom>
            <a:avLst/>
            <a:gdLst/>
            <a:ahLst/>
            <a:rect l="l" t="t" r="r" b="b"/>
            <a:pathLst>
              <a:path w="1068" h="522">
                <a:moveTo>
                  <a:pt x="22002" y="12254"/>
                </a:moveTo>
                <a:cubicBezTo>
                  <a:pt x="21957" y="12195"/>
                  <a:pt x="21978" y="12194"/>
                  <a:pt x="21903" y="12328"/>
                </a:cubicBezTo>
                <a:cubicBezTo>
                  <a:pt x="21818" y="12480"/>
                  <a:pt x="21821" y="12540"/>
                  <a:pt x="21853" y="12700"/>
                </a:cubicBezTo>
                <a:cubicBezTo>
                  <a:pt x="22020" y="12717"/>
                  <a:pt x="22109" y="12584"/>
                  <a:pt x="22076" y="12402"/>
                </a:cubicBezTo>
                <a:cubicBezTo>
                  <a:pt x="22030" y="12333"/>
                  <a:pt x="22018" y="12313"/>
                  <a:pt x="21977" y="12278"/>
                </a:cubicBezTo>
              </a:path>
              <a:path w="1068" h="522">
                <a:moveTo>
                  <a:pt x="22647" y="12204"/>
                </a:moveTo>
                <a:cubicBezTo>
                  <a:pt x="22627" y="12346"/>
                  <a:pt x="22579" y="12486"/>
                  <a:pt x="22547" y="12626"/>
                </a:cubicBezTo>
                <a:cubicBezTo>
                  <a:pt x="22729" y="12670"/>
                  <a:pt x="22795" y="12651"/>
                  <a:pt x="22895" y="12502"/>
                </a:cubicBezTo>
                <a:cubicBezTo>
                  <a:pt x="22805" y="12537"/>
                  <a:pt x="22789" y="12608"/>
                  <a:pt x="22771" y="12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19840" y="4429080"/>
            <a:ext cx="250920" cy="465120"/>
          </a:xfrm>
          <a:custGeom>
            <a:avLst/>
            <a:gdLst/>
            <a:ahLst/>
            <a:rect l="l" t="t" r="r" b="b"/>
            <a:pathLst>
              <a:path w="695" h="1291">
                <a:moveTo>
                  <a:pt x="16594" y="12378"/>
                </a:moveTo>
                <a:cubicBezTo>
                  <a:pt x="16532" y="12440"/>
                  <a:pt x="16680" y="12307"/>
                  <a:pt x="16694" y="12303"/>
                </a:cubicBezTo>
                <a:cubicBezTo>
                  <a:pt x="16719" y="12303"/>
                  <a:pt x="16743" y="12303"/>
                  <a:pt x="16768" y="12303"/>
                </a:cubicBezTo>
                <a:cubicBezTo>
                  <a:pt x="16823" y="12500"/>
                  <a:pt x="16817" y="12652"/>
                  <a:pt x="16570" y="12700"/>
                </a:cubicBezTo>
                <a:cubicBezTo>
                  <a:pt x="16562" y="12692"/>
                  <a:pt x="16553" y="12683"/>
                  <a:pt x="16545" y="12675"/>
                </a:cubicBezTo>
                <a:cubicBezTo>
                  <a:pt x="16632" y="12576"/>
                  <a:pt x="16693" y="12560"/>
                  <a:pt x="16818" y="12626"/>
                </a:cubicBezTo>
                <a:cubicBezTo>
                  <a:pt x="16840" y="12648"/>
                  <a:pt x="16845" y="12656"/>
                  <a:pt x="16867" y="12650"/>
                </a:cubicBezTo>
              </a:path>
              <a:path w="695" h="1291">
                <a:moveTo>
                  <a:pt x="16446" y="12849"/>
                </a:moveTo>
                <a:cubicBezTo>
                  <a:pt x="16609" y="12816"/>
                  <a:pt x="16975" y="12670"/>
                  <a:pt x="17140" y="12750"/>
                </a:cubicBezTo>
                <a:cubicBezTo>
                  <a:pt x="17140" y="12758"/>
                  <a:pt x="17140" y="12766"/>
                  <a:pt x="17140" y="12774"/>
                </a:cubicBezTo>
              </a:path>
              <a:path w="695" h="1291">
                <a:moveTo>
                  <a:pt x="16619" y="13196"/>
                </a:moveTo>
                <a:cubicBezTo>
                  <a:pt x="16609" y="13254"/>
                  <a:pt x="16482" y="13668"/>
                  <a:pt x="16545" y="13543"/>
                </a:cubicBezTo>
              </a:path>
              <a:path w="695" h="1291">
                <a:moveTo>
                  <a:pt x="16917" y="13097"/>
                </a:moveTo>
                <a:cubicBezTo>
                  <a:pt x="16839" y="13224"/>
                  <a:pt x="16809" y="13295"/>
                  <a:pt x="16793" y="13444"/>
                </a:cubicBezTo>
                <a:cubicBezTo>
                  <a:pt x="16934" y="13485"/>
                  <a:pt x="17143" y="13418"/>
                  <a:pt x="17066" y="13196"/>
                </a:cubicBezTo>
                <a:cubicBezTo>
                  <a:pt x="17038" y="13116"/>
                  <a:pt x="16942" y="13108"/>
                  <a:pt x="16942" y="13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04000" y="3929040"/>
            <a:ext cx="223920" cy="169920"/>
          </a:xfrm>
          <a:custGeom>
            <a:avLst/>
            <a:gdLst/>
            <a:ahLst/>
            <a:rect l="l" t="t" r="r" b="b"/>
            <a:pathLst>
              <a:path w="621" h="472">
                <a:moveTo>
                  <a:pt x="18901" y="10964"/>
                </a:moveTo>
                <a:cubicBezTo>
                  <a:pt x="19073" y="10906"/>
                  <a:pt x="19179" y="10966"/>
                  <a:pt x="19149" y="11187"/>
                </a:cubicBezTo>
                <a:cubicBezTo>
                  <a:pt x="19124" y="11366"/>
                  <a:pt x="19007" y="11448"/>
                  <a:pt x="18926" y="11286"/>
                </a:cubicBezTo>
                <a:cubicBezTo>
                  <a:pt x="19005" y="11170"/>
                  <a:pt x="19004" y="11332"/>
                  <a:pt x="19124" y="11336"/>
                </a:cubicBezTo>
                <a:cubicBezTo>
                  <a:pt x="19157" y="11328"/>
                  <a:pt x="19191" y="11319"/>
                  <a:pt x="19224" y="11311"/>
                </a:cubicBezTo>
              </a:path>
              <a:path w="621" h="472">
                <a:moveTo>
                  <a:pt x="19298" y="10964"/>
                </a:moveTo>
                <a:cubicBezTo>
                  <a:pt x="19375" y="10951"/>
                  <a:pt x="19441" y="10939"/>
                  <a:pt x="19521" y="10939"/>
                </a:cubicBezTo>
                <a:cubicBezTo>
                  <a:pt x="19521" y="11064"/>
                  <a:pt x="19508" y="11190"/>
                  <a:pt x="19472" y="11311"/>
                </a:cubicBezTo>
                <a:cubicBezTo>
                  <a:pt x="19464" y="11328"/>
                  <a:pt x="19455" y="11344"/>
                  <a:pt x="19447" y="113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92960" y="3911760"/>
            <a:ext cx="206280" cy="249120"/>
          </a:xfrm>
          <a:custGeom>
            <a:avLst/>
            <a:gdLst/>
            <a:ahLst/>
            <a:rect l="l" t="t" r="r" b="b"/>
            <a:pathLst>
              <a:path w="572" h="696">
                <a:moveTo>
                  <a:pt x="20836" y="10889"/>
                </a:moveTo>
                <a:cubicBezTo>
                  <a:pt x="20813" y="10819"/>
                  <a:pt x="20738" y="10894"/>
                  <a:pt x="20687" y="10889"/>
                </a:cubicBezTo>
                <a:cubicBezTo>
                  <a:pt x="20574" y="10877"/>
                  <a:pt x="20626" y="10839"/>
                  <a:pt x="20588" y="10964"/>
                </a:cubicBezTo>
                <a:cubicBezTo>
                  <a:pt x="20568" y="11004"/>
                  <a:pt x="20559" y="11010"/>
                  <a:pt x="20563" y="11038"/>
                </a:cubicBezTo>
                <a:cubicBezTo>
                  <a:pt x="20571" y="11046"/>
                  <a:pt x="20580" y="11055"/>
                  <a:pt x="20588" y="11063"/>
                </a:cubicBezTo>
                <a:cubicBezTo>
                  <a:pt x="20650" y="11021"/>
                  <a:pt x="20726" y="10968"/>
                  <a:pt x="20762" y="11063"/>
                </a:cubicBezTo>
                <a:cubicBezTo>
                  <a:pt x="20802" y="11169"/>
                  <a:pt x="20710" y="11388"/>
                  <a:pt x="20563" y="11286"/>
                </a:cubicBezTo>
                <a:cubicBezTo>
                  <a:pt x="20555" y="11261"/>
                  <a:pt x="20546" y="11237"/>
                  <a:pt x="20538" y="11212"/>
                </a:cubicBezTo>
              </a:path>
              <a:path w="572" h="696">
                <a:moveTo>
                  <a:pt x="21109" y="11237"/>
                </a:moveTo>
                <a:cubicBezTo>
                  <a:pt x="21109" y="11369"/>
                  <a:pt x="21087" y="11439"/>
                  <a:pt x="21034" y="115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705800" y="3911760"/>
            <a:ext cx="117360" cy="152280"/>
          </a:xfrm>
          <a:custGeom>
            <a:avLst/>
            <a:gdLst/>
            <a:ahLst/>
            <a:rect l="l" t="t" r="r" b="b"/>
            <a:pathLst>
              <a:path w="324" h="423">
                <a:moveTo>
                  <a:pt x="21630" y="10914"/>
                </a:moveTo>
                <a:cubicBezTo>
                  <a:pt x="21580" y="10790"/>
                  <a:pt x="21422" y="11080"/>
                  <a:pt x="21406" y="11162"/>
                </a:cubicBezTo>
                <a:cubicBezTo>
                  <a:pt x="21414" y="11195"/>
                  <a:pt x="21423" y="11228"/>
                  <a:pt x="21431" y="11261"/>
                </a:cubicBezTo>
                <a:cubicBezTo>
                  <a:pt x="21613" y="11272"/>
                  <a:pt x="21775" y="11222"/>
                  <a:pt x="21704" y="10988"/>
                </a:cubicBezTo>
                <a:cubicBezTo>
                  <a:pt x="21660" y="10923"/>
                  <a:pt x="21654" y="10904"/>
                  <a:pt x="21605" y="108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956720" y="3884760"/>
            <a:ext cx="125280" cy="160200"/>
          </a:xfrm>
          <a:custGeom>
            <a:avLst/>
            <a:gdLst/>
            <a:ahLst/>
            <a:rect l="l" t="t" r="r" b="b"/>
            <a:pathLst>
              <a:path w="348" h="448">
                <a:moveTo>
                  <a:pt x="22175" y="10790"/>
                </a:moveTo>
                <a:cubicBezTo>
                  <a:pt x="22175" y="10892"/>
                  <a:pt x="22115" y="10961"/>
                  <a:pt x="22101" y="11063"/>
                </a:cubicBezTo>
                <a:cubicBezTo>
                  <a:pt x="22079" y="11219"/>
                  <a:pt x="22178" y="11251"/>
                  <a:pt x="22324" y="11187"/>
                </a:cubicBezTo>
                <a:cubicBezTo>
                  <a:pt x="22390" y="11158"/>
                  <a:pt x="22434" y="11120"/>
                  <a:pt x="22448" y="11063"/>
                </a:cubicBezTo>
                <a:cubicBezTo>
                  <a:pt x="22364" y="11063"/>
                  <a:pt x="22250" y="11065"/>
                  <a:pt x="22250" y="11187"/>
                </a:cubicBezTo>
                <a:cubicBezTo>
                  <a:pt x="22278" y="11244"/>
                  <a:pt x="22294" y="11258"/>
                  <a:pt x="22349" y="112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07040" y="1901880"/>
            <a:ext cx="2063880" cy="777960"/>
          </a:xfrm>
          <a:custGeom>
            <a:avLst/>
            <a:gdLst/>
            <a:ahLst/>
            <a:rect l="l" t="t" r="r" b="b"/>
            <a:pathLst>
              <a:path w="5731" h="2159">
                <a:moveTo>
                  <a:pt x="16991" y="5928"/>
                </a:moveTo>
                <a:cubicBezTo>
                  <a:pt x="17001" y="5976"/>
                  <a:pt x="17079" y="6424"/>
                  <a:pt x="17090" y="6548"/>
                </a:cubicBezTo>
                <a:cubicBezTo>
                  <a:pt x="17115" y="6839"/>
                  <a:pt x="17115" y="7126"/>
                  <a:pt x="17115" y="7417"/>
                </a:cubicBezTo>
                <a:cubicBezTo>
                  <a:pt x="17164" y="7411"/>
                  <a:pt x="17267" y="7403"/>
                  <a:pt x="17338" y="7392"/>
                </a:cubicBezTo>
                <a:cubicBezTo>
                  <a:pt x="17757" y="7329"/>
                  <a:pt x="18154" y="7296"/>
                  <a:pt x="18579" y="7293"/>
                </a:cubicBezTo>
                <a:cubicBezTo>
                  <a:pt x="19151" y="7289"/>
                  <a:pt x="19719" y="7234"/>
                  <a:pt x="20290" y="7218"/>
                </a:cubicBezTo>
                <a:cubicBezTo>
                  <a:pt x="20765" y="7205"/>
                  <a:pt x="21230" y="7151"/>
                  <a:pt x="21704" y="7119"/>
                </a:cubicBezTo>
                <a:cubicBezTo>
                  <a:pt x="21862" y="7108"/>
                  <a:pt x="22043" y="7081"/>
                  <a:pt x="22200" y="7094"/>
                </a:cubicBezTo>
                <a:cubicBezTo>
                  <a:pt x="22291" y="7102"/>
                  <a:pt x="22377" y="7117"/>
                  <a:pt x="22473" y="7119"/>
                </a:cubicBezTo>
                <a:cubicBezTo>
                  <a:pt x="22523" y="7120"/>
                  <a:pt x="22572" y="7119"/>
                  <a:pt x="22622" y="7119"/>
                </a:cubicBezTo>
                <a:cubicBezTo>
                  <a:pt x="22645" y="6970"/>
                  <a:pt x="22669" y="6824"/>
                  <a:pt x="22671" y="6672"/>
                </a:cubicBezTo>
                <a:cubicBezTo>
                  <a:pt x="22673" y="6556"/>
                  <a:pt x="22682" y="6455"/>
                  <a:pt x="22671" y="6350"/>
                </a:cubicBezTo>
                <a:cubicBezTo>
                  <a:pt x="22661" y="6252"/>
                  <a:pt x="22637" y="6144"/>
                  <a:pt x="22597" y="6052"/>
                </a:cubicBezTo>
                <a:cubicBezTo>
                  <a:pt x="22548" y="5938"/>
                  <a:pt x="22468" y="5846"/>
                  <a:pt x="22423" y="5730"/>
                </a:cubicBezTo>
                <a:cubicBezTo>
                  <a:pt x="22400" y="5670"/>
                  <a:pt x="22396" y="5589"/>
                  <a:pt x="22374" y="5531"/>
                </a:cubicBezTo>
                <a:cubicBezTo>
                  <a:pt x="22346" y="5456"/>
                  <a:pt x="22372" y="5458"/>
                  <a:pt x="22299" y="5407"/>
                </a:cubicBezTo>
                <a:cubicBezTo>
                  <a:pt x="22183" y="5327"/>
                  <a:pt x="22015" y="5316"/>
                  <a:pt x="21878" y="5308"/>
                </a:cubicBezTo>
                <a:cubicBezTo>
                  <a:pt x="21753" y="5301"/>
                  <a:pt x="21618" y="5298"/>
                  <a:pt x="21506" y="5308"/>
                </a:cubicBezTo>
                <a:cubicBezTo>
                  <a:pt x="21419" y="5316"/>
                  <a:pt x="21316" y="5310"/>
                  <a:pt x="21233" y="5333"/>
                </a:cubicBezTo>
                <a:cubicBezTo>
                  <a:pt x="21093" y="5371"/>
                  <a:pt x="20957" y="5421"/>
                  <a:pt x="20811" y="5432"/>
                </a:cubicBezTo>
                <a:cubicBezTo>
                  <a:pt x="20713" y="5439"/>
                  <a:pt x="20607" y="5452"/>
                  <a:pt x="20513" y="5457"/>
                </a:cubicBezTo>
                <a:cubicBezTo>
                  <a:pt x="20416" y="5462"/>
                  <a:pt x="20335" y="5469"/>
                  <a:pt x="20241" y="5482"/>
                </a:cubicBezTo>
                <a:cubicBezTo>
                  <a:pt x="20130" y="5498"/>
                  <a:pt x="20043" y="5535"/>
                  <a:pt x="19943" y="5556"/>
                </a:cubicBezTo>
                <a:cubicBezTo>
                  <a:pt x="19811" y="5584"/>
                  <a:pt x="19657" y="5618"/>
                  <a:pt x="19521" y="5631"/>
                </a:cubicBezTo>
                <a:cubicBezTo>
                  <a:pt x="19432" y="5640"/>
                  <a:pt x="19337" y="5658"/>
                  <a:pt x="19248" y="5655"/>
                </a:cubicBezTo>
                <a:cubicBezTo>
                  <a:pt x="19186" y="5653"/>
                  <a:pt x="19140" y="5634"/>
                  <a:pt x="19075" y="5631"/>
                </a:cubicBezTo>
                <a:cubicBezTo>
                  <a:pt x="18940" y="5624"/>
                  <a:pt x="18832" y="5669"/>
                  <a:pt x="18703" y="5680"/>
                </a:cubicBezTo>
                <a:cubicBezTo>
                  <a:pt x="18492" y="5698"/>
                  <a:pt x="18266" y="5694"/>
                  <a:pt x="18058" y="5705"/>
                </a:cubicBezTo>
                <a:cubicBezTo>
                  <a:pt x="17956" y="5710"/>
                  <a:pt x="17861" y="5715"/>
                  <a:pt x="17760" y="5730"/>
                </a:cubicBezTo>
                <a:cubicBezTo>
                  <a:pt x="17652" y="5746"/>
                  <a:pt x="17547" y="5745"/>
                  <a:pt x="17438" y="5755"/>
                </a:cubicBezTo>
                <a:cubicBezTo>
                  <a:pt x="17347" y="5764"/>
                  <a:pt x="17256" y="5766"/>
                  <a:pt x="17165" y="5779"/>
                </a:cubicBezTo>
                <a:cubicBezTo>
                  <a:pt x="17127" y="5785"/>
                  <a:pt x="17050" y="5789"/>
                  <a:pt x="17016" y="5804"/>
                </a:cubicBezTo>
                <a:cubicBezTo>
                  <a:pt x="16990" y="5815"/>
                  <a:pt x="16993" y="5845"/>
                  <a:pt x="16966" y="58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59280" y="4249800"/>
            <a:ext cx="2571840" cy="760320"/>
          </a:xfrm>
          <a:custGeom>
            <a:avLst/>
            <a:gdLst/>
            <a:ahLst/>
            <a:rect l="l" t="t" r="r" b="b"/>
            <a:pathLst>
              <a:path w="7145" h="2109">
                <a:moveTo>
                  <a:pt x="16173" y="11981"/>
                </a:moveTo>
                <a:cubicBezTo>
                  <a:pt x="16282" y="11971"/>
                  <a:pt x="16385" y="11961"/>
                  <a:pt x="16495" y="11956"/>
                </a:cubicBezTo>
                <a:cubicBezTo>
                  <a:pt x="16734" y="11946"/>
                  <a:pt x="16978" y="11941"/>
                  <a:pt x="17214" y="11931"/>
                </a:cubicBezTo>
                <a:cubicBezTo>
                  <a:pt x="17382" y="11924"/>
                  <a:pt x="17545" y="11924"/>
                  <a:pt x="17711" y="11906"/>
                </a:cubicBezTo>
                <a:cubicBezTo>
                  <a:pt x="17867" y="11889"/>
                  <a:pt x="18025" y="11868"/>
                  <a:pt x="18182" y="11857"/>
                </a:cubicBezTo>
                <a:cubicBezTo>
                  <a:pt x="18371" y="11844"/>
                  <a:pt x="18561" y="11824"/>
                  <a:pt x="18752" y="11832"/>
                </a:cubicBezTo>
                <a:cubicBezTo>
                  <a:pt x="18952" y="11841"/>
                  <a:pt x="19147" y="11857"/>
                  <a:pt x="19348" y="11857"/>
                </a:cubicBezTo>
                <a:cubicBezTo>
                  <a:pt x="19664" y="11857"/>
                  <a:pt x="19977" y="11867"/>
                  <a:pt x="20290" y="11881"/>
                </a:cubicBezTo>
                <a:cubicBezTo>
                  <a:pt x="20465" y="11889"/>
                  <a:pt x="20639" y="11875"/>
                  <a:pt x="20811" y="11857"/>
                </a:cubicBezTo>
                <a:cubicBezTo>
                  <a:pt x="20912" y="11846"/>
                  <a:pt x="21007" y="11837"/>
                  <a:pt x="21109" y="11832"/>
                </a:cubicBezTo>
                <a:cubicBezTo>
                  <a:pt x="21167" y="11829"/>
                  <a:pt x="21147" y="11833"/>
                  <a:pt x="21183" y="11832"/>
                </a:cubicBezTo>
                <a:cubicBezTo>
                  <a:pt x="21583" y="11825"/>
                  <a:pt x="21978" y="11837"/>
                  <a:pt x="22374" y="11832"/>
                </a:cubicBezTo>
                <a:cubicBezTo>
                  <a:pt x="22630" y="11829"/>
                  <a:pt x="22887" y="11832"/>
                  <a:pt x="23143" y="11832"/>
                </a:cubicBezTo>
                <a:cubicBezTo>
                  <a:pt x="23131" y="11912"/>
                  <a:pt x="23134" y="12002"/>
                  <a:pt x="23118" y="12080"/>
                </a:cubicBezTo>
                <a:cubicBezTo>
                  <a:pt x="23093" y="12206"/>
                  <a:pt x="23062" y="12326"/>
                  <a:pt x="23044" y="12452"/>
                </a:cubicBezTo>
                <a:cubicBezTo>
                  <a:pt x="23024" y="12593"/>
                  <a:pt x="23013" y="12734"/>
                  <a:pt x="22994" y="12874"/>
                </a:cubicBezTo>
                <a:cubicBezTo>
                  <a:pt x="22982" y="12963"/>
                  <a:pt x="22987" y="13059"/>
                  <a:pt x="22969" y="13146"/>
                </a:cubicBezTo>
                <a:cubicBezTo>
                  <a:pt x="22967" y="13158"/>
                  <a:pt x="22932" y="13359"/>
                  <a:pt x="22920" y="13370"/>
                </a:cubicBezTo>
                <a:cubicBezTo>
                  <a:pt x="22761" y="13519"/>
                  <a:pt x="22256" y="13448"/>
                  <a:pt x="22051" y="13469"/>
                </a:cubicBezTo>
                <a:cubicBezTo>
                  <a:pt x="21861" y="13488"/>
                  <a:pt x="21672" y="13494"/>
                  <a:pt x="21481" y="13494"/>
                </a:cubicBezTo>
                <a:cubicBezTo>
                  <a:pt x="21262" y="13494"/>
                  <a:pt x="21051" y="13497"/>
                  <a:pt x="20836" y="13519"/>
                </a:cubicBezTo>
                <a:cubicBezTo>
                  <a:pt x="20689" y="13534"/>
                  <a:pt x="20537" y="13559"/>
                  <a:pt x="20389" y="13568"/>
                </a:cubicBezTo>
                <a:cubicBezTo>
                  <a:pt x="20214" y="13578"/>
                  <a:pt x="20043" y="13574"/>
                  <a:pt x="19869" y="13593"/>
                </a:cubicBezTo>
                <a:cubicBezTo>
                  <a:pt x="19732" y="13608"/>
                  <a:pt x="19585" y="13624"/>
                  <a:pt x="19447" y="13643"/>
                </a:cubicBezTo>
                <a:cubicBezTo>
                  <a:pt x="19240" y="13671"/>
                  <a:pt x="19034" y="13670"/>
                  <a:pt x="18827" y="13692"/>
                </a:cubicBezTo>
                <a:cubicBezTo>
                  <a:pt x="18649" y="13711"/>
                  <a:pt x="18457" y="13734"/>
                  <a:pt x="18281" y="13742"/>
                </a:cubicBezTo>
                <a:cubicBezTo>
                  <a:pt x="17813" y="13762"/>
                  <a:pt x="17357" y="13765"/>
                  <a:pt x="16892" y="13816"/>
                </a:cubicBezTo>
                <a:cubicBezTo>
                  <a:pt x="16669" y="13840"/>
                  <a:pt x="16443" y="13862"/>
                  <a:pt x="16222" y="13891"/>
                </a:cubicBezTo>
                <a:cubicBezTo>
                  <a:pt x="16146" y="13901"/>
                  <a:pt x="16075" y="13907"/>
                  <a:pt x="15999" y="13915"/>
                </a:cubicBezTo>
                <a:cubicBezTo>
                  <a:pt x="16011" y="13770"/>
                  <a:pt x="16047" y="13639"/>
                  <a:pt x="16049" y="13494"/>
                </a:cubicBezTo>
                <a:cubicBezTo>
                  <a:pt x="16051" y="13335"/>
                  <a:pt x="16015" y="13183"/>
                  <a:pt x="16024" y="13022"/>
                </a:cubicBezTo>
                <a:cubicBezTo>
                  <a:pt x="16034" y="12833"/>
                  <a:pt x="16049" y="12644"/>
                  <a:pt x="16049" y="12452"/>
                </a:cubicBezTo>
                <a:cubicBezTo>
                  <a:pt x="16049" y="12359"/>
                  <a:pt x="16069" y="12265"/>
                  <a:pt x="16073" y="12179"/>
                </a:cubicBezTo>
                <a:cubicBezTo>
                  <a:pt x="16077" y="12105"/>
                  <a:pt x="16070" y="12030"/>
                  <a:pt x="16073" y="11956"/>
                </a:cubicBezTo>
                <a:cubicBezTo>
                  <a:pt x="16201" y="11952"/>
                  <a:pt x="16321" y="11942"/>
                  <a:pt x="16446" y="119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Application:</a:t>
            </a:r>
            <a:r>
              <a:rPr b="0" lang="en-US" sz="3600" spc="-1" strike="noStrike">
                <a:solidFill>
                  <a:srgbClr val="66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ile you’re building a tree house, your uncle tells you that all fractions with a 4 in the numerator are “basically all the same”.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s this true?  Why or why not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4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4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4200" spc="-1" strike="noStrike">
                <a:solidFill>
                  <a:srgbClr val="9933ff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33520" y="3809880"/>
          <a:ext cx="7524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9880"/>
                    <a:ext cx="75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7543800" y="3429000"/>
          <a:ext cx="115092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3429000"/>
                    <a:ext cx="11509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375160" y="3809880"/>
          <a:ext cx="51120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75160" y="3809880"/>
                    <a:ext cx="511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3809880" y="4114800"/>
          <a:ext cx="797040" cy="2057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4114800"/>
                    <a:ext cx="79704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2438280" y="4191120"/>
          <a:ext cx="443160" cy="76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4191120"/>
                    <a:ext cx="4431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1544760" y="3537000"/>
            <a:ext cx="330120" cy="222120"/>
          </a:xfrm>
          <a:custGeom>
            <a:avLst/>
            <a:gdLst/>
            <a:ahLst/>
            <a:rect l="l" t="t" r="r" b="b"/>
            <a:pathLst>
              <a:path w="919" h="621">
                <a:moveTo>
                  <a:pt x="4415" y="9897"/>
                </a:moveTo>
                <a:cubicBezTo>
                  <a:pt x="4390" y="10071"/>
                  <a:pt x="4374" y="10249"/>
                  <a:pt x="4316" y="10418"/>
                </a:cubicBezTo>
                <a:cubicBezTo>
                  <a:pt x="4282" y="10452"/>
                  <a:pt x="4273" y="10447"/>
                  <a:pt x="4291" y="10368"/>
                </a:cubicBezTo>
              </a:path>
              <a:path w="919" h="621">
                <a:moveTo>
                  <a:pt x="4366" y="9971"/>
                </a:moveTo>
                <a:cubicBezTo>
                  <a:pt x="4449" y="10081"/>
                  <a:pt x="4538" y="10276"/>
                  <a:pt x="4663" y="10344"/>
                </a:cubicBezTo>
                <a:cubicBezTo>
                  <a:pt x="4671" y="10344"/>
                  <a:pt x="4680" y="10344"/>
                  <a:pt x="4688" y="10344"/>
                </a:cubicBezTo>
                <a:cubicBezTo>
                  <a:pt x="4726" y="10170"/>
                  <a:pt x="4772" y="10000"/>
                  <a:pt x="4787" y="9823"/>
                </a:cubicBezTo>
              </a:path>
              <a:path w="919" h="621">
                <a:moveTo>
                  <a:pt x="5209" y="9971"/>
                </a:moveTo>
                <a:cubicBezTo>
                  <a:pt x="5161" y="9971"/>
                  <a:pt x="5068" y="9990"/>
                  <a:pt x="5035" y="10021"/>
                </a:cubicBezTo>
                <a:cubicBezTo>
                  <a:pt x="4922" y="10126"/>
                  <a:pt x="4912" y="10188"/>
                  <a:pt x="4936" y="10319"/>
                </a:cubicBezTo>
                <a:cubicBezTo>
                  <a:pt x="5089" y="10283"/>
                  <a:pt x="5319" y="10166"/>
                  <a:pt x="5085" y="10021"/>
                </a:cubicBezTo>
                <a:cubicBezTo>
                  <a:pt x="5052" y="10013"/>
                  <a:pt x="5019" y="10004"/>
                  <a:pt x="4986" y="99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95880" y="3276720"/>
            <a:ext cx="2928960" cy="465120"/>
          </a:xfrm>
          <a:custGeom>
            <a:avLst/>
            <a:gdLst/>
            <a:ahLst/>
            <a:rect l="l" t="t" r="r" b="b"/>
            <a:pathLst>
              <a:path w="8137" h="1291">
                <a:moveTo>
                  <a:pt x="12005" y="10071"/>
                </a:moveTo>
                <a:cubicBezTo>
                  <a:pt x="11988" y="10112"/>
                  <a:pt x="11844" y="10404"/>
                  <a:pt x="11981" y="10393"/>
                </a:cubicBezTo>
                <a:cubicBezTo>
                  <a:pt x="12030" y="10377"/>
                  <a:pt x="12080" y="10360"/>
                  <a:pt x="12129" y="10344"/>
                </a:cubicBezTo>
              </a:path>
              <a:path w="8137" h="1291">
                <a:moveTo>
                  <a:pt x="12005" y="9773"/>
                </a:moveTo>
                <a:cubicBezTo>
                  <a:pt x="11997" y="9773"/>
                  <a:pt x="11989" y="9773"/>
                  <a:pt x="11981" y="9773"/>
                </a:cubicBezTo>
              </a:path>
              <a:path w="8137" h="1291">
                <a:moveTo>
                  <a:pt x="11981" y="9773"/>
                </a:moveTo>
                <a:lnTo>
                  <a:pt x="11981" y="9773"/>
                </a:lnTo>
              </a:path>
              <a:path w="8137" h="1291">
                <a:moveTo>
                  <a:pt x="18008" y="9302"/>
                </a:moveTo>
                <a:cubicBezTo>
                  <a:pt x="18000" y="9302"/>
                  <a:pt x="17991" y="9302"/>
                  <a:pt x="17983" y="9302"/>
                </a:cubicBezTo>
              </a:path>
              <a:path w="8137" h="1291">
                <a:moveTo>
                  <a:pt x="19769" y="9103"/>
                </a:moveTo>
                <a:cubicBezTo>
                  <a:pt x="19755" y="9327"/>
                  <a:pt x="19776" y="9635"/>
                  <a:pt x="19695" y="9847"/>
                </a:cubicBezTo>
                <a:cubicBezTo>
                  <a:pt x="19678" y="9855"/>
                  <a:pt x="19662" y="9864"/>
                  <a:pt x="19645" y="9872"/>
                </a:cubicBezTo>
              </a:path>
              <a:path w="8137" h="1291">
                <a:moveTo>
                  <a:pt x="19422" y="9599"/>
                </a:moveTo>
                <a:cubicBezTo>
                  <a:pt x="19776" y="9554"/>
                  <a:pt x="19947" y="9585"/>
                  <a:pt x="20067" y="92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51160" y="3527280"/>
            <a:ext cx="1008000" cy="312840"/>
          </a:xfrm>
          <a:custGeom>
            <a:avLst/>
            <a:gdLst/>
            <a:ahLst/>
            <a:rect l="l" t="t" r="r" b="b"/>
            <a:pathLst>
              <a:path w="2804" h="869">
                <a:moveTo>
                  <a:pt x="9351" y="10294"/>
                </a:moveTo>
                <a:cubicBezTo>
                  <a:pt x="9374" y="10317"/>
                  <a:pt x="9378" y="10325"/>
                  <a:pt x="9401" y="10319"/>
                </a:cubicBezTo>
                <a:cubicBezTo>
                  <a:pt x="9401" y="10282"/>
                  <a:pt x="9421" y="10128"/>
                  <a:pt x="9351" y="10145"/>
                </a:cubicBezTo>
                <a:cubicBezTo>
                  <a:pt x="9080" y="10211"/>
                  <a:pt x="9031" y="10450"/>
                  <a:pt x="9079" y="10666"/>
                </a:cubicBezTo>
                <a:cubicBezTo>
                  <a:pt x="9250" y="10608"/>
                  <a:pt x="9315" y="10573"/>
                  <a:pt x="9376" y="10443"/>
                </a:cubicBezTo>
              </a:path>
              <a:path w="2804" h="869">
                <a:moveTo>
                  <a:pt x="9550" y="9798"/>
                </a:moveTo>
                <a:cubicBezTo>
                  <a:pt x="9526" y="10038"/>
                  <a:pt x="9236" y="10550"/>
                  <a:pt x="9475" y="10517"/>
                </a:cubicBezTo>
                <a:cubicBezTo>
                  <a:pt x="9500" y="10492"/>
                  <a:pt x="9525" y="10468"/>
                  <a:pt x="9550" y="10443"/>
                </a:cubicBezTo>
              </a:path>
              <a:path w="2804" h="869">
                <a:moveTo>
                  <a:pt x="9674" y="10244"/>
                </a:moveTo>
                <a:cubicBezTo>
                  <a:pt x="9725" y="10239"/>
                  <a:pt x="9878" y="10255"/>
                  <a:pt x="9897" y="10195"/>
                </a:cubicBezTo>
                <a:cubicBezTo>
                  <a:pt x="9897" y="10178"/>
                  <a:pt x="9897" y="10162"/>
                  <a:pt x="9897" y="10145"/>
                </a:cubicBezTo>
                <a:cubicBezTo>
                  <a:pt x="9655" y="10107"/>
                  <a:pt x="9630" y="10297"/>
                  <a:pt x="9525" y="10492"/>
                </a:cubicBezTo>
                <a:cubicBezTo>
                  <a:pt x="9761" y="10535"/>
                  <a:pt x="9836" y="10432"/>
                  <a:pt x="10071" y="10294"/>
                </a:cubicBezTo>
              </a:path>
              <a:path w="2804" h="869">
                <a:moveTo>
                  <a:pt x="10170" y="10170"/>
                </a:moveTo>
                <a:cubicBezTo>
                  <a:pt x="10153" y="10246"/>
                  <a:pt x="10134" y="10343"/>
                  <a:pt x="10120" y="10344"/>
                </a:cubicBezTo>
                <a:cubicBezTo>
                  <a:pt x="10164" y="10195"/>
                  <a:pt x="10186" y="10153"/>
                  <a:pt x="10294" y="10046"/>
                </a:cubicBezTo>
                <a:cubicBezTo>
                  <a:pt x="10407" y="10149"/>
                  <a:pt x="10267" y="10423"/>
                  <a:pt x="10418" y="10443"/>
                </a:cubicBezTo>
                <a:cubicBezTo>
                  <a:pt x="10443" y="10426"/>
                  <a:pt x="10467" y="10410"/>
                  <a:pt x="10492" y="10393"/>
                </a:cubicBezTo>
              </a:path>
              <a:path w="2804" h="869">
                <a:moveTo>
                  <a:pt x="10815" y="10046"/>
                </a:moveTo>
                <a:cubicBezTo>
                  <a:pt x="10707" y="10161"/>
                  <a:pt x="10666" y="10237"/>
                  <a:pt x="10616" y="10393"/>
                </a:cubicBezTo>
                <a:cubicBezTo>
                  <a:pt x="10687" y="10393"/>
                  <a:pt x="11110" y="10316"/>
                  <a:pt x="10939" y="10145"/>
                </a:cubicBezTo>
                <a:cubicBezTo>
                  <a:pt x="10839" y="10105"/>
                  <a:pt x="10821" y="10101"/>
                  <a:pt x="10765" y="10071"/>
                </a:cubicBezTo>
                <a:cubicBezTo>
                  <a:pt x="10843" y="10084"/>
                  <a:pt x="11033" y="10032"/>
                  <a:pt x="11088" y="10071"/>
                </a:cubicBezTo>
                <a:cubicBezTo>
                  <a:pt x="11186" y="10140"/>
                  <a:pt x="11112" y="10263"/>
                  <a:pt x="11088" y="10344"/>
                </a:cubicBezTo>
                <a:cubicBezTo>
                  <a:pt x="11114" y="10223"/>
                  <a:pt x="11132" y="10136"/>
                  <a:pt x="11237" y="10071"/>
                </a:cubicBezTo>
                <a:cubicBezTo>
                  <a:pt x="11378" y="9984"/>
                  <a:pt x="11404" y="10256"/>
                  <a:pt x="11410" y="10319"/>
                </a:cubicBezTo>
                <a:cubicBezTo>
                  <a:pt x="11443" y="10175"/>
                  <a:pt x="11505" y="10096"/>
                  <a:pt x="11633" y="10021"/>
                </a:cubicBezTo>
                <a:cubicBezTo>
                  <a:pt x="11681" y="10141"/>
                  <a:pt x="11554" y="10393"/>
                  <a:pt x="11683" y="10393"/>
                </a:cubicBezTo>
                <a:cubicBezTo>
                  <a:pt x="11733" y="10377"/>
                  <a:pt x="11782" y="10360"/>
                  <a:pt x="11832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11800" y="3446640"/>
            <a:ext cx="776160" cy="277560"/>
          </a:xfrm>
          <a:custGeom>
            <a:avLst/>
            <a:gdLst/>
            <a:ahLst/>
            <a:rect l="l" t="t" r="r" b="b"/>
            <a:pathLst>
              <a:path w="2159" h="770">
                <a:moveTo>
                  <a:pt x="12303" y="10170"/>
                </a:moveTo>
                <a:cubicBezTo>
                  <a:pt x="12277" y="10243"/>
                  <a:pt x="12241" y="10371"/>
                  <a:pt x="12254" y="10294"/>
                </a:cubicBezTo>
                <a:cubicBezTo>
                  <a:pt x="12265" y="10226"/>
                  <a:pt x="12330" y="9880"/>
                  <a:pt x="12477" y="10021"/>
                </a:cubicBezTo>
                <a:cubicBezTo>
                  <a:pt x="12505" y="10048"/>
                  <a:pt x="12673" y="10398"/>
                  <a:pt x="12576" y="10269"/>
                </a:cubicBezTo>
              </a:path>
              <a:path w="2159" h="770">
                <a:moveTo>
                  <a:pt x="12948" y="10120"/>
                </a:moveTo>
                <a:cubicBezTo>
                  <a:pt x="12956" y="10095"/>
                  <a:pt x="12965" y="10071"/>
                  <a:pt x="12973" y="10046"/>
                </a:cubicBezTo>
                <a:cubicBezTo>
                  <a:pt x="12862" y="9934"/>
                  <a:pt x="12693" y="10129"/>
                  <a:pt x="12700" y="10269"/>
                </a:cubicBezTo>
                <a:cubicBezTo>
                  <a:pt x="12712" y="10508"/>
                  <a:pt x="12989" y="10179"/>
                  <a:pt x="12998" y="10170"/>
                </a:cubicBezTo>
                <a:cubicBezTo>
                  <a:pt x="12998" y="10145"/>
                  <a:pt x="12998" y="10121"/>
                  <a:pt x="12998" y="10096"/>
                </a:cubicBezTo>
                <a:cubicBezTo>
                  <a:pt x="12922" y="10290"/>
                  <a:pt x="12985" y="10311"/>
                  <a:pt x="13171" y="10269"/>
                </a:cubicBezTo>
              </a:path>
              <a:path w="2159" h="770">
                <a:moveTo>
                  <a:pt x="13395" y="9575"/>
                </a:moveTo>
                <a:cubicBezTo>
                  <a:pt x="13395" y="9808"/>
                  <a:pt x="13382" y="10037"/>
                  <a:pt x="13370" y="10269"/>
                </a:cubicBezTo>
                <a:cubicBezTo>
                  <a:pt x="13489" y="10299"/>
                  <a:pt x="13525" y="10254"/>
                  <a:pt x="13643" y="10195"/>
                </a:cubicBezTo>
              </a:path>
              <a:path w="2159" h="770">
                <a:moveTo>
                  <a:pt x="13196" y="10021"/>
                </a:moveTo>
                <a:cubicBezTo>
                  <a:pt x="13395" y="9984"/>
                  <a:pt x="13592" y="9956"/>
                  <a:pt x="13791" y="9922"/>
                </a:cubicBezTo>
                <a:cubicBezTo>
                  <a:pt x="13767" y="9994"/>
                  <a:pt x="13565" y="10202"/>
                  <a:pt x="13618" y="10269"/>
                </a:cubicBezTo>
                <a:cubicBezTo>
                  <a:pt x="13717" y="10395"/>
                  <a:pt x="14156" y="10226"/>
                  <a:pt x="13990" y="10021"/>
                </a:cubicBezTo>
                <a:cubicBezTo>
                  <a:pt x="13901" y="9976"/>
                  <a:pt x="13878" y="9962"/>
                  <a:pt x="13816" y="9947"/>
                </a:cubicBezTo>
              </a:path>
              <a:path w="2159" h="770">
                <a:moveTo>
                  <a:pt x="14163" y="10120"/>
                </a:moveTo>
                <a:cubicBezTo>
                  <a:pt x="14163" y="10160"/>
                  <a:pt x="14233" y="9956"/>
                  <a:pt x="14263" y="9922"/>
                </a:cubicBezTo>
                <a:cubicBezTo>
                  <a:pt x="14348" y="9858"/>
                  <a:pt x="14368" y="9846"/>
                  <a:pt x="14412" y="97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19800" y="3367080"/>
            <a:ext cx="1492200" cy="312840"/>
          </a:xfrm>
          <a:custGeom>
            <a:avLst/>
            <a:gdLst/>
            <a:ahLst/>
            <a:rect l="l" t="t" r="r" b="b"/>
            <a:pathLst>
              <a:path w="4144" h="870">
                <a:moveTo>
                  <a:pt x="15453" y="9922"/>
                </a:moveTo>
                <a:cubicBezTo>
                  <a:pt x="15429" y="9797"/>
                  <a:pt x="15339" y="9713"/>
                  <a:pt x="15205" y="9823"/>
                </a:cubicBezTo>
                <a:cubicBezTo>
                  <a:pt x="15088" y="9986"/>
                  <a:pt x="15049" y="10031"/>
                  <a:pt x="15056" y="10170"/>
                </a:cubicBezTo>
                <a:cubicBezTo>
                  <a:pt x="15334" y="10210"/>
                  <a:pt x="15278" y="10171"/>
                  <a:pt x="15453" y="9922"/>
                </a:cubicBezTo>
              </a:path>
              <a:path w="4144" h="870">
                <a:moveTo>
                  <a:pt x="15503" y="9500"/>
                </a:moveTo>
                <a:cubicBezTo>
                  <a:pt x="15525" y="9708"/>
                  <a:pt x="15550" y="9919"/>
                  <a:pt x="15503" y="10120"/>
                </a:cubicBezTo>
              </a:path>
              <a:path w="4144" h="870">
                <a:moveTo>
                  <a:pt x="15801" y="9847"/>
                </a:moveTo>
                <a:cubicBezTo>
                  <a:pt x="15886" y="9831"/>
                  <a:pt x="15933" y="9849"/>
                  <a:pt x="15949" y="9798"/>
                </a:cubicBezTo>
                <a:cubicBezTo>
                  <a:pt x="15813" y="9722"/>
                  <a:pt x="15677" y="9881"/>
                  <a:pt x="15751" y="10046"/>
                </a:cubicBezTo>
                <a:cubicBezTo>
                  <a:pt x="15855" y="10279"/>
                  <a:pt x="16183" y="9940"/>
                  <a:pt x="16247" y="9897"/>
                </a:cubicBezTo>
              </a:path>
              <a:path w="4144" h="870">
                <a:moveTo>
                  <a:pt x="16421" y="9351"/>
                </a:moveTo>
                <a:cubicBezTo>
                  <a:pt x="16395" y="9599"/>
                  <a:pt x="16377" y="9824"/>
                  <a:pt x="16396" y="10071"/>
                </a:cubicBezTo>
              </a:path>
              <a:path w="4144" h="870">
                <a:moveTo>
                  <a:pt x="16173" y="9773"/>
                </a:moveTo>
                <a:cubicBezTo>
                  <a:pt x="16331" y="9766"/>
                  <a:pt x="16486" y="9748"/>
                  <a:pt x="16644" y="9748"/>
                </a:cubicBezTo>
                <a:cubicBezTo>
                  <a:pt x="16719" y="9748"/>
                  <a:pt x="16713" y="9678"/>
                  <a:pt x="16718" y="9624"/>
                </a:cubicBezTo>
                <a:cubicBezTo>
                  <a:pt x="16599" y="9607"/>
                  <a:pt x="16417" y="9790"/>
                  <a:pt x="16470" y="9947"/>
                </a:cubicBezTo>
                <a:cubicBezTo>
                  <a:pt x="16547" y="10174"/>
                  <a:pt x="16819" y="9941"/>
                  <a:pt x="16892" y="9897"/>
                </a:cubicBezTo>
              </a:path>
              <a:path w="4144" h="870">
                <a:moveTo>
                  <a:pt x="16917" y="9798"/>
                </a:moveTo>
                <a:cubicBezTo>
                  <a:pt x="16897" y="9897"/>
                  <a:pt x="16889" y="9912"/>
                  <a:pt x="16892" y="9971"/>
                </a:cubicBezTo>
                <a:cubicBezTo>
                  <a:pt x="16917" y="9844"/>
                  <a:pt x="16965" y="9647"/>
                  <a:pt x="17115" y="9599"/>
                </a:cubicBezTo>
                <a:cubicBezTo>
                  <a:pt x="17140" y="9599"/>
                  <a:pt x="17165" y="9599"/>
                  <a:pt x="17190" y="9599"/>
                </a:cubicBezTo>
              </a:path>
              <a:path w="4144" h="870">
                <a:moveTo>
                  <a:pt x="17363" y="9773"/>
                </a:moveTo>
                <a:cubicBezTo>
                  <a:pt x="17342" y="9898"/>
                  <a:pt x="17341" y="9924"/>
                  <a:pt x="17314" y="9996"/>
                </a:cubicBezTo>
                <a:cubicBezTo>
                  <a:pt x="17322" y="9947"/>
                  <a:pt x="17377" y="9592"/>
                  <a:pt x="17487" y="9624"/>
                </a:cubicBezTo>
                <a:cubicBezTo>
                  <a:pt x="17629" y="9665"/>
                  <a:pt x="17623" y="9862"/>
                  <a:pt x="17636" y="9971"/>
                </a:cubicBezTo>
                <a:cubicBezTo>
                  <a:pt x="17566" y="9856"/>
                  <a:pt x="17635" y="9731"/>
                  <a:pt x="17735" y="9649"/>
                </a:cubicBezTo>
                <a:cubicBezTo>
                  <a:pt x="17760" y="9641"/>
                  <a:pt x="17785" y="9632"/>
                  <a:pt x="17810" y="9624"/>
                </a:cubicBezTo>
                <a:cubicBezTo>
                  <a:pt x="17854" y="9720"/>
                  <a:pt x="17868" y="9892"/>
                  <a:pt x="17909" y="9947"/>
                </a:cubicBezTo>
              </a:path>
              <a:path w="4144" h="870">
                <a:moveTo>
                  <a:pt x="18083" y="9699"/>
                </a:moveTo>
                <a:cubicBezTo>
                  <a:pt x="18088" y="9800"/>
                  <a:pt x="18087" y="10073"/>
                  <a:pt x="18281" y="9947"/>
                </a:cubicBezTo>
                <a:cubicBezTo>
                  <a:pt x="18398" y="9871"/>
                  <a:pt x="18424" y="9796"/>
                  <a:pt x="18455" y="9674"/>
                </a:cubicBezTo>
                <a:cubicBezTo>
                  <a:pt x="18442" y="9777"/>
                  <a:pt x="18419" y="9829"/>
                  <a:pt x="18380" y="9922"/>
                </a:cubicBezTo>
                <a:cubicBezTo>
                  <a:pt x="18393" y="9802"/>
                  <a:pt x="18424" y="9628"/>
                  <a:pt x="18529" y="9550"/>
                </a:cubicBezTo>
                <a:cubicBezTo>
                  <a:pt x="18713" y="9413"/>
                  <a:pt x="18720" y="9806"/>
                  <a:pt x="18703" y="9897"/>
                </a:cubicBezTo>
                <a:cubicBezTo>
                  <a:pt x="18651" y="9897"/>
                  <a:pt x="18662" y="9878"/>
                  <a:pt x="18752" y="9823"/>
                </a:cubicBezTo>
              </a:path>
              <a:path w="4144" h="870">
                <a:moveTo>
                  <a:pt x="19075" y="9451"/>
                </a:moveTo>
                <a:cubicBezTo>
                  <a:pt x="19014" y="9471"/>
                  <a:pt x="18999" y="9468"/>
                  <a:pt x="18976" y="9500"/>
                </a:cubicBezTo>
                <a:cubicBezTo>
                  <a:pt x="18990" y="9544"/>
                  <a:pt x="19050" y="9522"/>
                  <a:pt x="19100" y="9575"/>
                </a:cubicBezTo>
                <a:cubicBezTo>
                  <a:pt x="19178" y="9657"/>
                  <a:pt x="19278" y="9879"/>
                  <a:pt x="19100" y="9922"/>
                </a:cubicBezTo>
                <a:cubicBezTo>
                  <a:pt x="19024" y="9940"/>
                  <a:pt x="18960" y="9843"/>
                  <a:pt x="18926" y="9798"/>
                </a:cubicBezTo>
              </a:path>
              <a:path w="4144" h="870">
                <a:moveTo>
                  <a:pt x="18802" y="9674"/>
                </a:moveTo>
                <a:cubicBezTo>
                  <a:pt x="18875" y="9643"/>
                  <a:pt x="18859" y="9662"/>
                  <a:pt x="18901" y="9599"/>
                </a:cubicBezTo>
                <a:cubicBezTo>
                  <a:pt x="18814" y="9514"/>
                  <a:pt x="18748" y="9678"/>
                  <a:pt x="18777" y="9773"/>
                </a:cubicBezTo>
                <a:cubicBezTo>
                  <a:pt x="18814" y="9892"/>
                  <a:pt x="19001" y="9873"/>
                  <a:pt x="19000" y="97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97840" y="3276720"/>
            <a:ext cx="303120" cy="241200"/>
          </a:xfrm>
          <a:custGeom>
            <a:avLst/>
            <a:gdLst/>
            <a:ahLst/>
            <a:rect l="l" t="t" r="r" b="b"/>
            <a:pathLst>
              <a:path w="844" h="671">
                <a:moveTo>
                  <a:pt x="19993" y="9103"/>
                </a:moveTo>
                <a:cubicBezTo>
                  <a:pt x="20014" y="9319"/>
                  <a:pt x="20017" y="9531"/>
                  <a:pt x="20017" y="9748"/>
                </a:cubicBezTo>
                <a:cubicBezTo>
                  <a:pt x="20017" y="9756"/>
                  <a:pt x="20017" y="9765"/>
                  <a:pt x="20017" y="9773"/>
                </a:cubicBezTo>
                <a:cubicBezTo>
                  <a:pt x="20029" y="9694"/>
                  <a:pt x="20061" y="9319"/>
                  <a:pt x="20191" y="9327"/>
                </a:cubicBezTo>
                <a:cubicBezTo>
                  <a:pt x="20349" y="9337"/>
                  <a:pt x="20365" y="9589"/>
                  <a:pt x="20365" y="9699"/>
                </a:cubicBezTo>
              </a:path>
              <a:path w="844" h="671">
                <a:moveTo>
                  <a:pt x="20588" y="9426"/>
                </a:moveTo>
                <a:cubicBezTo>
                  <a:pt x="20678" y="9353"/>
                  <a:pt x="20728" y="9328"/>
                  <a:pt x="20762" y="9227"/>
                </a:cubicBezTo>
                <a:cubicBezTo>
                  <a:pt x="20530" y="9332"/>
                  <a:pt x="20433" y="9414"/>
                  <a:pt x="20588" y="9624"/>
                </a:cubicBezTo>
                <a:cubicBezTo>
                  <a:pt x="20718" y="9598"/>
                  <a:pt x="20764" y="9586"/>
                  <a:pt x="20836" y="9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06920" y="3714840"/>
            <a:ext cx="2859120" cy="285840"/>
          </a:xfrm>
          <a:custGeom>
            <a:avLst/>
            <a:gdLst/>
            <a:ahLst/>
            <a:rect l="l" t="t" r="r" b="b"/>
            <a:pathLst>
              <a:path w="7939" h="794">
                <a:moveTo>
                  <a:pt x="12799" y="11112"/>
                </a:moveTo>
                <a:cubicBezTo>
                  <a:pt x="12996" y="11063"/>
                  <a:pt x="13061" y="11047"/>
                  <a:pt x="13196" y="11038"/>
                </a:cubicBezTo>
              </a:path>
              <a:path w="7939" h="794">
                <a:moveTo>
                  <a:pt x="13196" y="11038"/>
                </a:moveTo>
                <a:lnTo>
                  <a:pt x="13196" y="11038"/>
                </a:lnTo>
              </a:path>
              <a:path w="7939" h="794">
                <a:moveTo>
                  <a:pt x="15701" y="10542"/>
                </a:moveTo>
                <a:cubicBezTo>
                  <a:pt x="15680" y="10717"/>
                  <a:pt x="15660" y="10888"/>
                  <a:pt x="15652" y="11063"/>
                </a:cubicBezTo>
              </a:path>
              <a:path w="7939" h="794">
                <a:moveTo>
                  <a:pt x="17066" y="10616"/>
                </a:moveTo>
                <a:cubicBezTo>
                  <a:pt x="17020" y="10743"/>
                  <a:pt x="16994" y="10860"/>
                  <a:pt x="17016" y="10988"/>
                </a:cubicBezTo>
                <a:cubicBezTo>
                  <a:pt x="17175" y="10988"/>
                  <a:pt x="17239" y="10962"/>
                  <a:pt x="17289" y="10815"/>
                </a:cubicBezTo>
              </a:path>
              <a:path w="7939" h="794">
                <a:moveTo>
                  <a:pt x="17090" y="10393"/>
                </a:moveTo>
                <a:cubicBezTo>
                  <a:pt x="17148" y="10410"/>
                  <a:pt x="17206" y="10426"/>
                  <a:pt x="17264" y="10443"/>
                </a:cubicBezTo>
              </a:path>
              <a:path w="7939" h="794">
                <a:moveTo>
                  <a:pt x="17264" y="10443"/>
                </a:moveTo>
                <a:lnTo>
                  <a:pt x="17264" y="10443"/>
                </a:lnTo>
              </a:path>
              <a:path w="7939" h="794">
                <a:moveTo>
                  <a:pt x="20513" y="10443"/>
                </a:moveTo>
                <a:cubicBezTo>
                  <a:pt x="20470" y="10575"/>
                  <a:pt x="20449" y="10607"/>
                  <a:pt x="20489" y="10691"/>
                </a:cubicBezTo>
                <a:cubicBezTo>
                  <a:pt x="20660" y="10691"/>
                  <a:pt x="20844" y="10613"/>
                  <a:pt x="20687" y="10393"/>
                </a:cubicBezTo>
                <a:cubicBezTo>
                  <a:pt x="20654" y="10368"/>
                  <a:pt x="20621" y="10344"/>
                  <a:pt x="20588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340080" y="3938760"/>
            <a:ext cx="990720" cy="303120"/>
          </a:xfrm>
          <a:custGeom>
            <a:avLst/>
            <a:gdLst/>
            <a:ahLst/>
            <a:rect l="l" t="t" r="r" b="b"/>
            <a:pathLst>
              <a:path w="2754" h="844">
                <a:moveTo>
                  <a:pt x="9351" y="11187"/>
                </a:moveTo>
                <a:cubicBezTo>
                  <a:pt x="9329" y="11368"/>
                  <a:pt x="9295" y="11551"/>
                  <a:pt x="9277" y="11733"/>
                </a:cubicBezTo>
                <a:cubicBezTo>
                  <a:pt x="9277" y="11782"/>
                  <a:pt x="9277" y="11798"/>
                  <a:pt x="9277" y="11733"/>
                </a:cubicBezTo>
                <a:cubicBezTo>
                  <a:pt x="9321" y="11512"/>
                  <a:pt x="9331" y="11393"/>
                  <a:pt x="9500" y="11237"/>
                </a:cubicBezTo>
                <a:cubicBezTo>
                  <a:pt x="9580" y="11375"/>
                  <a:pt x="9624" y="11842"/>
                  <a:pt x="9624" y="11683"/>
                </a:cubicBezTo>
                <a:cubicBezTo>
                  <a:pt x="9624" y="11658"/>
                  <a:pt x="9624" y="11634"/>
                  <a:pt x="9624" y="11609"/>
                </a:cubicBezTo>
              </a:path>
              <a:path w="2754" h="844">
                <a:moveTo>
                  <a:pt x="9748" y="11361"/>
                </a:moveTo>
                <a:cubicBezTo>
                  <a:pt x="9754" y="11527"/>
                  <a:pt x="9726" y="11598"/>
                  <a:pt x="9823" y="11708"/>
                </a:cubicBezTo>
                <a:cubicBezTo>
                  <a:pt x="9924" y="11587"/>
                  <a:pt x="10050" y="11415"/>
                  <a:pt x="9996" y="11336"/>
                </a:cubicBezTo>
                <a:cubicBezTo>
                  <a:pt x="10022" y="11585"/>
                  <a:pt x="10011" y="11714"/>
                  <a:pt x="10220" y="11534"/>
                </a:cubicBezTo>
              </a:path>
              <a:path w="2754" h="844">
                <a:moveTo>
                  <a:pt x="10294" y="11385"/>
                </a:moveTo>
                <a:cubicBezTo>
                  <a:pt x="10274" y="11525"/>
                  <a:pt x="10265" y="11549"/>
                  <a:pt x="10269" y="11633"/>
                </a:cubicBezTo>
                <a:cubicBezTo>
                  <a:pt x="10278" y="11586"/>
                  <a:pt x="10384" y="11172"/>
                  <a:pt x="10443" y="11212"/>
                </a:cubicBezTo>
                <a:cubicBezTo>
                  <a:pt x="10510" y="11257"/>
                  <a:pt x="10520" y="11511"/>
                  <a:pt x="10542" y="11584"/>
                </a:cubicBezTo>
                <a:cubicBezTo>
                  <a:pt x="10542" y="11416"/>
                  <a:pt x="10561" y="11366"/>
                  <a:pt x="10616" y="11212"/>
                </a:cubicBezTo>
                <a:cubicBezTo>
                  <a:pt x="10697" y="11347"/>
                  <a:pt x="10698" y="11454"/>
                  <a:pt x="10740" y="11584"/>
                </a:cubicBezTo>
              </a:path>
              <a:path w="2754" h="844">
                <a:moveTo>
                  <a:pt x="10988" y="10939"/>
                </a:moveTo>
                <a:cubicBezTo>
                  <a:pt x="10988" y="11162"/>
                  <a:pt x="10988" y="11386"/>
                  <a:pt x="10988" y="11609"/>
                </a:cubicBezTo>
                <a:cubicBezTo>
                  <a:pt x="11015" y="11393"/>
                  <a:pt x="11059" y="11296"/>
                  <a:pt x="11187" y="11137"/>
                </a:cubicBezTo>
                <a:cubicBezTo>
                  <a:pt x="11231" y="11251"/>
                  <a:pt x="11400" y="11725"/>
                  <a:pt x="11063" y="11633"/>
                </a:cubicBezTo>
                <a:cubicBezTo>
                  <a:pt x="11022" y="11600"/>
                  <a:pt x="10980" y="11567"/>
                  <a:pt x="10939" y="11534"/>
                </a:cubicBezTo>
              </a:path>
              <a:path w="2754" h="844">
                <a:moveTo>
                  <a:pt x="11385" y="11336"/>
                </a:moveTo>
                <a:cubicBezTo>
                  <a:pt x="11463" y="11233"/>
                  <a:pt x="11492" y="11196"/>
                  <a:pt x="11559" y="11137"/>
                </a:cubicBezTo>
                <a:cubicBezTo>
                  <a:pt x="11465" y="10980"/>
                  <a:pt x="11367" y="11380"/>
                  <a:pt x="11361" y="11460"/>
                </a:cubicBezTo>
                <a:cubicBezTo>
                  <a:pt x="11334" y="11827"/>
                  <a:pt x="11643" y="11354"/>
                  <a:pt x="11683" y="11286"/>
                </a:cubicBezTo>
                <a:cubicBezTo>
                  <a:pt x="11700" y="11320"/>
                  <a:pt x="11708" y="11457"/>
                  <a:pt x="11708" y="11410"/>
                </a:cubicBezTo>
                <a:cubicBezTo>
                  <a:pt x="11778" y="11175"/>
                  <a:pt x="11831" y="11122"/>
                  <a:pt x="12030" y="110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00720" y="3884760"/>
            <a:ext cx="250560" cy="250560"/>
          </a:xfrm>
          <a:custGeom>
            <a:avLst/>
            <a:gdLst/>
            <a:ahLst/>
            <a:rect l="l" t="t" r="r" b="b"/>
            <a:pathLst>
              <a:path w="695" h="696">
                <a:moveTo>
                  <a:pt x="12725" y="11013"/>
                </a:moveTo>
                <a:cubicBezTo>
                  <a:pt x="12553" y="11185"/>
                  <a:pt x="12490" y="11287"/>
                  <a:pt x="12576" y="11485"/>
                </a:cubicBezTo>
                <a:cubicBezTo>
                  <a:pt x="12837" y="11342"/>
                  <a:pt x="12848" y="11297"/>
                  <a:pt x="12725" y="11038"/>
                </a:cubicBezTo>
                <a:cubicBezTo>
                  <a:pt x="12725" y="11030"/>
                  <a:pt x="12725" y="11021"/>
                  <a:pt x="12725" y="11013"/>
                </a:cubicBezTo>
              </a:path>
              <a:path w="695" h="696">
                <a:moveTo>
                  <a:pt x="13196" y="10790"/>
                </a:moveTo>
                <a:cubicBezTo>
                  <a:pt x="12961" y="10853"/>
                  <a:pt x="13013" y="10985"/>
                  <a:pt x="13022" y="11212"/>
                </a:cubicBezTo>
                <a:cubicBezTo>
                  <a:pt x="13022" y="11306"/>
                  <a:pt x="13043" y="11326"/>
                  <a:pt x="12998" y="113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72040" y="3840120"/>
            <a:ext cx="758880" cy="419040"/>
          </a:xfrm>
          <a:custGeom>
            <a:avLst/>
            <a:gdLst/>
            <a:ahLst/>
            <a:rect l="l" t="t" r="r" b="b"/>
            <a:pathLst>
              <a:path w="2109" h="1167">
                <a:moveTo>
                  <a:pt x="14238" y="11162"/>
                </a:moveTo>
                <a:cubicBezTo>
                  <a:pt x="14238" y="11380"/>
                  <a:pt x="14238" y="11591"/>
                  <a:pt x="14213" y="11807"/>
                </a:cubicBezTo>
                <a:cubicBezTo>
                  <a:pt x="14096" y="11692"/>
                  <a:pt x="14190" y="11212"/>
                  <a:pt x="14288" y="11013"/>
                </a:cubicBezTo>
                <a:cubicBezTo>
                  <a:pt x="14329" y="10972"/>
                  <a:pt x="14371" y="10930"/>
                  <a:pt x="14412" y="10889"/>
                </a:cubicBezTo>
                <a:cubicBezTo>
                  <a:pt x="14481" y="11052"/>
                  <a:pt x="14587" y="11474"/>
                  <a:pt x="14213" y="11361"/>
                </a:cubicBezTo>
                <a:cubicBezTo>
                  <a:pt x="14085" y="11258"/>
                  <a:pt x="14044" y="11219"/>
                  <a:pt x="14114" y="11088"/>
                </a:cubicBezTo>
              </a:path>
              <a:path w="2109" h="1167">
                <a:moveTo>
                  <a:pt x="14908" y="10840"/>
                </a:moveTo>
                <a:cubicBezTo>
                  <a:pt x="14765" y="10882"/>
                  <a:pt x="14555" y="11051"/>
                  <a:pt x="14635" y="11237"/>
                </a:cubicBezTo>
                <a:cubicBezTo>
                  <a:pt x="14728" y="11454"/>
                  <a:pt x="14913" y="11068"/>
                  <a:pt x="14932" y="11038"/>
                </a:cubicBezTo>
                <a:cubicBezTo>
                  <a:pt x="14853" y="10877"/>
                  <a:pt x="14936" y="11250"/>
                  <a:pt x="15106" y="11137"/>
                </a:cubicBezTo>
                <a:cubicBezTo>
                  <a:pt x="15232" y="11053"/>
                  <a:pt x="15180" y="10777"/>
                  <a:pt x="15180" y="11088"/>
                </a:cubicBezTo>
                <a:cubicBezTo>
                  <a:pt x="15180" y="11096"/>
                  <a:pt x="15180" y="11104"/>
                  <a:pt x="15180" y="11112"/>
                </a:cubicBezTo>
                <a:cubicBezTo>
                  <a:pt x="15233" y="10929"/>
                  <a:pt x="15239" y="10853"/>
                  <a:pt x="15404" y="10765"/>
                </a:cubicBezTo>
              </a:path>
              <a:path w="2109" h="1167">
                <a:moveTo>
                  <a:pt x="15528" y="10790"/>
                </a:moveTo>
                <a:cubicBezTo>
                  <a:pt x="15716" y="10733"/>
                  <a:pt x="15878" y="10685"/>
                  <a:pt x="16073" y="10666"/>
                </a:cubicBezTo>
                <a:cubicBezTo>
                  <a:pt x="16058" y="10670"/>
                  <a:pt x="15864" y="10744"/>
                  <a:pt x="15949" y="10765"/>
                </a:cubicBezTo>
                <a:cubicBezTo>
                  <a:pt x="16094" y="10786"/>
                  <a:pt x="16129" y="10778"/>
                  <a:pt x="16197" y="10840"/>
                </a:cubicBezTo>
                <a:cubicBezTo>
                  <a:pt x="16119" y="10994"/>
                  <a:pt x="16029" y="10953"/>
                  <a:pt x="15875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49960" y="3821040"/>
            <a:ext cx="108000" cy="108000"/>
          </a:xfrm>
          <a:custGeom>
            <a:avLst/>
            <a:gdLst/>
            <a:ahLst/>
            <a:rect l="l" t="t" r="r" b="b"/>
            <a:pathLst>
              <a:path w="299" h="299">
                <a:moveTo>
                  <a:pt x="17388" y="10716"/>
                </a:moveTo>
                <a:cubicBezTo>
                  <a:pt x="17375" y="10798"/>
                  <a:pt x="17339" y="10944"/>
                  <a:pt x="17363" y="10864"/>
                </a:cubicBezTo>
                <a:cubicBezTo>
                  <a:pt x="17410" y="10726"/>
                  <a:pt x="17420" y="10685"/>
                  <a:pt x="17487" y="10616"/>
                </a:cubicBezTo>
                <a:cubicBezTo>
                  <a:pt x="17560" y="10697"/>
                  <a:pt x="17590" y="10843"/>
                  <a:pt x="17661" y="109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54880" y="3803760"/>
            <a:ext cx="187200" cy="117360"/>
          </a:xfrm>
          <a:custGeom>
            <a:avLst/>
            <a:gdLst/>
            <a:ahLst/>
            <a:rect l="l" t="t" r="r" b="b"/>
            <a:pathLst>
              <a:path w="522" h="323">
                <a:moveTo>
                  <a:pt x="18479" y="10616"/>
                </a:moveTo>
                <a:cubicBezTo>
                  <a:pt x="18449" y="10494"/>
                  <a:pt x="18274" y="10744"/>
                  <a:pt x="18256" y="10765"/>
                </a:cubicBezTo>
                <a:cubicBezTo>
                  <a:pt x="18240" y="10790"/>
                  <a:pt x="18223" y="10815"/>
                  <a:pt x="18207" y="10840"/>
                </a:cubicBezTo>
                <a:cubicBezTo>
                  <a:pt x="18344" y="10902"/>
                  <a:pt x="18406" y="10866"/>
                  <a:pt x="18504" y="10740"/>
                </a:cubicBezTo>
                <a:cubicBezTo>
                  <a:pt x="18575" y="10835"/>
                  <a:pt x="18594" y="10825"/>
                  <a:pt x="18728" y="108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973920" y="3633840"/>
            <a:ext cx="366840" cy="241200"/>
          </a:xfrm>
          <a:custGeom>
            <a:avLst/>
            <a:gdLst/>
            <a:ahLst/>
            <a:rect l="l" t="t" r="r" b="b"/>
            <a:pathLst>
              <a:path w="1018" h="670">
                <a:moveTo>
                  <a:pt x="19397" y="10393"/>
                </a:moveTo>
                <a:cubicBezTo>
                  <a:pt x="19397" y="10520"/>
                  <a:pt x="19377" y="10649"/>
                  <a:pt x="19397" y="10765"/>
                </a:cubicBezTo>
                <a:cubicBezTo>
                  <a:pt x="19549" y="10689"/>
                  <a:pt x="19584" y="10630"/>
                  <a:pt x="19670" y="10492"/>
                </a:cubicBezTo>
                <a:cubicBezTo>
                  <a:pt x="19676" y="10596"/>
                  <a:pt x="19703" y="10894"/>
                  <a:pt x="19893" y="10691"/>
                </a:cubicBezTo>
                <a:cubicBezTo>
                  <a:pt x="20003" y="10574"/>
                  <a:pt x="19930" y="10424"/>
                  <a:pt x="19819" y="10368"/>
                </a:cubicBezTo>
              </a:path>
              <a:path w="1018" h="670">
                <a:moveTo>
                  <a:pt x="20067" y="10096"/>
                </a:moveTo>
                <a:cubicBezTo>
                  <a:pt x="20067" y="10322"/>
                  <a:pt x="20069" y="10541"/>
                  <a:pt x="20092" y="10765"/>
                </a:cubicBezTo>
                <a:cubicBezTo>
                  <a:pt x="20104" y="10734"/>
                  <a:pt x="20214" y="10391"/>
                  <a:pt x="20241" y="10418"/>
                </a:cubicBezTo>
                <a:cubicBezTo>
                  <a:pt x="20323" y="10501"/>
                  <a:pt x="20346" y="10637"/>
                  <a:pt x="20389" y="107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18240" y="3633840"/>
            <a:ext cx="152640" cy="206280"/>
          </a:xfrm>
          <a:custGeom>
            <a:avLst/>
            <a:gdLst/>
            <a:ahLst/>
            <a:rect l="l" t="t" r="r" b="b"/>
            <a:pathLst>
              <a:path w="422" h="571">
                <a:moveTo>
                  <a:pt x="20910" y="10096"/>
                </a:moveTo>
                <a:cubicBezTo>
                  <a:pt x="20906" y="10259"/>
                  <a:pt x="20839" y="10609"/>
                  <a:pt x="20935" y="10641"/>
                </a:cubicBezTo>
              </a:path>
              <a:path w="422" h="571">
                <a:moveTo>
                  <a:pt x="21084" y="10393"/>
                </a:moveTo>
                <a:cubicBezTo>
                  <a:pt x="21159" y="10362"/>
                  <a:pt x="21268" y="10322"/>
                  <a:pt x="21307" y="10269"/>
                </a:cubicBezTo>
                <a:cubicBezTo>
                  <a:pt x="21201" y="10280"/>
                  <a:pt x="20945" y="10379"/>
                  <a:pt x="21059" y="10542"/>
                </a:cubicBezTo>
                <a:cubicBezTo>
                  <a:pt x="21180" y="10591"/>
                  <a:pt x="21218" y="10607"/>
                  <a:pt x="21307" y="105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57760" y="4500720"/>
            <a:ext cx="98280" cy="9360"/>
          </a:xfrm>
          <a:custGeom>
            <a:avLst/>
            <a:gdLst/>
            <a:ahLst/>
            <a:rect l="l" t="t" r="r" b="b"/>
            <a:pathLst>
              <a:path w="273" h="25">
                <a:moveTo>
                  <a:pt x="10716" y="12502"/>
                </a:moveTo>
                <a:lnTo>
                  <a:pt x="10716" y="12502"/>
                </a:lnTo>
              </a:path>
              <a:path w="273" h="25">
                <a:moveTo>
                  <a:pt x="10988" y="12526"/>
                </a:moveTo>
                <a:lnTo>
                  <a:pt x="10988" y="1252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4375080"/>
            <a:ext cx="420480" cy="189000"/>
          </a:xfrm>
          <a:custGeom>
            <a:avLst/>
            <a:gdLst/>
            <a:ahLst/>
            <a:rect l="l" t="t" r="r" b="b"/>
            <a:pathLst>
              <a:path w="1167" h="522">
                <a:moveTo>
                  <a:pt x="9401" y="12154"/>
                </a:moveTo>
                <a:cubicBezTo>
                  <a:pt x="9353" y="12235"/>
                  <a:pt x="9233" y="12306"/>
                  <a:pt x="9153" y="12378"/>
                </a:cubicBezTo>
                <a:cubicBezTo>
                  <a:pt x="9239" y="12388"/>
                  <a:pt x="9458" y="12420"/>
                  <a:pt x="9475" y="12526"/>
                </a:cubicBezTo>
                <a:cubicBezTo>
                  <a:pt x="9503" y="12699"/>
                  <a:pt x="9103" y="12731"/>
                  <a:pt x="9103" y="12626"/>
                </a:cubicBezTo>
                <a:cubicBezTo>
                  <a:pt x="9128" y="12593"/>
                  <a:pt x="9153" y="12559"/>
                  <a:pt x="9178" y="12526"/>
                </a:cubicBezTo>
              </a:path>
              <a:path w="1167" h="522">
                <a:moveTo>
                  <a:pt x="9699" y="12303"/>
                </a:moveTo>
                <a:cubicBezTo>
                  <a:pt x="9581" y="12420"/>
                  <a:pt x="9552" y="12461"/>
                  <a:pt x="9525" y="12626"/>
                </a:cubicBezTo>
                <a:cubicBezTo>
                  <a:pt x="9649" y="12637"/>
                  <a:pt x="10124" y="12616"/>
                  <a:pt x="9847" y="12378"/>
                </a:cubicBezTo>
                <a:cubicBezTo>
                  <a:pt x="9798" y="12361"/>
                  <a:pt x="9748" y="12345"/>
                  <a:pt x="9699" y="12328"/>
                </a:cubicBezTo>
              </a:path>
              <a:path w="1167" h="522">
                <a:moveTo>
                  <a:pt x="10220" y="12601"/>
                </a:moveTo>
                <a:cubicBezTo>
                  <a:pt x="10244" y="12601"/>
                  <a:pt x="10253" y="12601"/>
                  <a:pt x="10269" y="126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79960" y="4303800"/>
            <a:ext cx="571320" cy="696960"/>
          </a:xfrm>
          <a:custGeom>
            <a:avLst/>
            <a:gdLst/>
            <a:ahLst/>
            <a:rect l="l" t="t" r="r" b="b"/>
            <a:pathLst>
              <a:path w="1588" h="1936">
                <a:moveTo>
                  <a:pt x="12254" y="12154"/>
                </a:moveTo>
                <a:cubicBezTo>
                  <a:pt x="12278" y="12253"/>
                  <a:pt x="12228" y="12343"/>
                  <a:pt x="12204" y="12452"/>
                </a:cubicBezTo>
                <a:cubicBezTo>
                  <a:pt x="12185" y="12540"/>
                  <a:pt x="12507" y="12388"/>
                  <a:pt x="12526" y="12378"/>
                </a:cubicBezTo>
              </a:path>
              <a:path w="1588" h="1936">
                <a:moveTo>
                  <a:pt x="12502" y="11956"/>
                </a:moveTo>
                <a:cubicBezTo>
                  <a:pt x="12479" y="12203"/>
                  <a:pt x="12463" y="12452"/>
                  <a:pt x="12452" y="12700"/>
                </a:cubicBezTo>
                <a:cubicBezTo>
                  <a:pt x="12452" y="12708"/>
                  <a:pt x="12452" y="12717"/>
                  <a:pt x="12452" y="12725"/>
                </a:cubicBezTo>
              </a:path>
              <a:path w="1588" h="1936">
                <a:moveTo>
                  <a:pt x="11609" y="13047"/>
                </a:moveTo>
                <a:cubicBezTo>
                  <a:pt x="12102" y="12924"/>
                  <a:pt x="12592" y="12853"/>
                  <a:pt x="13097" y="12799"/>
                </a:cubicBezTo>
                <a:cubicBezTo>
                  <a:pt x="13155" y="12799"/>
                  <a:pt x="13163" y="12799"/>
                  <a:pt x="13196" y="12799"/>
                </a:cubicBezTo>
              </a:path>
              <a:path w="1588" h="1936">
                <a:moveTo>
                  <a:pt x="11956" y="13295"/>
                </a:moveTo>
                <a:cubicBezTo>
                  <a:pt x="11906" y="13503"/>
                  <a:pt x="11526" y="13944"/>
                  <a:pt x="11733" y="13891"/>
                </a:cubicBezTo>
                <a:cubicBezTo>
                  <a:pt x="11758" y="13866"/>
                  <a:pt x="11782" y="13841"/>
                  <a:pt x="11807" y="13816"/>
                </a:cubicBezTo>
              </a:path>
              <a:path w="1588" h="1936">
                <a:moveTo>
                  <a:pt x="12402" y="13246"/>
                </a:moveTo>
                <a:cubicBezTo>
                  <a:pt x="12277" y="13409"/>
                  <a:pt x="12208" y="13509"/>
                  <a:pt x="12278" y="13692"/>
                </a:cubicBezTo>
                <a:cubicBezTo>
                  <a:pt x="12491" y="13642"/>
                  <a:pt x="12606" y="13532"/>
                  <a:pt x="12502" y="13295"/>
                </a:cubicBezTo>
                <a:cubicBezTo>
                  <a:pt x="12463" y="13257"/>
                  <a:pt x="12431" y="13240"/>
                  <a:pt x="12477" y="132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0760" y="4249800"/>
            <a:ext cx="830160" cy="573120"/>
          </a:xfrm>
          <a:custGeom>
            <a:avLst/>
            <a:gdLst/>
            <a:ahLst/>
            <a:rect l="l" t="t" r="r" b="b"/>
            <a:pathLst>
              <a:path w="2307" h="1589">
                <a:moveTo>
                  <a:pt x="14312" y="12378"/>
                </a:moveTo>
                <a:cubicBezTo>
                  <a:pt x="14209" y="12602"/>
                  <a:pt x="14085" y="12745"/>
                  <a:pt x="13915" y="12923"/>
                </a:cubicBezTo>
                <a:cubicBezTo>
                  <a:pt x="13907" y="12931"/>
                  <a:pt x="13899" y="12940"/>
                  <a:pt x="13891" y="12948"/>
                </a:cubicBezTo>
                <a:cubicBezTo>
                  <a:pt x="14080" y="12852"/>
                  <a:pt x="14268" y="12959"/>
                  <a:pt x="14461" y="13022"/>
                </a:cubicBezTo>
                <a:cubicBezTo>
                  <a:pt x="14568" y="13058"/>
                  <a:pt x="14574" y="13075"/>
                  <a:pt x="14635" y="13072"/>
                </a:cubicBezTo>
              </a:path>
              <a:path w="2307" h="1589">
                <a:moveTo>
                  <a:pt x="15503" y="12105"/>
                </a:moveTo>
                <a:cubicBezTo>
                  <a:pt x="15484" y="12179"/>
                  <a:pt x="15476" y="12186"/>
                  <a:pt x="15478" y="12229"/>
                </a:cubicBezTo>
                <a:cubicBezTo>
                  <a:pt x="15579" y="12216"/>
                  <a:pt x="15672" y="12166"/>
                  <a:pt x="15776" y="12154"/>
                </a:cubicBezTo>
                <a:cubicBezTo>
                  <a:pt x="15784" y="12154"/>
                  <a:pt x="15793" y="12154"/>
                  <a:pt x="15801" y="12154"/>
                </a:cubicBezTo>
              </a:path>
              <a:path w="2307" h="1589">
                <a:moveTo>
                  <a:pt x="15701" y="11807"/>
                </a:moveTo>
                <a:cubicBezTo>
                  <a:pt x="15683" y="12024"/>
                  <a:pt x="15677" y="12234"/>
                  <a:pt x="15677" y="12452"/>
                </a:cubicBezTo>
              </a:path>
              <a:path w="2307" h="1589">
                <a:moveTo>
                  <a:pt x="15280" y="12650"/>
                </a:moveTo>
                <a:cubicBezTo>
                  <a:pt x="15586" y="12588"/>
                  <a:pt x="15895" y="12532"/>
                  <a:pt x="16197" y="12452"/>
                </a:cubicBezTo>
              </a:path>
              <a:path w="2307" h="1589">
                <a:moveTo>
                  <a:pt x="15528" y="12923"/>
                </a:moveTo>
                <a:cubicBezTo>
                  <a:pt x="15509" y="13027"/>
                  <a:pt x="15381" y="13298"/>
                  <a:pt x="15429" y="13395"/>
                </a:cubicBezTo>
                <a:cubicBezTo>
                  <a:pt x="15437" y="13362"/>
                  <a:pt x="15445" y="13328"/>
                  <a:pt x="15453" y="13295"/>
                </a:cubicBezTo>
              </a:path>
              <a:path w="2307" h="1589">
                <a:moveTo>
                  <a:pt x="16024" y="12824"/>
                </a:moveTo>
                <a:cubicBezTo>
                  <a:pt x="15895" y="12981"/>
                  <a:pt x="15798" y="13086"/>
                  <a:pt x="15875" y="13271"/>
                </a:cubicBezTo>
                <a:cubicBezTo>
                  <a:pt x="16036" y="13214"/>
                  <a:pt x="16269" y="13101"/>
                  <a:pt x="16123" y="12874"/>
                </a:cubicBezTo>
                <a:cubicBezTo>
                  <a:pt x="16050" y="12819"/>
                  <a:pt x="16050" y="12794"/>
                  <a:pt x="15999" y="127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99000" y="4741920"/>
            <a:ext cx="125280" cy="169920"/>
          </a:xfrm>
          <a:custGeom>
            <a:avLst/>
            <a:gdLst/>
            <a:ahLst/>
            <a:rect l="l" t="t" r="r" b="b"/>
            <a:pathLst>
              <a:path w="349" h="473">
                <a:moveTo>
                  <a:pt x="12923" y="13171"/>
                </a:moveTo>
                <a:cubicBezTo>
                  <a:pt x="12814" y="13374"/>
                  <a:pt x="12785" y="13422"/>
                  <a:pt x="12824" y="13643"/>
                </a:cubicBezTo>
                <a:cubicBezTo>
                  <a:pt x="13021" y="13613"/>
                  <a:pt x="13225" y="13521"/>
                  <a:pt x="13072" y="13271"/>
                </a:cubicBezTo>
                <a:cubicBezTo>
                  <a:pt x="13039" y="13246"/>
                  <a:pt x="13006" y="13221"/>
                  <a:pt x="12973" y="131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99ff"/>
                </a:solidFill>
                <a:latin typeface="Arial"/>
              </a:rPr>
              <a:t>Homework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Ordering Decimals &amp; Fractions-WS #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688080" y="2463840"/>
            <a:ext cx="1268640" cy="501480"/>
          </a:xfrm>
          <a:custGeom>
            <a:avLst/>
            <a:gdLst/>
            <a:ahLst/>
            <a:rect l="l" t="t" r="r" b="b"/>
            <a:pathLst>
              <a:path w="3523" h="1390">
                <a:moveTo>
                  <a:pt x="18876" y="7243"/>
                </a:moveTo>
                <a:cubicBezTo>
                  <a:pt x="18766" y="7242"/>
                  <a:pt x="18585" y="7716"/>
                  <a:pt x="18579" y="7938"/>
                </a:cubicBezTo>
                <a:cubicBezTo>
                  <a:pt x="18576" y="8056"/>
                  <a:pt x="18664" y="8206"/>
                  <a:pt x="18777" y="8235"/>
                </a:cubicBezTo>
              </a:path>
              <a:path w="3523" h="1390">
                <a:moveTo>
                  <a:pt x="19546" y="7714"/>
                </a:moveTo>
                <a:cubicBezTo>
                  <a:pt x="19582" y="7821"/>
                  <a:pt x="19599" y="7827"/>
                  <a:pt x="19596" y="7888"/>
                </a:cubicBezTo>
              </a:path>
              <a:path w="3523" h="1390">
                <a:moveTo>
                  <a:pt x="19621" y="7441"/>
                </a:moveTo>
                <a:lnTo>
                  <a:pt x="19621" y="7441"/>
                </a:lnTo>
                <a:lnTo>
                  <a:pt x="19621" y="7441"/>
                </a:lnTo>
              </a:path>
              <a:path w="3523" h="1390">
                <a:moveTo>
                  <a:pt x="19621" y="7441"/>
                </a:moveTo>
                <a:lnTo>
                  <a:pt x="19621" y="7441"/>
                </a:lnTo>
              </a:path>
              <a:path w="3523" h="1390">
                <a:moveTo>
                  <a:pt x="20241" y="7243"/>
                </a:moveTo>
                <a:cubicBezTo>
                  <a:pt x="20270" y="7457"/>
                  <a:pt x="20298" y="7673"/>
                  <a:pt x="20315" y="7888"/>
                </a:cubicBezTo>
              </a:path>
              <a:path w="3523" h="1390">
                <a:moveTo>
                  <a:pt x="21704" y="6846"/>
                </a:moveTo>
                <a:cubicBezTo>
                  <a:pt x="22040" y="7130"/>
                  <a:pt x="22195" y="7421"/>
                  <a:pt x="22076" y="7888"/>
                </a:cubicBezTo>
                <a:cubicBezTo>
                  <a:pt x="21997" y="8007"/>
                  <a:pt x="21990" y="8031"/>
                  <a:pt x="21927" y="80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40360" y="2751120"/>
            <a:ext cx="125640" cy="303120"/>
          </a:xfrm>
          <a:custGeom>
            <a:avLst/>
            <a:gdLst/>
            <a:ahLst/>
            <a:rect l="l" t="t" r="r" b="b"/>
            <a:pathLst>
              <a:path w="349" h="844">
                <a:moveTo>
                  <a:pt x="19050" y="8161"/>
                </a:moveTo>
                <a:cubicBezTo>
                  <a:pt x="19072" y="8334"/>
                  <a:pt x="19080" y="8375"/>
                  <a:pt x="19075" y="8483"/>
                </a:cubicBezTo>
                <a:cubicBezTo>
                  <a:pt x="19040" y="8237"/>
                  <a:pt x="18991" y="8095"/>
                  <a:pt x="19050" y="7838"/>
                </a:cubicBezTo>
                <a:cubicBezTo>
                  <a:pt x="19141" y="7441"/>
                  <a:pt x="19302" y="7695"/>
                  <a:pt x="19348" y="7913"/>
                </a:cubicBezTo>
                <a:cubicBezTo>
                  <a:pt x="19216" y="7932"/>
                  <a:pt x="19151" y="7899"/>
                  <a:pt x="19025" y="78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116840" y="2643120"/>
            <a:ext cx="339480" cy="214560"/>
          </a:xfrm>
          <a:custGeom>
            <a:avLst/>
            <a:gdLst/>
            <a:ahLst/>
            <a:rect l="l" t="t" r="r" b="b"/>
            <a:pathLst>
              <a:path w="944" h="597">
                <a:moveTo>
                  <a:pt x="20092" y="7590"/>
                </a:moveTo>
                <a:cubicBezTo>
                  <a:pt x="20060" y="7402"/>
                  <a:pt x="19835" y="7741"/>
                  <a:pt x="19819" y="7764"/>
                </a:cubicBezTo>
                <a:cubicBezTo>
                  <a:pt x="19626" y="8040"/>
                  <a:pt x="20093" y="7897"/>
                  <a:pt x="20191" y="7863"/>
                </a:cubicBezTo>
              </a:path>
              <a:path w="944" h="597">
                <a:moveTo>
                  <a:pt x="20563" y="7342"/>
                </a:moveTo>
                <a:cubicBezTo>
                  <a:pt x="20506" y="7428"/>
                  <a:pt x="20412" y="7636"/>
                  <a:pt x="20340" y="7491"/>
                </a:cubicBezTo>
                <a:cubicBezTo>
                  <a:pt x="20501" y="7537"/>
                  <a:pt x="20547" y="7659"/>
                  <a:pt x="20662" y="7764"/>
                </a:cubicBezTo>
                <a:cubicBezTo>
                  <a:pt x="20702" y="7784"/>
                  <a:pt x="20719" y="7782"/>
                  <a:pt x="20712" y="78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653240" y="2589120"/>
            <a:ext cx="150840" cy="206640"/>
          </a:xfrm>
          <a:custGeom>
            <a:avLst/>
            <a:gdLst/>
            <a:ahLst/>
            <a:rect l="l" t="t" r="r" b="b"/>
            <a:pathLst>
              <a:path w="422" h="572">
                <a:moveTo>
                  <a:pt x="21555" y="7193"/>
                </a:moveTo>
                <a:cubicBezTo>
                  <a:pt x="21482" y="7193"/>
                  <a:pt x="21317" y="7149"/>
                  <a:pt x="21282" y="7243"/>
                </a:cubicBezTo>
                <a:cubicBezTo>
                  <a:pt x="21248" y="7334"/>
                  <a:pt x="21253" y="7361"/>
                  <a:pt x="21282" y="7441"/>
                </a:cubicBezTo>
                <a:cubicBezTo>
                  <a:pt x="21341" y="7364"/>
                  <a:pt x="21512" y="7337"/>
                  <a:pt x="21605" y="7417"/>
                </a:cubicBezTo>
                <a:cubicBezTo>
                  <a:pt x="21800" y="7585"/>
                  <a:pt x="21602" y="7743"/>
                  <a:pt x="21431" y="7764"/>
                </a:cubicBezTo>
                <a:cubicBezTo>
                  <a:pt x="21305" y="7764"/>
                  <a:pt x="21263" y="7786"/>
                  <a:pt x="21258" y="76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25880" y="3625920"/>
            <a:ext cx="2062080" cy="223920"/>
          </a:xfrm>
          <a:custGeom>
            <a:avLst/>
            <a:gdLst/>
            <a:ahLst/>
            <a:rect l="l" t="t" r="r" b="b"/>
            <a:pathLst>
              <a:path w="5731" h="621">
                <a:moveTo>
                  <a:pt x="8682" y="10418"/>
                </a:moveTo>
                <a:lnTo>
                  <a:pt x="8682" y="10418"/>
                </a:lnTo>
                <a:lnTo>
                  <a:pt x="8682" y="10418"/>
                </a:lnTo>
              </a:path>
              <a:path w="5731" h="621">
                <a:moveTo>
                  <a:pt x="8682" y="10418"/>
                </a:moveTo>
                <a:lnTo>
                  <a:pt x="8682" y="10418"/>
                </a:lnTo>
              </a:path>
              <a:path w="5731" h="621">
                <a:moveTo>
                  <a:pt x="14015" y="10096"/>
                </a:moveTo>
                <a:cubicBezTo>
                  <a:pt x="14019" y="10263"/>
                  <a:pt x="13977" y="10628"/>
                  <a:pt x="14114" y="10666"/>
                </a:cubicBezTo>
              </a:path>
              <a:path w="5731" h="621">
                <a:moveTo>
                  <a:pt x="14312" y="10071"/>
                </a:moveTo>
                <a:cubicBezTo>
                  <a:pt x="14345" y="10096"/>
                  <a:pt x="14379" y="10120"/>
                  <a:pt x="14412" y="101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490840" y="3633840"/>
            <a:ext cx="965160" cy="474480"/>
          </a:xfrm>
          <a:custGeom>
            <a:avLst/>
            <a:gdLst/>
            <a:ahLst/>
            <a:rect l="l" t="t" r="r" b="b"/>
            <a:pathLst>
              <a:path w="2679" h="1315">
                <a:moveTo>
                  <a:pt x="7640" y="10145"/>
                </a:moveTo>
                <a:cubicBezTo>
                  <a:pt x="7611" y="10059"/>
                  <a:pt x="7556" y="10073"/>
                  <a:pt x="7441" y="10170"/>
                </a:cubicBezTo>
                <a:cubicBezTo>
                  <a:pt x="7207" y="10367"/>
                  <a:pt x="6613" y="11059"/>
                  <a:pt x="7045" y="11361"/>
                </a:cubicBezTo>
                <a:cubicBezTo>
                  <a:pt x="7482" y="11666"/>
                  <a:pt x="7991" y="10963"/>
                  <a:pt x="7987" y="10592"/>
                </a:cubicBezTo>
                <a:cubicBezTo>
                  <a:pt x="7984" y="10279"/>
                  <a:pt x="7653" y="10170"/>
                  <a:pt x="7417" y="10096"/>
                </a:cubicBezTo>
              </a:path>
              <a:path w="2679" h="1315">
                <a:moveTo>
                  <a:pt x="7590" y="10889"/>
                </a:moveTo>
                <a:cubicBezTo>
                  <a:pt x="7755" y="11028"/>
                  <a:pt x="7828" y="11192"/>
                  <a:pt x="7962" y="11361"/>
                </a:cubicBezTo>
              </a:path>
              <a:path w="2679" h="1315">
                <a:moveTo>
                  <a:pt x="8037" y="10691"/>
                </a:moveTo>
                <a:cubicBezTo>
                  <a:pt x="8075" y="10652"/>
                  <a:pt x="8092" y="10650"/>
                  <a:pt x="8086" y="10616"/>
                </a:cubicBezTo>
                <a:cubicBezTo>
                  <a:pt x="8086" y="10825"/>
                  <a:pt x="8074" y="11017"/>
                  <a:pt x="8136" y="11212"/>
                </a:cubicBezTo>
                <a:cubicBezTo>
                  <a:pt x="8372" y="11111"/>
                  <a:pt x="8479" y="11001"/>
                  <a:pt x="8458" y="10716"/>
                </a:cubicBezTo>
                <a:cubicBezTo>
                  <a:pt x="8450" y="10691"/>
                  <a:pt x="8442" y="10666"/>
                  <a:pt x="8434" y="10641"/>
                </a:cubicBezTo>
                <a:cubicBezTo>
                  <a:pt x="8434" y="10755"/>
                  <a:pt x="8411" y="10947"/>
                  <a:pt x="8483" y="11038"/>
                </a:cubicBezTo>
                <a:cubicBezTo>
                  <a:pt x="8583" y="11071"/>
                  <a:pt x="8629" y="11063"/>
                  <a:pt x="8682" y="10964"/>
                </a:cubicBezTo>
              </a:path>
              <a:path w="2679" h="1315">
                <a:moveTo>
                  <a:pt x="8806" y="10641"/>
                </a:moveTo>
                <a:cubicBezTo>
                  <a:pt x="8795" y="10718"/>
                  <a:pt x="8781" y="11089"/>
                  <a:pt x="8781" y="10988"/>
                </a:cubicBezTo>
              </a:path>
              <a:path w="2679" h="1315">
                <a:moveTo>
                  <a:pt x="9004" y="10517"/>
                </a:moveTo>
                <a:cubicBezTo>
                  <a:pt x="9125" y="10517"/>
                  <a:pt x="9233" y="10522"/>
                  <a:pt x="9351" y="10542"/>
                </a:cubicBezTo>
                <a:cubicBezTo>
                  <a:pt x="9317" y="10732"/>
                  <a:pt x="9200" y="10864"/>
                  <a:pt x="9079" y="11013"/>
                </a:cubicBezTo>
                <a:cubicBezTo>
                  <a:pt x="9071" y="11021"/>
                  <a:pt x="9062" y="11030"/>
                  <a:pt x="9054" y="11038"/>
                </a:cubicBezTo>
                <a:cubicBezTo>
                  <a:pt x="9230" y="11008"/>
                  <a:pt x="9392" y="10970"/>
                  <a:pt x="9575" y="10964"/>
                </a:cubicBezTo>
                <a:cubicBezTo>
                  <a:pt x="9583" y="10964"/>
                  <a:pt x="9591" y="10964"/>
                  <a:pt x="9599" y="109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21040" y="3652920"/>
            <a:ext cx="1938240" cy="276120"/>
          </a:xfrm>
          <a:custGeom>
            <a:avLst/>
            <a:gdLst/>
            <a:ahLst/>
            <a:rect l="l" t="t" r="r" b="b"/>
            <a:pathLst>
              <a:path w="5384" h="770">
                <a:moveTo>
                  <a:pt x="11112" y="10393"/>
                </a:moveTo>
                <a:cubicBezTo>
                  <a:pt x="11112" y="10395"/>
                  <a:pt x="11065" y="10223"/>
                  <a:pt x="11013" y="10145"/>
                </a:cubicBezTo>
                <a:cubicBezTo>
                  <a:pt x="10862" y="10263"/>
                  <a:pt x="10306" y="10819"/>
                  <a:pt x="10815" y="10914"/>
                </a:cubicBezTo>
                <a:cubicBezTo>
                  <a:pt x="11138" y="10867"/>
                  <a:pt x="11232" y="10862"/>
                  <a:pt x="11410" y="10740"/>
                </a:cubicBezTo>
              </a:path>
              <a:path w="5384" h="770">
                <a:moveTo>
                  <a:pt x="11658" y="10443"/>
                </a:moveTo>
                <a:cubicBezTo>
                  <a:pt x="11482" y="10635"/>
                  <a:pt x="11438" y="10662"/>
                  <a:pt x="11460" y="10914"/>
                </a:cubicBezTo>
                <a:cubicBezTo>
                  <a:pt x="11635" y="10886"/>
                  <a:pt x="11993" y="10787"/>
                  <a:pt x="11733" y="10542"/>
                </a:cubicBezTo>
                <a:cubicBezTo>
                  <a:pt x="11692" y="10525"/>
                  <a:pt x="11650" y="10509"/>
                  <a:pt x="11609" y="10492"/>
                </a:cubicBezTo>
              </a:path>
              <a:path w="5384" h="770">
                <a:moveTo>
                  <a:pt x="11931" y="10716"/>
                </a:moveTo>
                <a:cubicBezTo>
                  <a:pt x="11951" y="10793"/>
                  <a:pt x="11943" y="10811"/>
                  <a:pt x="11981" y="10840"/>
                </a:cubicBezTo>
                <a:cubicBezTo>
                  <a:pt x="11981" y="10668"/>
                  <a:pt x="11987" y="10493"/>
                  <a:pt x="12129" y="10368"/>
                </a:cubicBezTo>
                <a:cubicBezTo>
                  <a:pt x="12154" y="10360"/>
                  <a:pt x="12179" y="10352"/>
                  <a:pt x="12204" y="10344"/>
                </a:cubicBezTo>
              </a:path>
              <a:path w="5384" h="770">
                <a:moveTo>
                  <a:pt x="12402" y="10616"/>
                </a:moveTo>
                <a:cubicBezTo>
                  <a:pt x="12417" y="10695"/>
                  <a:pt x="12427" y="10724"/>
                  <a:pt x="12427" y="10790"/>
                </a:cubicBezTo>
                <a:cubicBezTo>
                  <a:pt x="12427" y="10616"/>
                  <a:pt x="12389" y="10347"/>
                  <a:pt x="12601" y="10269"/>
                </a:cubicBezTo>
                <a:cubicBezTo>
                  <a:pt x="12626" y="10277"/>
                  <a:pt x="12650" y="10286"/>
                  <a:pt x="12675" y="10294"/>
                </a:cubicBezTo>
              </a:path>
              <a:path w="5384" h="770">
                <a:moveTo>
                  <a:pt x="12824" y="10517"/>
                </a:moveTo>
                <a:cubicBezTo>
                  <a:pt x="12948" y="10467"/>
                  <a:pt x="13003" y="10473"/>
                  <a:pt x="13072" y="10368"/>
                </a:cubicBezTo>
                <a:cubicBezTo>
                  <a:pt x="12986" y="10383"/>
                  <a:pt x="12504" y="10661"/>
                  <a:pt x="12849" y="10716"/>
                </a:cubicBezTo>
                <a:cubicBezTo>
                  <a:pt x="12915" y="10699"/>
                  <a:pt x="12981" y="10683"/>
                  <a:pt x="13047" y="10666"/>
                </a:cubicBezTo>
              </a:path>
              <a:path w="5384" h="770">
                <a:moveTo>
                  <a:pt x="13494" y="10244"/>
                </a:moveTo>
                <a:cubicBezTo>
                  <a:pt x="13518" y="10293"/>
                  <a:pt x="13527" y="10131"/>
                  <a:pt x="13395" y="10269"/>
                </a:cubicBezTo>
                <a:cubicBezTo>
                  <a:pt x="13064" y="10616"/>
                  <a:pt x="13283" y="10713"/>
                  <a:pt x="13618" y="10666"/>
                </a:cubicBezTo>
              </a:path>
              <a:path w="5384" h="770">
                <a:moveTo>
                  <a:pt x="13717" y="10294"/>
                </a:moveTo>
                <a:cubicBezTo>
                  <a:pt x="13881" y="10257"/>
                  <a:pt x="14306" y="10101"/>
                  <a:pt x="14412" y="10319"/>
                </a:cubicBezTo>
                <a:cubicBezTo>
                  <a:pt x="14429" y="10354"/>
                  <a:pt x="14412" y="10492"/>
                  <a:pt x="14412" y="10542"/>
                </a:cubicBezTo>
              </a:path>
              <a:path w="5384" h="770">
                <a:moveTo>
                  <a:pt x="14759" y="10244"/>
                </a:moveTo>
                <a:cubicBezTo>
                  <a:pt x="14648" y="10300"/>
                  <a:pt x="14378" y="10535"/>
                  <a:pt x="14660" y="10616"/>
                </a:cubicBezTo>
                <a:cubicBezTo>
                  <a:pt x="14839" y="10616"/>
                  <a:pt x="14891" y="10630"/>
                  <a:pt x="14957" y="10517"/>
                </a:cubicBezTo>
                <a:cubicBezTo>
                  <a:pt x="14910" y="10312"/>
                  <a:pt x="14744" y="10254"/>
                  <a:pt x="14784" y="10244"/>
                </a:cubicBezTo>
              </a:path>
              <a:path w="5384" h="770">
                <a:moveTo>
                  <a:pt x="15106" y="10468"/>
                </a:moveTo>
                <a:cubicBezTo>
                  <a:pt x="15106" y="10483"/>
                  <a:pt x="15123" y="10228"/>
                  <a:pt x="15205" y="10170"/>
                </a:cubicBezTo>
                <a:cubicBezTo>
                  <a:pt x="15411" y="10025"/>
                  <a:pt x="15432" y="10481"/>
                  <a:pt x="15453" y="10542"/>
                </a:cubicBezTo>
                <a:cubicBezTo>
                  <a:pt x="15461" y="10542"/>
                  <a:pt x="15470" y="10542"/>
                  <a:pt x="15478" y="10542"/>
                </a:cubicBezTo>
              </a:path>
              <a:path w="5384" h="770">
                <a:moveTo>
                  <a:pt x="15825" y="10145"/>
                </a:moveTo>
                <a:cubicBezTo>
                  <a:pt x="15709" y="10184"/>
                  <a:pt x="15675" y="10171"/>
                  <a:pt x="15652" y="10244"/>
                </a:cubicBezTo>
                <a:cubicBezTo>
                  <a:pt x="15843" y="10276"/>
                  <a:pt x="15915" y="10310"/>
                  <a:pt x="15999" y="10468"/>
                </a:cubicBezTo>
                <a:cubicBezTo>
                  <a:pt x="15801" y="10530"/>
                  <a:pt x="15765" y="10536"/>
                  <a:pt x="15577" y="10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99120" y="3537000"/>
            <a:ext cx="704880" cy="312840"/>
          </a:xfrm>
          <a:custGeom>
            <a:avLst/>
            <a:gdLst/>
            <a:ahLst/>
            <a:rect l="l" t="t" r="r" b="b"/>
            <a:pathLst>
              <a:path w="1960" h="869">
                <a:moveTo>
                  <a:pt x="17413" y="10319"/>
                </a:moveTo>
                <a:cubicBezTo>
                  <a:pt x="17413" y="10233"/>
                  <a:pt x="17450" y="10086"/>
                  <a:pt x="17264" y="10220"/>
                </a:cubicBezTo>
                <a:cubicBezTo>
                  <a:pt x="17077" y="10407"/>
                  <a:pt x="17019" y="10460"/>
                  <a:pt x="16942" y="10616"/>
                </a:cubicBezTo>
                <a:cubicBezTo>
                  <a:pt x="17251" y="10731"/>
                  <a:pt x="17209" y="10630"/>
                  <a:pt x="17438" y="10393"/>
                </a:cubicBezTo>
              </a:path>
              <a:path w="1960" h="869">
                <a:moveTo>
                  <a:pt x="17413" y="9823"/>
                </a:moveTo>
                <a:cubicBezTo>
                  <a:pt x="17431" y="10088"/>
                  <a:pt x="17227" y="10805"/>
                  <a:pt x="17413" y="10616"/>
                </a:cubicBezTo>
                <a:cubicBezTo>
                  <a:pt x="17429" y="10583"/>
                  <a:pt x="17446" y="10550"/>
                  <a:pt x="17462" y="10517"/>
                </a:cubicBezTo>
              </a:path>
              <a:path w="1960" h="869">
                <a:moveTo>
                  <a:pt x="17735" y="10145"/>
                </a:moveTo>
                <a:cubicBezTo>
                  <a:pt x="17735" y="10324"/>
                  <a:pt x="17735" y="10456"/>
                  <a:pt x="17810" y="10616"/>
                </a:cubicBezTo>
                <a:cubicBezTo>
                  <a:pt x="17960" y="10500"/>
                  <a:pt x="17986" y="10351"/>
                  <a:pt x="18033" y="10170"/>
                </a:cubicBezTo>
                <a:cubicBezTo>
                  <a:pt x="18033" y="10054"/>
                  <a:pt x="18025" y="10257"/>
                  <a:pt x="18058" y="10368"/>
                </a:cubicBezTo>
                <a:cubicBezTo>
                  <a:pt x="18102" y="10457"/>
                  <a:pt x="18106" y="10490"/>
                  <a:pt x="18182" y="10468"/>
                </a:cubicBezTo>
              </a:path>
              <a:path w="1960" h="869">
                <a:moveTo>
                  <a:pt x="18430" y="10220"/>
                </a:moveTo>
                <a:cubicBezTo>
                  <a:pt x="18528" y="10193"/>
                  <a:pt x="18681" y="10145"/>
                  <a:pt x="18752" y="10120"/>
                </a:cubicBezTo>
                <a:cubicBezTo>
                  <a:pt x="18648" y="9913"/>
                  <a:pt x="18463" y="10063"/>
                  <a:pt x="18405" y="10244"/>
                </a:cubicBezTo>
                <a:cubicBezTo>
                  <a:pt x="18297" y="10583"/>
                  <a:pt x="18839" y="10312"/>
                  <a:pt x="18901" y="102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10080" y="3902040"/>
            <a:ext cx="820800" cy="482760"/>
          </a:xfrm>
          <a:custGeom>
            <a:avLst/>
            <a:gdLst/>
            <a:ahLst/>
            <a:rect l="l" t="t" r="r" b="b"/>
            <a:pathLst>
              <a:path w="2283" h="1340">
                <a:moveTo>
                  <a:pt x="12601" y="12154"/>
                </a:moveTo>
                <a:cubicBezTo>
                  <a:pt x="12549" y="12128"/>
                  <a:pt x="12490" y="11920"/>
                  <a:pt x="12576" y="11807"/>
                </a:cubicBezTo>
                <a:cubicBezTo>
                  <a:pt x="12673" y="11679"/>
                  <a:pt x="12818" y="11741"/>
                  <a:pt x="12948" y="11757"/>
                </a:cubicBezTo>
              </a:path>
              <a:path w="2283" h="1340">
                <a:moveTo>
                  <a:pt x="14808" y="10840"/>
                </a:moveTo>
                <a:cubicBezTo>
                  <a:pt x="14771" y="11111"/>
                  <a:pt x="14640" y="11403"/>
                  <a:pt x="14660" y="11683"/>
                </a:cubicBezTo>
                <a:cubicBezTo>
                  <a:pt x="14676" y="11733"/>
                  <a:pt x="14693" y="11782"/>
                  <a:pt x="14709" y="11832"/>
                </a:cubicBezTo>
              </a:path>
              <a:path w="2283" h="1340">
                <a:moveTo>
                  <a:pt x="14684" y="12179"/>
                </a:moveTo>
                <a:cubicBezTo>
                  <a:pt x="14684" y="12171"/>
                  <a:pt x="14684" y="12162"/>
                  <a:pt x="14684" y="12154"/>
                </a:cubicBezTo>
              </a:path>
              <a:path w="2283" h="1340">
                <a:moveTo>
                  <a:pt x="14684" y="12154"/>
                </a:moveTo>
                <a:lnTo>
                  <a:pt x="14684" y="1215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63920" y="4205160"/>
            <a:ext cx="992160" cy="277920"/>
          </a:xfrm>
          <a:custGeom>
            <a:avLst/>
            <a:gdLst/>
            <a:ahLst/>
            <a:rect l="l" t="t" r="r" b="b"/>
            <a:pathLst>
              <a:path w="2755" h="770">
                <a:moveTo>
                  <a:pt x="9773" y="11683"/>
                </a:moveTo>
                <a:cubicBezTo>
                  <a:pt x="9789" y="11960"/>
                  <a:pt x="9741" y="12216"/>
                  <a:pt x="9872" y="12452"/>
                </a:cubicBezTo>
                <a:cubicBezTo>
                  <a:pt x="10082" y="12426"/>
                  <a:pt x="10158" y="12411"/>
                  <a:pt x="10269" y="12303"/>
                </a:cubicBezTo>
              </a:path>
              <a:path w="2755" h="770">
                <a:moveTo>
                  <a:pt x="9624" y="12080"/>
                </a:moveTo>
                <a:cubicBezTo>
                  <a:pt x="9855" y="12032"/>
                  <a:pt x="10091" y="11988"/>
                  <a:pt x="10319" y="11931"/>
                </a:cubicBezTo>
                <a:cubicBezTo>
                  <a:pt x="10251" y="12061"/>
                  <a:pt x="10062" y="12404"/>
                  <a:pt x="10393" y="12328"/>
                </a:cubicBezTo>
                <a:cubicBezTo>
                  <a:pt x="10592" y="12239"/>
                  <a:pt x="10655" y="12229"/>
                  <a:pt x="10691" y="12080"/>
                </a:cubicBezTo>
                <a:cubicBezTo>
                  <a:pt x="10540" y="12007"/>
                  <a:pt x="10194" y="11997"/>
                  <a:pt x="10368" y="11931"/>
                </a:cubicBezTo>
              </a:path>
              <a:path w="2755" h="770">
                <a:moveTo>
                  <a:pt x="10716" y="12204"/>
                </a:moveTo>
                <a:cubicBezTo>
                  <a:pt x="10738" y="12295"/>
                  <a:pt x="10749" y="12336"/>
                  <a:pt x="10716" y="12229"/>
                </a:cubicBezTo>
                <a:cubicBezTo>
                  <a:pt x="10767" y="12022"/>
                  <a:pt x="10862" y="11745"/>
                  <a:pt x="11088" y="12055"/>
                </a:cubicBezTo>
                <a:cubicBezTo>
                  <a:pt x="11126" y="12172"/>
                  <a:pt x="11158" y="12192"/>
                  <a:pt x="11112" y="12254"/>
                </a:cubicBezTo>
                <a:cubicBezTo>
                  <a:pt x="11082" y="12019"/>
                  <a:pt x="11145" y="11952"/>
                  <a:pt x="11336" y="11832"/>
                </a:cubicBezTo>
                <a:cubicBezTo>
                  <a:pt x="11407" y="11951"/>
                  <a:pt x="11457" y="12195"/>
                  <a:pt x="11509" y="12204"/>
                </a:cubicBezTo>
              </a:path>
              <a:path w="2755" h="770">
                <a:moveTo>
                  <a:pt x="11708" y="11881"/>
                </a:moveTo>
                <a:cubicBezTo>
                  <a:pt x="11572" y="12062"/>
                  <a:pt x="11529" y="12107"/>
                  <a:pt x="11509" y="12254"/>
                </a:cubicBezTo>
                <a:cubicBezTo>
                  <a:pt x="11636" y="12313"/>
                  <a:pt x="12045" y="12329"/>
                  <a:pt x="11906" y="12030"/>
                </a:cubicBezTo>
                <a:cubicBezTo>
                  <a:pt x="11850" y="11910"/>
                  <a:pt x="11627" y="11932"/>
                  <a:pt x="11782" y="11906"/>
                </a:cubicBezTo>
              </a:path>
              <a:path w="2755" h="770">
                <a:moveTo>
                  <a:pt x="12055" y="12129"/>
                </a:moveTo>
                <a:cubicBezTo>
                  <a:pt x="12055" y="12231"/>
                  <a:pt x="12044" y="12252"/>
                  <a:pt x="12080" y="12303"/>
                </a:cubicBezTo>
                <a:cubicBezTo>
                  <a:pt x="12063" y="12148"/>
                  <a:pt x="12023" y="12003"/>
                  <a:pt x="12154" y="11881"/>
                </a:cubicBezTo>
                <a:cubicBezTo>
                  <a:pt x="12258" y="11830"/>
                  <a:pt x="12295" y="11814"/>
                  <a:pt x="12378" y="118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53000" y="4116240"/>
            <a:ext cx="500040" cy="277920"/>
          </a:xfrm>
          <a:custGeom>
            <a:avLst/>
            <a:gdLst/>
            <a:ahLst/>
            <a:rect l="l" t="t" r="r" b="b"/>
            <a:pathLst>
              <a:path w="1390" h="770">
                <a:moveTo>
                  <a:pt x="13246" y="11807"/>
                </a:moveTo>
                <a:cubicBezTo>
                  <a:pt x="13099" y="11890"/>
                  <a:pt x="13024" y="11973"/>
                  <a:pt x="12923" y="12105"/>
                </a:cubicBezTo>
                <a:cubicBezTo>
                  <a:pt x="13025" y="12174"/>
                  <a:pt x="13422" y="12260"/>
                  <a:pt x="13370" y="11956"/>
                </a:cubicBezTo>
                <a:cubicBezTo>
                  <a:pt x="13274" y="11835"/>
                  <a:pt x="13244" y="11796"/>
                  <a:pt x="13146" y="11757"/>
                </a:cubicBezTo>
              </a:path>
              <a:path w="1390" h="770">
                <a:moveTo>
                  <a:pt x="13543" y="11733"/>
                </a:moveTo>
                <a:cubicBezTo>
                  <a:pt x="13524" y="11870"/>
                  <a:pt x="13459" y="12195"/>
                  <a:pt x="13717" y="12154"/>
                </a:cubicBezTo>
                <a:cubicBezTo>
                  <a:pt x="13885" y="12127"/>
                  <a:pt x="13903" y="11956"/>
                  <a:pt x="13940" y="11832"/>
                </a:cubicBezTo>
                <a:cubicBezTo>
                  <a:pt x="13932" y="11832"/>
                  <a:pt x="13923" y="11832"/>
                  <a:pt x="13915" y="11832"/>
                </a:cubicBezTo>
                <a:cubicBezTo>
                  <a:pt x="13868" y="12035"/>
                  <a:pt x="13980" y="12197"/>
                  <a:pt x="14213" y="12005"/>
                </a:cubicBezTo>
                <a:cubicBezTo>
                  <a:pt x="14542" y="11734"/>
                  <a:pt x="14065" y="11649"/>
                  <a:pt x="14039" y="11509"/>
                </a:cubicBezTo>
                <a:cubicBezTo>
                  <a:pt x="14064" y="11484"/>
                  <a:pt x="14089" y="11460"/>
                  <a:pt x="14114" y="114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 mcgrath</cp:lastModifiedBy>
  <dcterms:modified xsi:type="dcterms:W3CDTF">2011-10-12T19:49:58Z</dcterms:modified>
  <cp:revision>60</cp:revision>
  <dc:subject/>
  <dc:title>Unit 1 – Variables and Equations </dc:title>
</cp:coreProperties>
</file>